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700-F144-4236-AE23-7BF333EE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15C-E444-4BDD-91F6-57EA2098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2184B-3F95-4968-BF0D-422239FB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EDC8C-06CB-4AD6-BB8C-A3B1042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AC587-39A9-4A46-BE2C-B38F48D4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EB70C-F29B-4F2D-9AD8-937E1E9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32A90-7DA7-4EC5-9575-BC57473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C9689-0255-4288-8754-2FFEDF4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0C926-21E3-4883-80AA-3FA3E645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9A2EE-4A2B-4B96-947C-853FB19A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09D8E-242C-433A-9DB7-FAA13CFE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39218-2542-4D47-B099-2B68C707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622-9B9B-48D2-BBF6-206DF10B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B8076-8D48-4723-8DE3-A0B36B9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CF305-1AEE-4DF3-921C-2BBF1C8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48858-4988-4276-81C1-95D4093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F1DA5-113C-40E6-961C-F10F069A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69773-2A7C-478E-8182-1C472E10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4A92B-24CA-4426-A904-EF6AA76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2CE8E-715B-404E-9A69-E06FF6B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5DC16-B623-4EE8-A537-7F222AC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51C9B-0740-4B82-B952-7E825C4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56F17-9349-4F78-8F08-8E1CE3C7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A5D-3595-4739-B524-105EC02F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A1526-CACE-47A8-921F-5522A186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46BAA-5407-483A-AD72-0634C88F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0F686-116D-4B86-A83D-98C24A6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3EDA-FE97-4DAB-A3DD-A082D46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210D-DCE2-4819-80BB-B1E2A3F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11873-16B3-48AD-90E1-695542A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2578-CE30-418B-9A52-66C2171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1C3F-7ECE-4D4D-92B5-34C94B2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E9F7B-485B-480C-9AD1-89DD4D3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086B-CC02-4977-BD38-B13CFEF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D7E-5B74-40D0-BAF0-5628D30E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DC41F-FFAD-4517-8B16-619F09A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E8D59-7503-4922-9B08-3180AA25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BB2F7-BBF2-4C53-AE78-0E2DAAE9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18A5E-1837-4444-85DC-67FE7121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C8501-C460-47F1-AC2A-DE4BC22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6E905-6665-498D-9F54-8E1BD9D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A3234-8F75-416E-BCAE-532B8C1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8E21D-7AC1-4736-8B6C-4EA4848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A0B03-3B86-498D-8798-7FCB17F7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8C077-E816-4136-888A-D67BE4B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3E95-5C67-490C-8657-DEF6838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C9854-400B-45D0-A521-44B2484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FBD06-B7AF-4CBD-B306-1E785DF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A7150-C6FB-4409-ABCE-0CC9862A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0DFD7-C042-43CA-ADE6-6C95FF4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8DE3B-DE55-4263-B126-879CAE12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BE81-669D-4F6C-8CB6-E1EAAE9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9882-88A3-4766-A3E4-1C32F45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D892-570D-4478-B776-6622376E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92EE-8A75-4357-9F84-73E1689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2E95-8B3D-4E5E-B2D6-391AEB6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C5-DC79-448D-B911-A8D6866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B902-B185-4B63-98F5-8E4FD26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E140-E4C9-4422-A23C-AE2F7CE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52FD-D89E-4D9E-8B63-B0A75FE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BF6-AD34-4205-B9BF-61B2DB2F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1294-963D-4DD9-9651-0B50B345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7001-9563-4046-9F4A-C109782F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515A-005C-407E-97C7-D886C75F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5752-CD2D-41AB-AA4B-5DB7C49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F882-B4BB-4F2E-B8F0-387CC70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FF64-EA25-48BB-B627-1A1C457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5FE-5E4D-4CA1-A091-F52F6F6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3591-EA36-499A-86E0-BFA869FF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8584-170D-4EC7-A124-714D3F0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C843-B7C7-479E-BA82-2ECB460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FA85-3905-43B2-BCD4-8B24289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7CFF-6945-4A28-9727-0042498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BABA-158B-4390-B8F2-C8F712D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C33A-050B-4F29-96DB-728DC222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BE79-68B4-47C8-8A24-82983A9E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7B37-DC13-4595-B6C6-099A8C31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2DFA-F036-4DC1-915C-0CD93E4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8DC-5479-4A58-8D8C-B1BE54D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DA36-32DE-46E4-A5AB-E9C7BAE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9D82-56CE-4DC7-87E6-87DC44D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A4EB-69C2-419B-85CF-8B25E94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B70B-D795-47C3-B94B-2CF3FF5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1048-277A-4754-96B4-1838CCFD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898D-D1CA-435B-BF00-593CB81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F57A-32C2-4429-A851-E1F4AD6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F627-2925-4118-9B2F-86328DFD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F438-5266-49BD-AB0F-441899FB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27EB8-C5E7-4F2C-A999-0815FE58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9D3-1AC6-4447-ACD3-0A4E06CF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B091-5B58-4593-B1F4-03FEAEB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1441-E008-4097-A0EA-F87C6DC7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207E-0FE5-4E26-99C4-86E8E83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CEAC-0313-4253-BF82-B363C590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7452B-8EA4-44B4-A905-690A77AD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CCBB-27C2-45E1-B6F5-915B10D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DEBB-E080-4D53-A63A-282676A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9D97-75E7-41B5-BA5F-1A21C75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5BBA-9B48-42B6-8D61-9FB3BA8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127C-5829-4001-8326-4DB9FFB8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A55-16A9-447E-9EF6-397480A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CFA2-9F65-4B06-8C84-B2EBAA93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D679-C77B-4C86-A290-C0E92EB1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7487-6C7F-414F-A04F-86F8E72E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1033-B19B-440B-A129-50714AB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46718-293E-400B-9BF5-E7DC573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F104-EC9C-4DC5-B1B2-FD78316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963B-50A9-42E4-A7D1-2652C73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6EFF-CDCE-4935-8DE6-E1093D2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D5C6-F5AA-44D0-902D-667A94C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0A86-93A0-4527-8959-4E2CB7E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CD2-4EB7-4D1A-BD8D-346C869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F498-EAF8-4CED-8F04-DA8AF4E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1D50-818A-4704-BE46-4A8666C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C0BB-D461-4376-8290-8CA894B4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54EE-CCE5-4E1E-97F1-E7D79D23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EA5E-3932-49FE-984E-7BF51977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9BC4-4BE7-4BB3-AA44-2698174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EB4C4-AD67-4E3B-A37C-DA0C7E32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AA64B-16EB-4084-BA2E-358B373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37BC5-4CF7-4F7F-BF4C-8B9F0FB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764F-8667-42B7-8739-A432B66A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3F8-2A3D-488A-87AB-81C55F4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1A31-F656-4E18-815B-CB20780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A8F3F-214A-488B-A873-7D1D56D6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8BFE-2C5F-42B8-AE59-85BE24F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D266-FBD5-4D47-A319-19FDC23F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D030-56DC-48EE-A2D7-EC98BD74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94D81-BB04-4F9F-AB78-20485B26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318D-7909-48DB-99F4-9056DCA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C19B-F0DA-4DFA-811B-025DC50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4590-7195-4312-BA12-0F49ABC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8F5A-296D-46F8-9631-B4D79A2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696-35E3-4C6D-913B-C5103FD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D5CED-42D5-4D83-B104-D1739FA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3A8D-ABFA-4D40-B5F6-70A0E137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CCC0-BE46-4056-AC5F-78C6F28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F2F6-9267-4697-9D51-F107B22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2663E-FF63-404B-B941-5E011EB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F0B53-05C9-45CD-AAFD-9F3F7653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AB46-512F-4FFA-9C24-A97EFB54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5400F-B757-4886-B80D-C6ACE6E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95219-B491-4B12-8117-C1A19C2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8C3E4-F7C0-4F45-AEB6-1B2A0A3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5F0-2DAE-4222-8543-D8D23865FF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9DCA-58C6-409F-960C-C2A7F43152E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A86-EFDA-4386-BA9E-299AE173F1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0F2-FC04-4FF9-AE82-1A0ADDC47D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D738-EFBA-4B5B-9848-DE5FCC29A1C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E92E-9C09-4F0B-83C7-AADFAFF22F0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8A10-E8DA-41F2-AAA6-A26404220EC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180-F2E6-4E2D-BF86-696DAD4290B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7DB-2A3E-4739-8393-2FFD88E216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0C8-CA8F-4E90-973D-7E9EFF207F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259-55B5-4330-BD48-675DA7DCD8C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6AEC-8E13-4550-A141-831FBB08EC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www.google.com/url?sa=i&amp;url=http%3A%2F%2Fledovydom.ru%2Fsamoe-interesnoe-pro-led%2Fglyaciologiya%2F&amp;psig=AOvVaw3-cPDWM44RpCSc_eVcD2tl&amp;ust=1595751632497000&amp;source=images&amp;cd=vfe&amp;ved=0CAIQjRxqFwoTCJi7gp785-oCFQAAAAAdAAAAABAD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56640" y="200160"/>
            <a:ext cx="2163960" cy="2197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422360" y="3411360"/>
            <a:ext cx="92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«Гляціологі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5" descr=""/>
          <p:cNvPicPr/>
          <p:nvPr/>
        </p:nvPicPr>
        <p:blipFill>
          <a:blip r:embed="rId2"/>
          <a:stretch/>
        </p:blipFill>
        <p:spPr>
          <a:xfrm>
            <a:off x="309600" y="168120"/>
            <a:ext cx="22273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600" y="178920"/>
            <a:ext cx="11182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  </a:t>
            </a:r>
            <a:r>
              <a:rPr b="1" i="1" lang="uk-UA" sz="2200" spc="-1" strike="noStrike">
                <a:solidFill>
                  <a:srgbClr val="0070c0"/>
                </a:solidFill>
                <a:latin typeface="Georgia"/>
              </a:rPr>
              <a:t>Об’єктом</a:t>
            </a:r>
            <a:r>
              <a:rPr b="1" lang="uk-UA" sz="22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uk-UA" sz="2200" spc="-1" strike="noStrike">
                <a:solidFill>
                  <a:srgbClr val="7f7f7f"/>
                </a:solidFill>
                <a:latin typeface="Georgia"/>
              </a:rPr>
              <a:t>вивчення є гляціосфера та її складові нівально-гляціальні систем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16349"/>
                </a:solidFill>
                <a:latin typeface="Georgia"/>
              </a:rPr>
              <a:t>      </a:t>
            </a:r>
            <a:r>
              <a:rPr b="1" i="1" lang="ru-RU" sz="2200" spc="-1" strike="noStrike">
                <a:solidFill>
                  <a:srgbClr val="0070c0"/>
                </a:solidFill>
                <a:latin typeface="Georgia"/>
              </a:rPr>
              <a:t>Предметом</a:t>
            </a:r>
            <a:r>
              <a:rPr b="0" lang="ru-RU" sz="22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uk-UA" sz="2200" spc="-1" strike="noStrike">
                <a:solidFill>
                  <a:srgbClr val="7f7f7f"/>
                </a:solidFill>
                <a:latin typeface="Georgia"/>
              </a:rPr>
              <a:t>вивчення є генетичні та еволюційні особливості кріосфери та її складових частин, географічне поширення льодовикі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2424240" y="1481040"/>
            <a:ext cx="6719760" cy="447516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3"/>
          <p:cNvSpPr/>
          <p:nvPr/>
        </p:nvSpPr>
        <p:spPr>
          <a:xfrm>
            <a:off x="237960" y="6013440"/>
            <a:ext cx="116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s://www.google.com/url?sa=i&amp;url=http%3A%2F%2Fledovydom.ru%2Fsamoe-interesnoe-pro-led%2Fglyaciologiya%2F&amp;psig=AOvVaw3-cPDWM44RpCSc_eVcD2tl&amp;ust=1595751632497000&amp;source=images&amp;cd=vfe&amp;ved=0CAIQjRxqFwoTCJi7gp785-oCFQAAAAAdAAAAABAD</a:t>
            </a: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Аналіз географічного поширення та різноманіття видів криги та визначення їх ролі в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ивчення закономірностей утворення криги та її фізико-хімічних властивос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ивчення особливостей формування та накопичення снігового покриву, а також визначення закономірностей його руху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Дослідження впливу кліматичних змін та кріосфер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401760" y="184320"/>
            <a:ext cx="114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Мета курсу: </a:t>
            </a: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ознайомити здобувачів освіти з основними теоретичними положеннями гляціологі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8200" y="644040"/>
            <a:ext cx="111427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ні компетентності, що забезпечуються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компонентом освітньої програми з курсу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6600" y="1616040"/>
            <a:ext cx="1148724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Загальн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03. Здатність застосовувати знання у практичних ситуація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04. Знання та розуміння предметної області та розуміння професійної діяльності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1. Прагнення до збереження природного навколишнього середовищ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Фахов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3. Знання та розуміння теоретичних основ наук про Землю як комплексну природну систем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6. Здатність застосовувати кількісні методи при дослідженні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7. Здатність до всебічного аналізу складу і будови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22. Здатність ідентифікувати та класифікувати відомі і реєструвати нові об’єкти у геосферах, їх властивості та притаманні їм процес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ступ до гляціології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Історія формування гляціології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оширення криги на Землі та в Космос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Фазові стани води, кристалічна структура криги, особливості формування криги, генетична класифікація кри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Фізичні та механічні властивості кри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Сніговий покрив та його характерист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Льодовики Гренландії та Антарктид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Гірські льодов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ідземні крига та налед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лавуча криг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Моніторинг кріосфер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плив екологічних змін на кріосфер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3"/>
          <p:cNvSpPr/>
          <p:nvPr/>
        </p:nvSpPr>
        <p:spPr>
          <a:xfrm>
            <a:off x="1712880" y="272268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Дякуємо Вам за інтерес до курсу «Гляціологія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</cp:lastModifiedBy>
  <dcterms:modified xsi:type="dcterms:W3CDTF">2020-07-29T12:40:03Z</dcterms:modified>
  <cp:revision>44</cp:revision>
  <dc:subject/>
  <dc:title>ХЕРСОНСЬКИЙ ДЕРЖАВНИЙ УНІВЕРСИТЕТ</dc:title>
</cp:coreProperties>
</file>