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3266-D3EA-43E3-8442-1A5C04091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DE4B-D667-45FC-85D7-6B4E9449B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F64A3A-C00E-46D4-B9BF-23AA529BE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434F9A-981A-4822-93C9-80A7203DB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01400" y="228600"/>
            <a:ext cx="1137924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064C85-84D3-4FC3-B005-5DD97744D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2BD7D8-D5DA-4F45-AF2F-F75DBBAE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4F4470-57FA-4AB3-8E13-23F649DA2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85570E-66CF-492F-97F7-5A794E25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6E7DB5-668D-4CE1-8C19-5066DD766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49A737-BCB3-49DF-B7E7-C3021385F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24872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09604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0140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424872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809604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304329-100C-4679-A878-2DC5A958C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7647CC-B03A-40DF-BAEA-260BF4BFB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E7C9-0BB9-48D8-8E53-738C03074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1DA676-C9F0-4016-9F4F-4D7AB1DA6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7D6C0E-95CF-48DF-A893-9E48DB7D2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73A8F5-F917-427A-BFD1-84F696D97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58DBDE-E299-4A75-BAD8-C66DE670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01400" y="228600"/>
            <a:ext cx="1137924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304898-13E8-4844-8A5A-940882785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AB4960-8FA6-4DF8-9895-C7CD9949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EA3348-3F77-4EF6-A4AE-016788E9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613035-B3B4-47EF-99F7-9C514667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BC2516-27F9-47A7-8351-1B3CD08EC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4F9F33-BA99-4A84-B73B-967C24103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24872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09604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0140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24872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809604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43D6-C4B2-45F1-A70E-D3BEC21F2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24872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809604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0140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424872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809604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B829D1-6FBB-42C1-B557-63879F130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A98A3D-8F4A-4F51-95DB-BA38D97EC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70B5CE-6540-44B1-802C-510761BB3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885048-E991-443A-B87C-65BD5BB55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FC1577-3C78-4DBE-AD3E-D389FC571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7F53E8-1F1E-462B-903F-65CACBC51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401400" y="228600"/>
            <a:ext cx="1137924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95B404-918C-49EF-937E-86A049A96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956800-47CC-4E59-9F9C-91949E00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1F3AAF-18CE-46CD-AFAC-3C53E142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6DFCB5-4823-43CE-9BB1-8620C4B9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3FA13-5A90-4C2D-89ED-3D41A6D08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43BD5F-D9CF-4AE7-93C3-476E7220D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59962F-E0F1-4490-B3E6-943369407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24872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809604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0140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424872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809604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D32681-119F-4247-A92D-D00ACB725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AD592E-98B4-48B7-B7EA-DD25AD600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0BE2DF-DB2B-47A9-9929-3581548BC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265F5A-6DCA-4422-B1B5-E5494228D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C85BBD-5824-4DBD-8FA2-5E2BAC933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CEA542-AF6B-4BEC-9D12-5F0842EEA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01400" y="228600"/>
            <a:ext cx="1137924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609627-91C2-4988-AEFC-27483DCFC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0B3A47-8456-4EA2-A29F-3D88086E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FC444-B388-4681-BA8F-48FE4C04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1756DD-B6D6-4C8C-BB14-8B9D476CB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876E55-ECF2-4FD8-AD4D-4042B0A2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7BE85D-8D89-40DC-81B3-C6F7C7E29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8F3309-25BE-4388-9E1F-D2AC48F7C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24872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809604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0140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424872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809604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AAEE12-650E-41AF-8654-BA76F66EE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C8C7D-7E48-4B73-AFFF-2AF7136EE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59483-B4B1-4AB2-B330-B4DC98921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12E9C-CABE-43FF-B247-754F72CA5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01400" y="228600"/>
            <a:ext cx="1137924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ADFEA-95BE-4B32-A642-2A55A5C16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B7C7F-5700-4CB5-A7DF-652FB8B1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B4F0-B10C-41BB-8D72-DB2A717C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B869C-D486-4F15-85FD-A891B675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D4194-EE6B-4AE6-BC88-9D4E0ABA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966AF-81BD-492D-8B4E-28C8EF966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201A4-76F8-4DB8-AF0F-7AADF037F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24872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09604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0140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424872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809604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63A63-075E-4595-A6A2-3F7A11310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43F22-17D3-4E37-B8B6-69A160D42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FBC30-FCBC-4033-9BFA-AAB3CDA9F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1FB87-C77E-4193-85B6-BD25EF713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BE0C5-0C6A-4636-85F2-973B5B3E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CE736-93FB-4DB4-8CB9-A29A3C1A2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6ECB-6D20-4D71-948C-E5828F767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01400" y="228600"/>
            <a:ext cx="1137924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D2FE5-74ED-4519-B36F-D95ED8366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1A7B7-2EDD-4ECF-B5B2-3EAA092A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C674E-AB6C-4945-92AC-8CC4F7E2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CC2FF-238C-4937-AE42-E38B87AE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B40C4-9113-44C2-B8C8-D19B43C94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3129F-12A6-40E7-87F5-D60BB27FB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4872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09604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0140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24872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09604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F2D29-4F8F-431D-881D-C51B1DAB1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DAF32-183A-4403-9B83-E7EAE2517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EEE6D-799C-41B8-8E44-25679BADC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59AF3-3E6F-4B03-AC46-CEADF5C4C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F0C9-E367-458B-9BFD-A3D4A82F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F7504-E4ED-4254-93EA-AC6569071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40795-3435-40CE-95E6-566F73ECC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01400" y="228600"/>
            <a:ext cx="1137924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8B367-E80D-4DCA-932B-917AA56EC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4474E-EB31-4FB7-B000-58DEFAB7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424E8-4BC5-44BA-8045-05B07352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C76AA-2BE4-4706-B36E-8EF4B47B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6CAA3-23FE-42CA-AA96-566E237F5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E317C-17D9-4B8E-B051-7588B9595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24872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09604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0140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424872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809604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3ECD7-4F79-4C6B-84F7-1BD53899F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C51EE-C611-4BD3-9F67-75E84A871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CCCC-B307-4C6C-849E-03B3557E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698EB-FBB1-4543-8ACD-3D9B7462D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4E8F1-0CA9-4C58-884C-0327367D6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0920C-B7FF-470B-A762-5FEE76F6B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8E77A-3B12-443E-9125-FF9FFEF9D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01400" y="228600"/>
            <a:ext cx="1137924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81CE7-BDB8-4C0E-A2D4-D75DF16F7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CAF51-BC88-4CEB-A520-CAD07D755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831FC-294B-48B4-AC76-F8E1C0EA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7EAEF-DACF-439B-8BF2-5C93772B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C833C-2E12-4D47-9DD8-7E201816F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D0C7C-A4ED-4ACB-87FD-FFA21E703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01400" y="228600"/>
            <a:ext cx="1137924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E5BB-7D1F-4D67-801C-54FD1C177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24872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09604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0140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424872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809604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F0DA1-8C32-4392-8FD7-8EA511978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B23B8-EB1B-4FC4-BC0C-86D22BC53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B0F41-074B-4E1F-9C5E-89891E31B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7AA0C-4179-4964-978B-6C36BEF4E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99C0CD-0D8D-41A1-AECB-1E79CDEC1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CED97-F16C-41FF-A23A-0524BFA27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01400" y="228600"/>
            <a:ext cx="1137924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F7C23-0D6A-476A-B4FF-015F02961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9558F-A4F3-4895-80CE-AD232AD6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EA721-715B-45C4-9749-F1537BD7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61FCD-C0D2-4F7A-B6BD-D7901BDA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BBA6-9418-40A8-A983-1B38D2AC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841D7F-EB9C-4DE0-9583-C873F8F5B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21BB1-459C-4787-ABEA-52C1370A3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4872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09604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0140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424872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809604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29535-E19F-4EC4-B959-3CE729BBB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2BB8C-135A-492A-B956-FE1910D0C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0D6A0D-B434-401E-A5B6-845CC84C4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DE9BE-F42E-4966-90B2-4E6AD8FB1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A9B206-8BBC-4B5C-8B3E-99E175C6B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872C85-CF0E-418D-B755-BF81AA0C2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01400" y="228600"/>
            <a:ext cx="1137924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667C5E-FFC4-4E16-8BBE-1422B155F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A4E0E-29B5-498C-86A0-A9E5C597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2A38-1AA6-4E3B-8D06-4DBCB8E3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F1989-7BA4-429A-9593-4267C7E8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051134-152F-4BCC-8599-55DEC478F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A3FCE-9BC0-4C76-B180-6B5F287DC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3B58F4-D324-4B95-B67B-78C30D22E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4872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809604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0140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424872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809604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7D3E28-87CE-4F9A-B66A-67D70D51D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E754B4-5606-4158-97A1-8DA664772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F93897-948A-4049-9508-54F2DA845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1F1756-A8C7-4919-987D-D04617810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931144-F8F6-4390-B3F5-8BF7AD7F5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AC5E1C-9EBE-4C93-82AC-00C6A609F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04CC-08BE-4A30-8E33-41F4572B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01400" y="228600"/>
            <a:ext cx="1137924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E4C074-6A90-4F63-BCC6-EB79FC46D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255915-BDD2-4B94-A313-F610D6A6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D6B413-683D-4C87-9C94-9E811024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CD747-68AC-4078-8573-3415EF7B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01400" y="3925800"/>
            <a:ext cx="11379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EF23A9-8276-4A5C-A0D4-CD952F457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232320" y="152352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0140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6232320" y="3925800"/>
            <a:ext cx="555300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3A5BAC-4936-44BC-A05E-A9708271D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24872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8096040" y="152352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0140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424872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8096040" y="3925800"/>
            <a:ext cx="36637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00CA3B-0907-4EC0-9B71-A93361648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FC8425-4FBD-4F79-932A-116085102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B6C5D3-2410-4D04-8BC4-303BC0B05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A4501F-E6A1-4E5D-8C0D-599B00EED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1219212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203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11988720" y="0"/>
            <a:ext cx="203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98360" y="6388200"/>
            <a:ext cx="1177776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7721640" y="6405480"/>
            <a:ext cx="405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406440" y="6409800"/>
            <a:ext cx="4775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203040" y="155520"/>
            <a:ext cx="117777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203040" y="1276200"/>
            <a:ext cx="117777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5689440" y="955800"/>
            <a:ext cx="8128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5815080" y="1050840"/>
            <a:ext cx="56196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5790960" y="1039680"/>
            <a:ext cx="60948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A1D5C-6F3E-4312-8D9D-D05D620787D0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5"/>
          <p:cNvSpPr/>
          <p:nvPr/>
        </p:nvSpPr>
        <p:spPr>
          <a:xfrm>
            <a:off x="203040" y="533520"/>
            <a:ext cx="117777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11988720" y="0"/>
            <a:ext cx="203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203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0"/>
          <p:cNvSpPr/>
          <p:nvPr/>
        </p:nvSpPr>
        <p:spPr>
          <a:xfrm>
            <a:off x="203040" y="152280"/>
            <a:ext cx="117777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1"/>
          <p:cNvSpPr/>
          <p:nvPr/>
        </p:nvSpPr>
        <p:spPr>
          <a:xfrm>
            <a:off x="203040" y="609480"/>
            <a:ext cx="36576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3"/>
          <p:cNvSpPr/>
          <p:nvPr/>
        </p:nvSpPr>
        <p:spPr>
          <a:xfrm>
            <a:off x="203040" y="155520"/>
            <a:ext cx="117777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4"/>
          <p:cNvSpPr/>
          <p:nvPr/>
        </p:nvSpPr>
        <p:spPr>
          <a:xfrm>
            <a:off x="1727280" y="228600"/>
            <a:ext cx="8128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5"/>
          <p:cNvSpPr/>
          <p:nvPr/>
        </p:nvSpPr>
        <p:spPr>
          <a:xfrm>
            <a:off x="1852560" y="324000"/>
            <a:ext cx="56196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26"/>
          <p:cNvSpPr/>
          <p:nvPr/>
        </p:nvSpPr>
        <p:spPr>
          <a:xfrm>
            <a:off x="198360" y="6388200"/>
            <a:ext cx="1177776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828440" y="312840"/>
            <a:ext cx="60948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604B3-91F4-4954-8A6F-E909599DD3F1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7716960" y="6405480"/>
            <a:ext cx="4060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401400" y="6409800"/>
            <a:ext cx="47797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1219212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203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11988720" y="0"/>
            <a:ext cx="203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98360" y="6388200"/>
            <a:ext cx="1177776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203040" y="155520"/>
            <a:ext cx="117777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203040" y="1276200"/>
            <a:ext cx="117777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5689440" y="955800"/>
            <a:ext cx="8128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5815080" y="1050840"/>
            <a:ext cx="56196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7721640" y="6405480"/>
            <a:ext cx="405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406440" y="6409800"/>
            <a:ext cx="4775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5790960" y="1039680"/>
            <a:ext cx="60948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22F37-A1DA-4083-96A3-A592A67A2990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9347040" y="0"/>
            <a:ext cx="2845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1219212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203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19"/>
          <p:cNvSpPr/>
          <p:nvPr/>
        </p:nvSpPr>
        <p:spPr>
          <a:xfrm>
            <a:off x="195120" y="6391440"/>
            <a:ext cx="1177776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0"/>
          <p:cNvSpPr/>
          <p:nvPr/>
        </p:nvSpPr>
        <p:spPr>
          <a:xfrm>
            <a:off x="203040" y="155520"/>
            <a:ext cx="117777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1"/>
          <p:cNvSpPr/>
          <p:nvPr/>
        </p:nvSpPr>
        <p:spPr>
          <a:xfrm>
            <a:off x="952668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3"/>
          <p:cNvSpPr/>
          <p:nvPr/>
        </p:nvSpPr>
        <p:spPr>
          <a:xfrm>
            <a:off x="9120240" y="2925720"/>
            <a:ext cx="8128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4"/>
          <p:cNvSpPr/>
          <p:nvPr/>
        </p:nvSpPr>
        <p:spPr>
          <a:xfrm>
            <a:off x="9245520" y="3021120"/>
            <a:ext cx="56052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9221400" y="3009960"/>
            <a:ext cx="60948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A5571-06FA-4D0D-AB54-BDC36732D9E3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7721640" y="6405480"/>
            <a:ext cx="405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406440" y="6409800"/>
            <a:ext cx="4775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11988720" y="3240"/>
            <a:ext cx="203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203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1219212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9"/>
          <p:cNvSpPr/>
          <p:nvPr/>
        </p:nvSpPr>
        <p:spPr>
          <a:xfrm>
            <a:off x="195120" y="6391440"/>
            <a:ext cx="1177776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0"/>
          <p:cNvSpPr/>
          <p:nvPr/>
        </p:nvSpPr>
        <p:spPr>
          <a:xfrm>
            <a:off x="208080" y="2419200"/>
            <a:ext cx="11775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>
            <a:off x="203040" y="152280"/>
            <a:ext cx="117777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3"/>
          <p:cNvSpPr/>
          <p:nvPr/>
        </p:nvSpPr>
        <p:spPr>
          <a:xfrm>
            <a:off x="5689440" y="2114640"/>
            <a:ext cx="8128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4"/>
          <p:cNvSpPr/>
          <p:nvPr/>
        </p:nvSpPr>
        <p:spPr>
          <a:xfrm>
            <a:off x="5815080" y="2209680"/>
            <a:ext cx="56196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7721640" y="6405480"/>
            <a:ext cx="405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406440" y="6409800"/>
            <a:ext cx="4775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5790960" y="2198520"/>
            <a:ext cx="60948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62FF4-299A-45B3-803A-8DF73F1CB3EC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1219212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203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11988720" y="0"/>
            <a:ext cx="203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98360" y="6388200"/>
            <a:ext cx="1177776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203040" y="155520"/>
            <a:ext cx="117777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203040" y="1276200"/>
            <a:ext cx="117777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5689440" y="955800"/>
            <a:ext cx="8128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5815080" y="1050840"/>
            <a:ext cx="56196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7721640" y="6405480"/>
            <a:ext cx="405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406440" y="6409800"/>
            <a:ext cx="4775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5814720" y="1027080"/>
            <a:ext cx="60948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A627B-8C60-4692-8513-0159702C7CD3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203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11988720" y="19080"/>
            <a:ext cx="203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203040" y="2286000"/>
            <a:ext cx="117777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208080" y="142920"/>
            <a:ext cx="11775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1"/>
          <p:cNvSpPr/>
          <p:nvPr/>
        </p:nvSpPr>
        <p:spPr>
          <a:xfrm>
            <a:off x="195120" y="6391440"/>
            <a:ext cx="1177776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3"/>
          <p:cNvSpPr/>
          <p:nvPr/>
        </p:nvSpPr>
        <p:spPr>
          <a:xfrm>
            <a:off x="203040" y="152280"/>
            <a:ext cx="117777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203040" y="2438280"/>
            <a:ext cx="117777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5"/>
          <p:cNvSpPr/>
          <p:nvPr/>
        </p:nvSpPr>
        <p:spPr>
          <a:xfrm>
            <a:off x="5689440" y="2114640"/>
            <a:ext cx="8128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26"/>
          <p:cNvSpPr/>
          <p:nvPr/>
        </p:nvSpPr>
        <p:spPr>
          <a:xfrm>
            <a:off x="5815080" y="2209680"/>
            <a:ext cx="56196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406440" y="6409800"/>
            <a:ext cx="4775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7721640" y="6405480"/>
            <a:ext cx="405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5790960" y="2198520"/>
            <a:ext cx="60948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1BE3F-681B-4547-B71A-1D197C2AABC2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1219212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203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11988720" y="0"/>
            <a:ext cx="203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98360" y="6388200"/>
            <a:ext cx="1177776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203040" y="155520"/>
            <a:ext cx="117777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203040" y="1276200"/>
            <a:ext cx="117777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5689440" y="955800"/>
            <a:ext cx="8128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5815080" y="1050840"/>
            <a:ext cx="56196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6084720" y="1576080"/>
            <a:ext cx="111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7721640" y="6409800"/>
            <a:ext cx="4059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406440" y="6409800"/>
            <a:ext cx="4775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5790960" y="1039680"/>
            <a:ext cx="60948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1D2F3-3469-4EA3-BBF7-ECE60BCCF2C5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609588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1219212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203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11988720" y="0"/>
            <a:ext cx="203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0"/>
          <p:cNvSpPr/>
          <p:nvPr/>
        </p:nvSpPr>
        <p:spPr>
          <a:xfrm>
            <a:off x="203040" y="1371600"/>
            <a:ext cx="117777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1"/>
          <p:cNvSpPr/>
          <p:nvPr/>
        </p:nvSpPr>
        <p:spPr>
          <a:xfrm>
            <a:off x="195120" y="6391440"/>
            <a:ext cx="1177632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3"/>
          <p:cNvSpPr/>
          <p:nvPr/>
        </p:nvSpPr>
        <p:spPr>
          <a:xfrm>
            <a:off x="203040" y="1279440"/>
            <a:ext cx="117777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4"/>
          <p:cNvSpPr/>
          <p:nvPr/>
        </p:nvSpPr>
        <p:spPr>
          <a:xfrm>
            <a:off x="203040" y="155520"/>
            <a:ext cx="117777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5"/>
          <p:cNvSpPr/>
          <p:nvPr/>
        </p:nvSpPr>
        <p:spPr>
          <a:xfrm>
            <a:off x="5689440" y="955800"/>
            <a:ext cx="8128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5815080" y="1050840"/>
            <a:ext cx="56196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7721640" y="6405480"/>
            <a:ext cx="405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406440" y="6409800"/>
            <a:ext cx="4775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5790960" y="1042920"/>
            <a:ext cx="60948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AB5FB-3472-4532-BF82-B28A184EF3D3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1219212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203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11988720" y="0"/>
            <a:ext cx="203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98360" y="6388200"/>
            <a:ext cx="1177776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203040" y="155520"/>
            <a:ext cx="117777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203040" y="1276200"/>
            <a:ext cx="117777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5689440" y="955800"/>
            <a:ext cx="8128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5815080" y="1050840"/>
            <a:ext cx="56196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7721640" y="6405480"/>
            <a:ext cx="405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406440" y="6409800"/>
            <a:ext cx="4775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5790960" y="1036440"/>
            <a:ext cx="60948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E616D-9AEF-4813-853B-AA2929DF2E1C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1219212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11988720" y="0"/>
            <a:ext cx="203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203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19"/>
          <p:cNvSpPr/>
          <p:nvPr/>
        </p:nvSpPr>
        <p:spPr>
          <a:xfrm>
            <a:off x="195120" y="6391440"/>
            <a:ext cx="1177776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0"/>
          <p:cNvSpPr/>
          <p:nvPr/>
        </p:nvSpPr>
        <p:spPr>
          <a:xfrm>
            <a:off x="203040" y="158760"/>
            <a:ext cx="117777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7721640" y="6405480"/>
            <a:ext cx="405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406440" y="6409800"/>
            <a:ext cx="4775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5689440" y="6324480"/>
            <a:ext cx="81288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D24A5-B14B-4F2D-B9F2-AD3F59C1BB35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5"/>
          <p:cNvSpPr/>
          <p:nvPr/>
        </p:nvSpPr>
        <p:spPr>
          <a:xfrm>
            <a:off x="203040" y="152280"/>
            <a:ext cx="117777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121921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11988720" y="0"/>
            <a:ext cx="203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1219212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2030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0"/>
          <p:cNvSpPr/>
          <p:nvPr/>
        </p:nvSpPr>
        <p:spPr>
          <a:xfrm>
            <a:off x="203040" y="609480"/>
            <a:ext cx="36576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1"/>
          <p:cNvSpPr/>
          <p:nvPr/>
        </p:nvSpPr>
        <p:spPr>
          <a:xfrm>
            <a:off x="203040" y="152280"/>
            <a:ext cx="117777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3"/>
          <p:cNvSpPr/>
          <p:nvPr/>
        </p:nvSpPr>
        <p:spPr>
          <a:xfrm>
            <a:off x="203040" y="533520"/>
            <a:ext cx="117777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4"/>
          <p:cNvSpPr/>
          <p:nvPr/>
        </p:nvSpPr>
        <p:spPr>
          <a:xfrm>
            <a:off x="1727280" y="228600"/>
            <a:ext cx="8128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5"/>
          <p:cNvSpPr/>
          <p:nvPr/>
        </p:nvSpPr>
        <p:spPr>
          <a:xfrm>
            <a:off x="1852560" y="324000"/>
            <a:ext cx="56196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26"/>
          <p:cNvSpPr/>
          <p:nvPr/>
        </p:nvSpPr>
        <p:spPr>
          <a:xfrm>
            <a:off x="198360" y="6388200"/>
            <a:ext cx="1177776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01400" y="228600"/>
            <a:ext cx="113792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01400" y="1523520"/>
            <a:ext cx="11379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828440" y="312840"/>
            <a:ext cx="60948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0AFCB-B724-4C8E-B93E-D582793609B1}" type="slidenum">
              <a:rPr b="0" lang="ru-RU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7721640" y="6405480"/>
            <a:ext cx="405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401760" y="6409800"/>
            <a:ext cx="4511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s://www.google.com/url?sa=i&amp;url=http%3A%2F%2Fledovydom.ru%2Fsamoe-interesnoe-pro-led%2Fglyaciologiya%2F&amp;psig=AOvVaw3-cPDWM44RpCSc_eVcD2tl&amp;ust=1595751632497000&amp;source=images&amp;cd=vfe&amp;ved=0CAIQjRxqFwoTCJi7gp785-oCFQAAAAAdAAAAABAD" TargetMode="External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341000" y="1488960"/>
            <a:ext cx="9526680" cy="60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35e40"/>
                </a:solidFill>
                <a:latin typeface="Georgia"/>
              </a:rPr>
              <a:t>ХЕРСОНСЬКИЙ ДЕРЖАВНИЙ УНІВЕРСИТЕТ</a:t>
            </a:r>
            <a:br>
              <a:rPr sz="2400"/>
            </a:br>
            <a:r>
              <a:rPr b="0" i="1" lang="uk-UA" sz="2400" spc="-1" strike="noStrike">
                <a:solidFill>
                  <a:srgbClr val="435e40"/>
                </a:solidFill>
                <a:latin typeface="Georgia"/>
              </a:rPr>
              <a:t>Факультет біології, географії і екології</a:t>
            </a:r>
            <a:br>
              <a:rPr sz="2400"/>
            </a:br>
            <a:r>
              <a:rPr b="0" i="1" lang="uk-UA" sz="2400" spc="-1" strike="noStrike">
                <a:solidFill>
                  <a:srgbClr val="435e40"/>
                </a:solidFill>
                <a:latin typeface="Georgia"/>
              </a:rPr>
              <a:t>Кафедра географії та екології</a:t>
            </a:r>
            <a:br>
              <a:rPr sz="3600"/>
            </a:b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7" name="Рисунок 5" descr=""/>
          <p:cNvPicPr/>
          <p:nvPr/>
        </p:nvPicPr>
        <p:blipFill>
          <a:blip r:embed="rId1"/>
          <a:stretch/>
        </p:blipFill>
        <p:spPr>
          <a:xfrm>
            <a:off x="9656640" y="200160"/>
            <a:ext cx="2163960" cy="2197080"/>
          </a:xfrm>
          <a:prstGeom prst="rect">
            <a:avLst/>
          </a:prstGeom>
          <a:ln w="0">
            <a:noFill/>
          </a:ln>
        </p:spPr>
      </p:pic>
      <p:sp>
        <p:nvSpPr>
          <p:cNvPr id="608" name="Прямоугольник 4"/>
          <p:cNvSpPr/>
          <p:nvPr/>
        </p:nvSpPr>
        <p:spPr>
          <a:xfrm>
            <a:off x="1422360" y="3411360"/>
            <a:ext cx="928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70c0"/>
                </a:solidFill>
                <a:latin typeface="Georgia"/>
              </a:rPr>
              <a:t>Дисципліна вільного вибор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70c0"/>
                </a:solidFill>
                <a:latin typeface="Georgia"/>
              </a:rPr>
              <a:t> </a:t>
            </a:r>
            <a:r>
              <a:rPr b="1" lang="uk-UA" sz="3600" spc="-1" strike="noStrike">
                <a:solidFill>
                  <a:srgbClr val="0070c0"/>
                </a:solidFill>
                <a:latin typeface="Georgia"/>
              </a:rPr>
              <a:t>«Гляціологі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Рисунок 5" descr=""/>
          <p:cNvPicPr/>
          <p:nvPr/>
        </p:nvPicPr>
        <p:blipFill>
          <a:blip r:embed="rId2"/>
          <a:stretch/>
        </p:blipFill>
        <p:spPr>
          <a:xfrm>
            <a:off x="309600" y="168120"/>
            <a:ext cx="2227320" cy="22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 txBox="1"/>
          <p:nvPr/>
        </p:nvSpPr>
        <p:spPr>
          <a:xfrm>
            <a:off x="237600" y="178920"/>
            <a:ext cx="11182680" cy="11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d16349"/>
                </a:solidFill>
                <a:latin typeface="Georgia"/>
              </a:rPr>
              <a:t>  </a:t>
            </a:r>
            <a:r>
              <a:rPr b="1" i="1" lang="uk-UA" sz="2200" spc="-1" strike="noStrike">
                <a:solidFill>
                  <a:srgbClr val="0070c0"/>
                </a:solidFill>
                <a:latin typeface="Georgia"/>
              </a:rPr>
              <a:t>Об’єктом</a:t>
            </a:r>
            <a:r>
              <a:rPr b="1" lang="uk-UA" sz="2200" spc="-1" strike="noStrike">
                <a:solidFill>
                  <a:srgbClr val="0070c0"/>
                </a:solidFill>
                <a:latin typeface="Georgia"/>
              </a:rPr>
              <a:t> </a:t>
            </a:r>
            <a:r>
              <a:rPr b="0" lang="uk-UA" sz="2200" spc="-1" strike="noStrike">
                <a:solidFill>
                  <a:srgbClr val="7f7f7f"/>
                </a:solidFill>
                <a:latin typeface="Georgia"/>
              </a:rPr>
              <a:t>вивчення є гляціосфера та її складові нівально-гляціальні системи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d16349"/>
                </a:solidFill>
                <a:latin typeface="Georgia"/>
              </a:rPr>
              <a:t>      </a:t>
            </a:r>
            <a:r>
              <a:rPr b="1" i="1" lang="ru-RU" sz="2200" spc="-1" strike="noStrike">
                <a:solidFill>
                  <a:srgbClr val="0070c0"/>
                </a:solidFill>
                <a:latin typeface="Georgia"/>
              </a:rPr>
              <a:t>Предметом</a:t>
            </a:r>
            <a:r>
              <a:rPr b="0" lang="ru-RU" sz="2200" spc="-1" strike="noStrike">
                <a:solidFill>
                  <a:srgbClr val="7f7f7f"/>
                </a:solidFill>
                <a:latin typeface="Georgia"/>
              </a:rPr>
              <a:t> </a:t>
            </a:r>
            <a:r>
              <a:rPr b="0" lang="uk-UA" sz="2200" spc="-1" strike="noStrike">
                <a:solidFill>
                  <a:srgbClr val="7f7f7f"/>
                </a:solidFill>
                <a:latin typeface="Georgia"/>
              </a:rPr>
              <a:t>вивчення є генетичні та еволюційні особливості кріосфери та її складових частин, географічне поширення льодовиків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1" name="Рисунок 1" descr=""/>
          <p:cNvPicPr/>
          <p:nvPr/>
        </p:nvPicPr>
        <p:blipFill>
          <a:blip r:embed="rId1"/>
          <a:stretch/>
        </p:blipFill>
        <p:spPr>
          <a:xfrm>
            <a:off x="2424240" y="1481040"/>
            <a:ext cx="6719760" cy="4475160"/>
          </a:xfrm>
          <a:prstGeom prst="rect">
            <a:avLst/>
          </a:prstGeom>
          <a:ln w="0">
            <a:noFill/>
          </a:ln>
        </p:spPr>
      </p:pic>
      <p:sp>
        <p:nvSpPr>
          <p:cNvPr id="612" name="Прямоугольник 3"/>
          <p:cNvSpPr/>
          <p:nvPr/>
        </p:nvSpPr>
        <p:spPr>
          <a:xfrm>
            <a:off x="237960" y="6013440"/>
            <a:ext cx="1166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800" spc="-1" strike="noStrike" u="sng">
                <a:solidFill>
                  <a:srgbClr val="00a3d6"/>
                </a:solidFill>
                <a:uFillTx/>
                <a:latin typeface="Arial"/>
                <a:hlinkClick r:id="rId2"/>
              </a:rPr>
              <a:t>https://www.google.com/url?sa=i&amp;url=http%3A%2F%2Fledovydom.ru%2Fsamoe-interesnoe-pro-led%2Fglyaciologiya%2F&amp;psig=AOvVaw3-cPDWM44RpCSc_eVcD2tl&amp;ust=1595751632497000&amp;source=images&amp;cd=vfe&amp;ved=0CAIQjRxqFwoTCJi7gp785-oCFQAAAAAdAAAAABAD</a:t>
            </a:r>
            <a:r>
              <a:rPr b="0" lang="uk-UA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 txBox="1"/>
          <p:nvPr/>
        </p:nvSpPr>
        <p:spPr>
          <a:xfrm>
            <a:off x="401760" y="1527120"/>
            <a:ext cx="11339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700" spc="-1" strike="noStrike">
                <a:solidFill>
                  <a:srgbClr val="0070c0"/>
                </a:solidFill>
                <a:latin typeface="Georgia"/>
              </a:rPr>
              <a:t>Задачі курсу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7f7f7f"/>
                </a:solidFill>
                <a:latin typeface="Georgia"/>
              </a:rPr>
              <a:t>Аналіз географічного поширення та різноманіття видів криги та визначення їх ролі в природі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7f7f7f"/>
                </a:solidFill>
                <a:latin typeface="Georgia"/>
              </a:rPr>
              <a:t>Вивчення закономірностей утворення криги та її фізико-хімічних властивостей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7f7f7f"/>
                </a:solidFill>
                <a:latin typeface="Georgia"/>
              </a:rPr>
              <a:t>Вивчення особливостей формування та накопичення снігового покриву, а також визначення закономірностей його руху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7f7f7f"/>
                </a:solidFill>
                <a:latin typeface="Georgia"/>
              </a:rPr>
              <a:t>Дослідження впливу кліматичних змін та кріосферу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TextBox 3"/>
          <p:cNvSpPr/>
          <p:nvPr/>
        </p:nvSpPr>
        <p:spPr>
          <a:xfrm>
            <a:off x="401760" y="184320"/>
            <a:ext cx="1148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700" spc="-1" strike="noStrike">
                <a:solidFill>
                  <a:srgbClr val="0070c0"/>
                </a:solidFill>
                <a:latin typeface="Georgia"/>
              </a:rPr>
              <a:t>Мета курсу: </a:t>
            </a:r>
            <a:r>
              <a:rPr b="0" lang="uk-UA" sz="2700" spc="-1" strike="noStrike">
                <a:solidFill>
                  <a:srgbClr val="7f7f7f"/>
                </a:solidFill>
                <a:latin typeface="Georgia"/>
              </a:rPr>
              <a:t>ознайомити здобувачів освіти з основними теоретичними положеннями гляціології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38200" y="644040"/>
            <a:ext cx="1114272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70c0"/>
                </a:solidFill>
                <a:latin typeface="Georgia"/>
              </a:rPr>
              <a:t>Програмні компетентності, що забезпечуються</a:t>
            </a:r>
            <a:br>
              <a:rPr sz="2400"/>
            </a:br>
            <a:r>
              <a:rPr b="1" i="1" lang="uk-UA" sz="2400" spc="-1" strike="noStrike">
                <a:solidFill>
                  <a:srgbClr val="0070c0"/>
                </a:solidFill>
                <a:latin typeface="Georgia"/>
              </a:rPr>
              <a:t>компонентом освітньої програми з курсу</a:t>
            </a:r>
            <a:br>
              <a:rPr sz="2400"/>
            </a:b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426600" y="1616040"/>
            <a:ext cx="11487240" cy="46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70c0"/>
                </a:solidFill>
                <a:latin typeface="Georgia"/>
              </a:rPr>
              <a:t>Загальні компетентності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7f7f7f"/>
                </a:solidFill>
                <a:latin typeface="Georgia"/>
              </a:rPr>
              <a:t>К03. Здатність застосовувати знання у практичних ситуаціях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7f7f7f"/>
                </a:solidFill>
                <a:latin typeface="Georgia"/>
              </a:rPr>
              <a:t>К04. Знання та розуміння предметної області та розуміння професійної діяльності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7f7f7f"/>
                </a:solidFill>
                <a:latin typeface="Georgia"/>
              </a:rPr>
              <a:t>К11. Прагнення до збереження природного навколишнього середовища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70c0"/>
                </a:solidFill>
                <a:latin typeface="Georgia"/>
              </a:rPr>
              <a:t>Фахові компетентності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7f7f7f"/>
                </a:solidFill>
                <a:latin typeface="Georgia"/>
              </a:rPr>
              <a:t>К13. Знання та розуміння теоретичних основ наук про Землю як комплексну природну систему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7f7f7f"/>
                </a:solidFill>
                <a:latin typeface="Georgia"/>
              </a:rPr>
              <a:t>К16. Здатність застосовувати кількісні методи при дослідженні геосфер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7f7f7f"/>
                </a:solidFill>
                <a:latin typeface="Georgia"/>
              </a:rPr>
              <a:t>К17. Здатність до всебічного аналізу складу і будови геосфер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7f7f7f"/>
                </a:solidFill>
                <a:latin typeface="Georgia"/>
              </a:rPr>
              <a:t>К22. Здатність ідентифікувати та класифікувати відомі і реєструвати нові об’єкти у геосферах, їх властивості та притаманні їм процес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01400" y="286920"/>
            <a:ext cx="11379240" cy="5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70c0"/>
                </a:solidFill>
                <a:latin typeface="Georgia"/>
              </a:rPr>
              <a:t>Програма навчальної дисципліни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55320" y="1609200"/>
            <a:ext cx="115585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7f7f7f"/>
                </a:solidFill>
                <a:latin typeface="Georgia"/>
              </a:rPr>
              <a:t>Вступ до гляціології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7f7f7f"/>
                </a:solidFill>
                <a:latin typeface="Georgia"/>
              </a:rPr>
              <a:t>Історія формування гляціології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7f7f7f"/>
                </a:solidFill>
                <a:latin typeface="Georgia"/>
              </a:rPr>
              <a:t>Поширення криги на Землі та в Космосі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7f7f7f"/>
                </a:solidFill>
                <a:latin typeface="Georgia"/>
              </a:rPr>
              <a:t>Фазові стани води, кристалічна структура криги, особливості формування криги, генетична класифікація криг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7f7f7f"/>
                </a:solidFill>
                <a:latin typeface="Georgia"/>
              </a:rPr>
              <a:t>Фізичні та механічні властивості криг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7f7f7f"/>
                </a:solidFill>
                <a:latin typeface="Georgia"/>
              </a:rPr>
              <a:t>Сніговий покрив та його характеристик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7f7f7f"/>
                </a:solidFill>
                <a:latin typeface="Georgia"/>
              </a:rPr>
              <a:t>Льодовики Гренландії та Антарктиди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7f7f7f"/>
                </a:solidFill>
                <a:latin typeface="Georgia"/>
              </a:rPr>
              <a:t>Гірські льодовики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7f7f7f"/>
                </a:solidFill>
                <a:latin typeface="Georgia"/>
              </a:rPr>
              <a:t>Підземні крига та наледі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7f7f7f"/>
                </a:solidFill>
                <a:latin typeface="Georgia"/>
              </a:rPr>
              <a:t>Плавуча крига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7f7f7f"/>
                </a:solidFill>
                <a:latin typeface="Georgia"/>
              </a:rPr>
              <a:t>Моніторинг кріосфери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7f7f7f"/>
                </a:solidFill>
                <a:latin typeface="Georgia"/>
              </a:rPr>
              <a:t>Вплив екологічних змін на кріосферу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TextBox 3"/>
          <p:cNvSpPr/>
          <p:nvPr/>
        </p:nvSpPr>
        <p:spPr>
          <a:xfrm>
            <a:off x="1712880" y="2722680"/>
            <a:ext cx="893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2060"/>
                </a:solidFill>
                <a:latin typeface="Arial"/>
              </a:rPr>
              <a:t>Дякуємо Вам за інтерес до курсу «Гляціологія»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21T15:48:04Z</dcterms:created>
  <dc:creator>Дмитрий Зинченко</dc:creator>
  <dc:description/>
  <dc:language>en-US</dc:language>
  <cp:lastModifiedBy>1</cp:lastModifiedBy>
  <dcterms:modified xsi:type="dcterms:W3CDTF">2020-07-29T12:40:03Z</dcterms:modified>
  <cp:revision>44</cp:revision>
  <dc:subject/>
  <dc:title>ХЕРСОНСЬКИЙ ДЕРЖАВНИЙ УНІВЕРСИТЕТ</dc:title>
</cp:coreProperties>
</file>