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C44-AB0D-400E-AE11-FD778CC65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3A7C-0397-47BF-983A-2CAF849A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6F0DE-AB1D-44B9-B6FB-62169804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C91A43-3A86-454F-A304-F1FA7899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9BFF4-9CB5-4F30-BD42-1669C98A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6572E-A190-40E6-95A8-A4FB672D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A1334-75A7-43CA-81B4-57027CC6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85667-8098-4431-87F5-5C222D6B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BF0D8-BE73-426D-9046-926E5DE9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67251-417E-47EA-B01C-1A2672D0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1FEA88-A6A1-44DC-83B5-BB129DEF8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E42F86-C575-44EE-89BC-17CD1531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D41-F9D2-494B-B97D-69AAF51C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0E7A05-10F2-49ED-A2DA-7630A2AE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5ED78D-91C5-47A3-A119-FCC1714A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1BF9FA-29D5-48E5-B3F8-24967F14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8752E-66BD-4051-B807-96A786D5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63D04-8458-435A-A1F6-862A0717D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01DDBD-16B0-456C-A957-FD142875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16980B-80A2-4F18-8245-7D9EE1DE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30E463-AA4C-438F-AA5A-B070C34E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15AB8-056A-4B23-89B3-B577F8D8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0770FC-5D8C-4CD7-BD20-B4F36DEF5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B55C-6478-40C4-A34F-A4867C6E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D5AB30-DA58-40EE-9DAD-0E5C6F08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06DEB-B5AC-43DB-8037-19D114BD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3F4C0-1224-402A-8E11-AEA488F0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6214A-6DC4-40D4-8AA4-CE3A081E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9E39F-7933-4877-BE42-0EB18B98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15916-A260-4F74-AE94-BC98CF0E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395A8-6414-4355-9B1C-408FE66B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C3708-9217-4C10-8641-0C5655F5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DEE26-40CF-4004-97E3-92718C24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5C6DF-CE19-4D29-9CE7-C89CD214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AB946-92CF-4DB7-A3CF-B335D5BC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6CE1B-2C70-43C9-B20E-1694BF2E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55ACC-6DA7-451A-AA04-02D26CA9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C26143-BB40-4DA1-B273-9F28428B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6314E-8356-4C32-BE8B-2184377D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1F950-5A63-42B6-9C5E-FE7CBA24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E488CB-3A73-4778-A271-4E6039AD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DF910A-78A8-4B2E-88A5-E9147EC62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A8EDE5-48C0-439D-A645-C0A3F3D8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52F26-5D63-439D-8DFA-A47037F1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476B96-7A4F-45A9-B752-F5799541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85F03-83C4-4197-98E0-7F2FDBEC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757CA-B326-4DBA-B65F-90B1F161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E5C435-158E-44E0-A071-6C83C803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AE2D74-39F4-4F95-856C-40CA0E5C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FB65D6-3327-49C4-B3AB-BD6E784A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FA5FBD-49FD-46B9-9AC1-C0DEB77DE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D5AF-62C9-433E-94F7-DB3DC013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9127-83DE-4823-B732-A0C66187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8B6DB-7B47-4970-B134-28D83826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707F6-5075-4032-9A54-12793582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3C1D-E6B2-433F-A19D-599E5F06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E5A-0854-48D6-BF92-2B757BCE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7895-2233-4401-BAEC-228FF691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CF1D-6FB5-4C26-A687-56260AC2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935E-A9A0-47BC-B6A7-9D1C8946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6A92-9103-4C26-BDB1-38857159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80C5C-E1CD-4B27-8079-DD5F8F1FE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AF890-6A26-40CC-A4AB-BBF99744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DFBF-5CE1-4913-820B-5E512676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067A0-012E-4463-90F3-CAEAE1C1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9A096-AD36-45ED-BD76-26038DFC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801BC-0692-4A53-B616-249673F3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0071-B99A-4B9E-9105-282123A8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2A2D-904B-4F1A-AF7F-99A60C18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3F3B6-22BE-4B57-97FD-D532C1FB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AB9B0-A2BD-4480-B673-5D0670EE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F3D3-ABE3-4EC6-A281-3FC652E6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AF9E-E48F-43C0-852E-DF58301F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7D023-C5FB-4873-A314-6CA8ED7D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84DE2-7D9D-4D98-82A8-778333E33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1ED96-3047-4C62-8E2C-B985768E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4E6B9-376D-4B0A-A7EA-F759E120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710D7-5286-4AC4-87DF-8BB2E5261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2866-7E92-4D24-94A8-77F12A41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F8BCD-4C35-4318-8E4F-0444B4CE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ED96C-B5E2-4F70-B460-AA571F09D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9987B-BE90-4638-A374-942DB0CF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5378-87BD-4DCC-9ADA-CDB815CE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10C2-F2F5-42D9-A182-9A4A055B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8B148-8DC7-4744-9DBD-368F1A22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A259-13D7-4B4F-9B34-D007182F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9C028-0AF0-463A-93CF-55610775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0B71-C608-4BD2-9A6C-DB62E0DD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DB37B-084F-490C-80DA-E2288AEE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B937-315D-4AE3-B964-B7F931C2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B5B4D-9A9E-4F1B-9ADB-31C96F76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268EF-E0F8-48EC-8880-FE749F9F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08B19-EF95-4724-8289-28FD6330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96A3B-53C5-4503-A7F2-167E1C53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E476D-9998-4A8D-AB53-4DD88AEA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7F2E8-E5BA-4BBA-9915-06EF609B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EF38-3CD7-43D3-AF54-D5B2D36C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7B3A9-8871-4462-8224-A631C183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94CB7-7188-4F14-96EC-4C46CB9B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BDDB0-A477-4CF2-80A9-E5BC6E73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14B-1F32-4BC2-A4D7-8FDADC11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77D6B-4AFF-45E4-A162-93DD4D7C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0E52B-0B0E-4EB3-B5D5-9B78F9CF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711CB-64F9-42BD-B2F8-3D172BD0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BB534-6314-4AF9-84A6-4FED77F6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3F449B-7123-4245-B08F-553B4C13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8F470-8D82-45CA-8695-653D7F1A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E96DE-A2BD-4A69-8322-8F1B613C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AF8DC-98CA-4870-AAC0-F12EAC82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4A3D4-E310-4495-B0C5-636EA173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F1CCA-1AAD-47F9-BB22-27CAF1F6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A2B4-D2DA-4DBA-B4D1-D976C759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4B99C-84F7-47BF-9E78-67ACB306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F2A4F-3C49-4F68-8941-8EC1572E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CCFA4-45A9-43D6-B176-CC5968710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C0B6F-7CEE-4DBE-B866-B1C71C795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81A14-DAF7-4F8A-8913-B41BFFF1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F4143-FFD3-4AB8-8B08-92E0CB7D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DB80B-B20E-4DE3-92D9-542AC50F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BD973-20DA-4ADD-B029-C5D9CCBC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F012D-8B69-4F31-AB42-70C60738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D6F01-731B-43B1-B507-AC141CB5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8595-2981-46FE-BC1C-E1172D89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6FF47-01CB-4250-9FC6-BCC5B665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0B959-C524-46A1-AD53-1485EF6F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94241-E7BB-4569-A04B-97504A58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7AD5B-1512-4686-A1D8-813719091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BDEED-EB04-4A53-97F5-B2820938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C9CD9-940F-41E9-8C69-073E9715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DC20A-0FA9-4B4F-A367-D82D1231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6EDE7-FE11-4C64-A3E5-3422E134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497EE-DD8C-479F-9046-50F94F9AB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10DC3-A398-4E03-9638-C0B92335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D8BD-4265-47E1-82CF-46DF0472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3309D-EDFF-431D-928C-0F3C891E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C93644-7F10-45C0-9771-855A0B41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1E4D9-350E-46F8-8FB7-E6D82EC6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7D84A-69A4-4CE6-A2E4-9C58DB37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3B620-C994-42B0-8549-DB867815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C74FC-73C9-4DF2-A980-E781C459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28416-04CD-4792-B65A-E74C3123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80BF3-5FAD-49B8-9019-425F4EFB3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CE92CE-7446-4996-B517-02CF4A06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E2A325-0D8D-4522-9EF4-24375FFC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28C6-4D8D-4C85-8A24-E1845CCA59E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203040" y="152280"/>
            <a:ext cx="117777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9972-D327-4C68-B0D5-2B6E3B145E2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7716960" y="640548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401400" y="6409800"/>
            <a:ext cx="4779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0130-8F1F-4940-A99D-58F8FC85B80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9347040" y="0"/>
            <a:ext cx="2845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952668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9120240" y="292572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9245520" y="3021120"/>
            <a:ext cx="56052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9221400" y="300996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4076-9276-4D2A-A2B6-12F8C1AD340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11988720" y="324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121921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208080" y="2419200"/>
            <a:ext cx="11775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1C47-C949-4DAC-936A-1E73AF88BB9E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814720" y="10270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2C97-2CD9-41A2-89C3-FDA01F67A62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11988720" y="1908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203040" y="2286000"/>
            <a:ext cx="11777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208080" y="142920"/>
            <a:ext cx="11775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203040" y="243828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5DF5-84BF-44B7-AE76-AAC8AE4E149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6084720" y="1576080"/>
            <a:ext cx="111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7721640" y="6409800"/>
            <a:ext cx="4059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0D4D-AAB7-4CFF-BC35-B4C78367F41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609588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12192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203040" y="1371600"/>
            <a:ext cx="117777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95120" y="6391440"/>
            <a:ext cx="1177632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203040" y="127944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06440" y="6409800"/>
            <a:ext cx="4775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5790960" y="10429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B883-6643-4EB1-8517-8CA3906FED8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5790960" y="1036440"/>
            <a:ext cx="60948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6D7D-2CD3-4607-AAD4-30DB0D6E39D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203040" y="15876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5689440" y="6324480"/>
            <a:ext cx="8128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72B3-C719-43C4-AB1D-8C9BB296DB4D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203040" y="152280"/>
            <a:ext cx="117777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12192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3DF9-5D6D-4EC2-BF63-47EF114C285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401760" y="6409800"/>
            <a:ext cx="4511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41000" y="1488960"/>
            <a:ext cx="9526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35e40"/>
                </a:solidFill>
                <a:latin typeface="Georgia"/>
              </a:rPr>
              <a:t>ХЕРСОНСЬКИЙ ДЕРЖАВНИЙ УНІВЕРСИТЕТ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Факультет біології, географії і екології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Кафедра географії та екології</a:t>
            </a:r>
            <a:br>
              <a:rPr sz="36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Рисунок 5" descr=""/>
          <p:cNvPicPr/>
          <p:nvPr/>
        </p:nvPicPr>
        <p:blipFill>
          <a:blip r:embed="rId1"/>
          <a:stretch/>
        </p:blipFill>
        <p:spPr>
          <a:xfrm>
            <a:off x="9656640" y="200160"/>
            <a:ext cx="2163960" cy="219708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303120" y="3137040"/>
            <a:ext cx="1160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Georgia"/>
              </a:rPr>
              <a:t>Дисципліна вільного виб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i="1" lang="uk-UA" sz="3600" spc="-1" strike="noStrike">
                <a:solidFill>
                  <a:srgbClr val="00b050"/>
                </a:solidFill>
                <a:latin typeface="Georgia"/>
              </a:rPr>
              <a:t>«Екологічний менеджмент та інжиніринг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Рисунок 5" descr=""/>
          <p:cNvPicPr/>
          <p:nvPr/>
        </p:nvPicPr>
        <p:blipFill>
          <a:blip r:embed="rId2"/>
          <a:stretch/>
        </p:blipFill>
        <p:spPr>
          <a:xfrm>
            <a:off x="309600" y="168120"/>
            <a:ext cx="22273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237960" y="178920"/>
            <a:ext cx="1162368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Навчальний курс надає </a:t>
            </a:r>
            <a:r>
              <a:rPr b="0" lang="ru-RU" sz="2400" spc="-1" strike="noStrike">
                <a:solidFill>
                  <a:srgbClr val="7f7f7f"/>
                </a:solidFill>
                <a:latin typeface="Georgia"/>
              </a:rPr>
              <a:t>поглиблене розуміння сучасних системних теоретико-методологічних уявлень про екологічне управління</a:t>
            </a:r>
            <a:r>
              <a:rPr b="0" lang="uk-UA" sz="2400" spc="-1" strike="noStrike">
                <a:solidFill>
                  <a:srgbClr val="7f7f7f"/>
                </a:solidFill>
                <a:latin typeface="Georgia"/>
              </a:rPr>
              <a:t> та </a:t>
            </a:r>
            <a:r>
              <a:rPr b="0" lang="ru-RU" sz="2400" spc="-1" strike="noStrike">
                <a:solidFill>
                  <a:srgbClr val="7f7f7f"/>
                </a:solidFill>
                <a:latin typeface="Georgia"/>
              </a:rPr>
              <a:t>новітні досягнення в галузі сучасної екології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16349"/>
                </a:solidFill>
                <a:latin typeface="Georgia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Рисунок 1" descr=""/>
          <p:cNvPicPr/>
          <p:nvPr/>
        </p:nvPicPr>
        <p:blipFill>
          <a:blip r:embed="rId1"/>
          <a:stretch/>
        </p:blipFill>
        <p:spPr>
          <a:xfrm>
            <a:off x="3108240" y="1541520"/>
            <a:ext cx="644040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401760" y="1527120"/>
            <a:ext cx="1133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b050"/>
                </a:solidFill>
                <a:latin typeface="Georgia"/>
              </a:rPr>
              <a:t>Задачі курсу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Аналіз </a:t>
            </a:r>
            <a:r>
              <a:rPr b="0" lang="ru-RU" sz="2700" spc="-1" strike="noStrike">
                <a:solidFill>
                  <a:srgbClr val="7f7f7f"/>
                </a:solidFill>
                <a:latin typeface="Georgia"/>
              </a:rPr>
              <a:t>теоретичних знань та практичних навичок щодо застосування в практичній діяльності екологічного законодавства, стандартів (у тому числі міжнародних), норм</a:t>
            </a: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Вміння розробляти екологічну політику підприємства; розуміти, вміти аналізувати і синтезуват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Розроблення вихідних даних для техніко-економічних обґрунтувань промислового проектування екологічної модернізації виробництва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TextBox 3"/>
          <p:cNvSpPr/>
          <p:nvPr/>
        </p:nvSpPr>
        <p:spPr>
          <a:xfrm>
            <a:off x="401760" y="131760"/>
            <a:ext cx="114854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b050"/>
                </a:solidFill>
                <a:latin typeface="Georgia"/>
              </a:rPr>
              <a:t>Мета курсу: </a:t>
            </a:r>
            <a:r>
              <a:rPr b="0" lang="uk-UA" sz="2400" spc="-1" strike="noStrike">
                <a:solidFill>
                  <a:srgbClr val="7f7f7f"/>
                </a:solidFill>
                <a:latin typeface="Georgia"/>
              </a:rPr>
              <a:t>ознайомити здобувачів освіти з </a:t>
            </a:r>
            <a:r>
              <a:rPr b="0" lang="ru-RU" sz="2400" spc="-1" strike="noStrike">
                <a:solidFill>
                  <a:srgbClr val="7f7f7f"/>
                </a:solidFill>
                <a:latin typeface="Georgia"/>
              </a:rPr>
              <a:t>основн</a:t>
            </a:r>
            <a:r>
              <a:rPr b="0" lang="uk-UA" sz="2400" spc="-1" strike="noStrike">
                <a:solidFill>
                  <a:srgbClr val="7f7f7f"/>
                </a:solidFill>
                <a:latin typeface="Georgia"/>
              </a:rPr>
              <a:t>ими</a:t>
            </a:r>
            <a:r>
              <a:rPr b="0" lang="ru-RU" sz="2400" spc="-1" strike="noStrike">
                <a:solidFill>
                  <a:srgbClr val="7f7f7f"/>
                </a:solidFill>
                <a:latin typeface="Georgia"/>
              </a:rPr>
              <a:t> положеннями, принципами, методами й особливостями здійснення екологічного менеджменту та інжинірин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55320" y="1609200"/>
            <a:ext cx="1155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Georgia"/>
              </a:rPr>
              <a:t>Концептуальні положення запровадження екологічного менеджмент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Вступ. Предмет екологічного менеджменту, його зміст, функції та завданн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Принципи, форми та методи екологічного менеджмент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Концепція сталого розвитку суспільства, її сутність та значенн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Система організації екологічного менеджменту підприємства</a:t>
            </a: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Планування - основа екологічного менеджмент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Організація управління природокористування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6" name="Рисунок 1" descr=""/>
          <p:cNvPicPr/>
          <p:nvPr/>
        </p:nvPicPr>
        <p:blipFill>
          <a:blip r:embed="rId1"/>
          <a:stretch/>
        </p:blipFill>
        <p:spPr>
          <a:xfrm>
            <a:off x="7986600" y="3122640"/>
            <a:ext cx="392760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55320" y="1609200"/>
            <a:ext cx="1155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Georgia"/>
              </a:rPr>
              <a:t>Теоретичні основи екологічного інжиніринг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Теоретичні засади екологічного інжиніринг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Технічні, технологічні і проектні рішення як фактор підвищення екологічної безпе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Сучасні екологічні технології та їх зв'язок з розвитком НТП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Система організації екологічного менеджменту підприємства</a:t>
            </a: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Екологічний зміст науково-технічної революції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Рисунок 1" descr=""/>
          <p:cNvPicPr/>
          <p:nvPr/>
        </p:nvPicPr>
        <p:blipFill>
          <a:blip r:embed="rId1"/>
          <a:stretch/>
        </p:blipFill>
        <p:spPr>
          <a:xfrm>
            <a:off x="8258040" y="3070080"/>
            <a:ext cx="352296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b050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55320" y="1609200"/>
            <a:ext cx="1155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7f7f"/>
                </a:solidFill>
                <a:latin typeface="Georgia"/>
              </a:rPr>
              <a:t>Практичні напрями та інструменти впровадження системи екологічного менеджмент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Міжнародні стандарти серії ІSО 14000 як основа систем екологічного менеджменту і аудиту (ЕМАS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Спеціальні сфери застосування екологічного аудит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Аудит систем менеджменту якості та систем управління навколишнім середовище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Оцінка ризику взаємодії з суб’єктами ринку екологічних товарів</a:t>
            </a:r>
            <a:r>
              <a:rPr b="0" lang="en-US" sz="2000" spc="-1" strike="noStrike">
                <a:solidFill>
                  <a:srgbClr val="7f7f7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Теоретичні засади економічного регулювання екологічності діяльності підприємств</a:t>
            </a: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Визначення доцільності застосування методів мотивування екологізації діяльності підприємст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Рисунок 4" descr=""/>
          <p:cNvPicPr/>
          <p:nvPr/>
        </p:nvPicPr>
        <p:blipFill>
          <a:blip r:embed="rId1"/>
          <a:srcRect l="0" t="8839" r="0" b="12386"/>
          <a:stretch/>
        </p:blipFill>
        <p:spPr>
          <a:xfrm>
            <a:off x="8764560" y="4665600"/>
            <a:ext cx="28051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3"/>
          <p:cNvSpPr/>
          <p:nvPr/>
        </p:nvSpPr>
        <p:spPr>
          <a:xfrm>
            <a:off x="901800" y="201600"/>
            <a:ext cx="10488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b050"/>
                </a:solidFill>
                <a:latin typeface="Arial"/>
                <a:ea typeface="Arial"/>
              </a:rPr>
              <a:t>Дякуємо Вам за інтерес до кур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b050"/>
                </a:solidFill>
                <a:latin typeface="Arial"/>
                <a:ea typeface="Arial"/>
              </a:rPr>
              <a:t>«Екологічний менеджмент та інжиніринг</a:t>
            </a:r>
            <a:r>
              <a:rPr b="1" i="1" lang="uk-UA" sz="2800" spc="-1" strike="noStrike">
                <a:solidFill>
                  <a:srgbClr val="92d050"/>
                </a:solidFill>
                <a:latin typeface="Arial"/>
                <a:ea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Рисунок 2" descr=""/>
          <p:cNvPicPr/>
          <p:nvPr/>
        </p:nvPicPr>
        <p:blipFill>
          <a:blip r:embed="rId1"/>
          <a:stretch/>
        </p:blipFill>
        <p:spPr>
          <a:xfrm>
            <a:off x="3755880" y="1585800"/>
            <a:ext cx="478008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1T15:48:04Z</dcterms:created>
  <dc:creator>Дмитрий Зинченко</dc:creator>
  <dc:description/>
  <dc:language>en-US</dc:language>
  <cp:lastModifiedBy>Пользователь 1</cp:lastModifiedBy>
  <dcterms:modified xsi:type="dcterms:W3CDTF">2020-07-31T09:19:17Z</dcterms:modified>
  <cp:revision>55</cp:revision>
  <dc:subject/>
  <dc:title>ХЕРСОНСЬКИЙ ДЕРЖАВНИЙ УНІВЕРСИТЕТ</dc:title>
</cp:coreProperties>
</file>