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31F-E925-4335-9DD4-2995B589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95E-D3FC-42D5-B2C1-7505A5E3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70274-0AE8-4756-AE35-16036A3D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21E1E-8D7A-41D9-865A-E04F1D99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2A4DB-600D-4ABE-8E80-F330D358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6A1FE-FBDA-450E-A31F-B4528D53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5C06D-C197-4C61-95F4-51C82F52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ACEDD-D3FC-49BE-B060-2980B458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808DA-DFCC-47CD-B7FA-179863F0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6F9FF-EDC7-44FF-8F79-EED3EF4E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D19CE-850C-48FD-892F-3DAB24E2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EC67E-A51A-4181-8ECE-08ACA694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D43-4EA5-46BF-B590-D1DC06D0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51AF1-B2D4-484D-A6B0-3E84E1C4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17D7E-FA43-4D75-AC17-E2FE5D02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D8FD1-E0E7-4CAC-91D3-94C1F729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FB1C0-7A2D-49E4-A308-FF8BE66D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10885-3559-4878-BFF5-C0B3C96B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FB22F-3B9E-45D1-8C0F-7D1C9365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0341E-B9B8-4134-A1CB-587DA00C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7548F-2129-4804-9625-CF35DA4B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03F76-52F9-41E1-9EA5-66CFDB65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76E47-B22D-4868-8250-953B4849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052-8D78-4FBA-B7F9-BAC4F5C3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55B9D-8C68-449E-BF5B-0C9CB17F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49AE3-E992-4D9D-A5F1-4471EDE7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1F110-DCFF-4799-887E-1F6EE1C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E5DD7-7F01-4A86-9AE0-BFB1C193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5CD46-C3CF-45F7-9ECC-8C3F3733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BF5D8-A5C4-4325-ACE5-BD46957C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E9466-B188-4528-B442-F710B8E1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8FA2D-5C71-4269-A838-5B9C18B5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F76F3-ABAA-4EC5-9096-0FF36FB3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1AF0E-5CC6-4189-9326-5DEA9924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617F-0F1D-4DC0-BD09-BD06867F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81CBB-8ED6-4316-8E86-C0B14F53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C6187-D3EE-4E08-AF86-7D1A2DE3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EC50E-9462-4F45-B556-3016C938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586EC-2F5E-4EBD-9E4F-5BBE9314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9FF9F-0189-419D-AD07-F0E34AE2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8897D-C26F-40BC-9045-02E56694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191B6-0A3D-49A9-BC84-2B1D489F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7FBE5-7745-48E2-B8EE-7D3B98D2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1844C-352E-4DD9-A2EC-A99ADBAE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70AEE-891D-4AFD-88C9-46BD6063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C307-4C76-4467-B373-9ACAA9F3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72D33-054E-402C-9E55-62429AE2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E4CC5-1549-4C17-9D23-41E182B0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34BAD-F212-4C7F-8C45-2F5FD086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0028AC-C290-48A0-A6D5-F7F456EC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440EE-BA3E-46C6-81BD-B655F22E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5A5D-5F3A-4F3E-B10A-D84171A5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2CA8-52E3-426E-9DF4-5BA35119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1000-D93B-486B-883E-98B0B371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A2BF-4423-45B4-965D-A2D07672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A931-917F-4290-8147-49E121CC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49B-C059-440F-B557-2F4659A2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CA4A-0C86-40E9-A5B2-FB87191F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06D0-77F3-447E-AAF5-38B47DFF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BF67-5355-45E9-A82E-078AE850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B21C-FCAF-4B11-BF82-DEA5C3B0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7211-FEB2-4E86-AA48-FABEC45C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CFEA3-98C8-4A4B-BF42-A75A094D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5C73-C31B-4236-9F14-CFDD6810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FF31-F546-4838-9466-5EBF3ECD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8545-995E-49EA-A19E-E149211B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3EE3-3E75-4318-A716-30F4F605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34C-60CF-4E61-8D59-B26BB8DD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1A9B-5C22-4003-B9CB-F4B37C9D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3B389-77B3-45D5-84F3-A21A9C28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4D48-8B1E-4FF2-96B1-981F7532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D061B-E2C5-4BAF-877E-D5B1A88B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D063-45E0-4606-B4C4-AF8B583D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5CAF7-41AE-40B2-8E79-F680B855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413F-A1C9-4D7B-BF29-B4D71D38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A443-5327-4138-8EC7-5D0A2173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95A4-915E-4D60-A353-2C96FC97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D287-4862-455D-870F-1FE5637B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6D1-6CED-4800-84C2-7700A57E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33DE-3DCF-4D66-ACFB-EC23DB76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159F-DE04-4DA8-AB7B-40DDABFC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34FD-A497-4CF0-BFF4-2B1D7A94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3C0EA-F19F-4CB2-9446-EBDADCFB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D542-EEF4-4E4F-B675-EF8EEFCD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19ED6-A42F-4E1E-8341-F8E7D4FD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D1CC3-185C-495A-A540-9AD4AB50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8AA4C-53E9-4BE2-A70E-BC158390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D7CBC-F5BB-441D-B0AE-C792EF65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8BFA6-70BA-4F8C-BA4D-8FB5C3A7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9AA-1788-478F-8DDA-4F9CD156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946F6-4D4F-4DF5-B069-1109D467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7ABA1-DA1C-4AAF-B05E-9CAD33D7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AEDAE-8EA3-4560-A92A-CF250E8B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6489D-FE9F-4867-B99E-8D939339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4048-1E9B-4DD9-B941-54D6E027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9B474-AE48-4D3C-ABB7-98386D64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0DC46-AB85-4834-8F7B-96B8827F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C3F53-E358-4ABA-9E28-648227B6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27C3-41DA-43F5-93D2-3C1F2FA0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03EC1-9AD5-4E92-8BDE-2BDCB109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936-27EE-4BE7-990B-8B811086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057FD-23CF-41D7-BFA0-60D07CA0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A5C3D-BDE6-4081-B546-F219111C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1471E-7154-4520-B926-4D83E1CE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9771A-E308-472C-9870-5D137F81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5282D-57A8-4AF2-8D96-D27F6E36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ED079-0771-4E19-AB3A-F7BE6D18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82BD7-CAD7-40CA-9702-C7415B93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7DBE5-7A43-4177-983E-3AC9C8AB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348B-B272-480E-A25A-AFF55FF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AAB9C-2688-44AC-8600-56DF1482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BD5-25B0-4680-93C5-A1414D2B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CE6EB-35E1-4039-BF1F-E125BC75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4AF89-C860-4F65-B786-3E9F7C48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77996-088E-4361-82E4-0A68025F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798AA-292C-4025-9BDC-FD49F8A5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71EA6-D9C4-4BBE-8C04-01568A6F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55F7D-3A66-4FC0-B142-76E9817B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97270-3B72-4FCF-A385-C965FBA8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10BEB-D87C-424E-9303-CBB7726E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7E58B-CC83-4AFB-9F69-6B6D226B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21A75-7BD2-49A1-8F8A-CC03E102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322-1125-4A79-8D78-6EB39E44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308C6-DC4B-4530-ADDD-9BE3177B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194D8-FD43-4F8B-BEBD-7D8F93A7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6B868-1014-4A0E-BB7D-8F57E063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C6631-EF95-4686-8F7C-D5D4F6DD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E6234-E80D-4B2C-BB5E-C7C726B1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4A62A-42A9-4D89-B945-3182F795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2F18F-F1FB-4FFB-B172-D5386061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DECE7-9770-4925-8C03-83275D45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C4EF5-5170-45BB-A4CC-C5E5A95B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E29B1-E411-40D6-B4F5-7AE744F4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C98-D5B0-4C54-8013-6AB600E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725C2-6474-475B-85E2-ABBD28EA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E76CB-17DC-47D6-B53E-90B7B6C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4CC24-F319-444C-B78B-20DA8B0E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DDB49-0D1C-4D12-BDB9-8E7DD853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86AB9-2E46-4208-AEC9-83F958D4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03ECA-B104-407D-9C52-706F8CDA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799CD-BC8F-4FCE-ABB0-ACE9A50F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C802A-08E6-40F1-85A6-FEBD0A7E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2A8C5-0412-4DAC-BE51-CEE6C425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934FC-FD02-42C5-BFA2-D28B26AF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11E3-8FED-484B-9984-133E3FC81FE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203040" y="152280"/>
            <a:ext cx="117777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64AC-F21D-4F59-A09D-912FEA6F96E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7716960" y="640548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401400" y="6409800"/>
            <a:ext cx="4779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5003-E62F-4D2F-A4FC-BB37EB0BE37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9347040" y="0"/>
            <a:ext cx="2845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952668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9120240" y="292572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9245520" y="3021120"/>
            <a:ext cx="56052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9221400" y="300996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0F74-6097-42C5-8506-6C81D291361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11988720" y="324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121921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208080" y="2419200"/>
            <a:ext cx="11775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B425-7E9D-4FC5-B4BF-08C71114E61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814720" y="10270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5A14-F852-4CE3-B5C9-A1D138717F4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11988720" y="1908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203040" y="2286000"/>
            <a:ext cx="11777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208080" y="142920"/>
            <a:ext cx="11775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203040" y="243828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CF97-9317-41DB-8155-6A6905B87A3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6084720" y="1576080"/>
            <a:ext cx="111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7721640" y="6409800"/>
            <a:ext cx="4059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E2D0-2B3A-4F49-A789-C297D0B5AC6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609588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12192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203040" y="1371600"/>
            <a:ext cx="117777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95120" y="6391440"/>
            <a:ext cx="1177632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203040" y="127944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406440" y="6409800"/>
            <a:ext cx="4775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5790960" y="10429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E9A6-5FB5-4BBE-8203-A50CBD08C50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5790960" y="1036440"/>
            <a:ext cx="60948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90C2-4312-49B6-A01E-4729E878699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203040" y="15876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5689440" y="6324480"/>
            <a:ext cx="8128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87E2-CD6B-462F-A801-00D0A40B7E49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203040" y="152280"/>
            <a:ext cx="117777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12192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2B44-E4FD-4DD3-8250-9403F466E78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401760" y="6409800"/>
            <a:ext cx="4511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41000" y="1488960"/>
            <a:ext cx="9526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35e40"/>
                </a:solidFill>
                <a:latin typeface="Georgia"/>
              </a:rPr>
              <a:t>ХЕРСОНСЬКИЙ ДЕРЖАВНИЙ УНІВЕРСИТЕТ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Факультет біології, географії і екології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Кафедра географії та екології</a:t>
            </a:r>
            <a:br>
              <a:rPr sz="36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Рисунок 5" descr=""/>
          <p:cNvPicPr/>
          <p:nvPr/>
        </p:nvPicPr>
        <p:blipFill>
          <a:blip r:embed="rId1"/>
          <a:stretch/>
        </p:blipFill>
        <p:spPr>
          <a:xfrm>
            <a:off x="9656640" y="200160"/>
            <a:ext cx="2163960" cy="219708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303120" y="3137040"/>
            <a:ext cx="1160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Georgia"/>
              </a:rPr>
              <a:t>Дисципліна вільного виб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i="1" lang="uk-UA" sz="3600" spc="-1" strike="noStrike">
                <a:solidFill>
                  <a:srgbClr val="00b050"/>
                </a:solidFill>
                <a:latin typeface="Georgia"/>
              </a:rPr>
              <a:t>«Екологічний менеджмент та інжинірин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Рисунок 5" descr=""/>
          <p:cNvPicPr/>
          <p:nvPr/>
        </p:nvPicPr>
        <p:blipFill>
          <a:blip r:embed="rId2"/>
          <a:stretch/>
        </p:blipFill>
        <p:spPr>
          <a:xfrm>
            <a:off x="309600" y="168120"/>
            <a:ext cx="22273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237960" y="178920"/>
            <a:ext cx="1162368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Навчальний курс надає </a:t>
            </a:r>
            <a:r>
              <a:rPr b="0" lang="ru-RU" sz="2400" spc="-1" strike="noStrike">
                <a:solidFill>
                  <a:srgbClr val="7f7f7f"/>
                </a:solidFill>
                <a:latin typeface="Georgia"/>
              </a:rPr>
              <a:t>поглиблене розуміння сучасних системних теоретико-методологічних уявлень про екологічне управління</a:t>
            </a:r>
            <a:r>
              <a:rPr b="0" lang="uk-UA" sz="2400" spc="-1" strike="noStrike">
                <a:solidFill>
                  <a:srgbClr val="7f7f7f"/>
                </a:solidFill>
                <a:latin typeface="Georgia"/>
              </a:rPr>
              <a:t> та </a:t>
            </a:r>
            <a:r>
              <a:rPr b="0" lang="ru-RU" sz="2400" spc="-1" strike="noStrike">
                <a:solidFill>
                  <a:srgbClr val="7f7f7f"/>
                </a:solidFill>
                <a:latin typeface="Georgia"/>
              </a:rPr>
              <a:t>новітні досягнення в галузі сучасної екології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16349"/>
                </a:solidFill>
                <a:latin typeface="Georgi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Рисунок 1" descr=""/>
          <p:cNvPicPr/>
          <p:nvPr/>
        </p:nvPicPr>
        <p:blipFill>
          <a:blip r:embed="rId1"/>
          <a:stretch/>
        </p:blipFill>
        <p:spPr>
          <a:xfrm>
            <a:off x="3108240" y="1541520"/>
            <a:ext cx="64404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01760" y="1527120"/>
            <a:ext cx="1133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b050"/>
                </a:solidFill>
                <a:latin typeface="Georgia"/>
              </a:rPr>
              <a:t>Задачі курсу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Аналіз </a:t>
            </a:r>
            <a:r>
              <a:rPr b="0" lang="ru-RU" sz="2700" spc="-1" strike="noStrike">
                <a:solidFill>
                  <a:srgbClr val="7f7f7f"/>
                </a:solidFill>
                <a:latin typeface="Georgia"/>
              </a:rPr>
              <a:t>теоретичних знань та практичних навичок щодо застосування в практичній діяльності екологічного законодавства, стандартів (у тому числі міжнародних), норм</a:t>
            </a: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Вміння розробляти екологічну політику підприємства; розуміти, вміти аналізувати і синтезуват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Розроблення вихідних даних для техніко-економічних обґрунтувань промислового проектування екологічної модернізації виробництв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TextBox 3"/>
          <p:cNvSpPr/>
          <p:nvPr/>
        </p:nvSpPr>
        <p:spPr>
          <a:xfrm>
            <a:off x="401760" y="131760"/>
            <a:ext cx="114854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b050"/>
                </a:solidFill>
                <a:latin typeface="Georgia"/>
              </a:rPr>
              <a:t>Мета курсу: </a:t>
            </a:r>
            <a:r>
              <a:rPr b="0" lang="uk-UA" sz="2400" spc="-1" strike="noStrike">
                <a:solidFill>
                  <a:srgbClr val="7f7f7f"/>
                </a:solidFill>
                <a:latin typeface="Georgia"/>
              </a:rPr>
              <a:t>ознайомити здобувачів освіти з </a:t>
            </a:r>
            <a:r>
              <a:rPr b="0" lang="ru-RU" sz="2400" spc="-1" strike="noStrike">
                <a:solidFill>
                  <a:srgbClr val="7f7f7f"/>
                </a:solidFill>
                <a:latin typeface="Georgia"/>
              </a:rPr>
              <a:t>основн</a:t>
            </a:r>
            <a:r>
              <a:rPr b="0" lang="uk-UA" sz="2400" spc="-1" strike="noStrike">
                <a:solidFill>
                  <a:srgbClr val="7f7f7f"/>
                </a:solidFill>
                <a:latin typeface="Georgia"/>
              </a:rPr>
              <a:t>ими</a:t>
            </a:r>
            <a:r>
              <a:rPr b="0" lang="ru-RU" sz="2400" spc="-1" strike="noStrike">
                <a:solidFill>
                  <a:srgbClr val="7f7f7f"/>
                </a:solidFill>
                <a:latin typeface="Georgia"/>
              </a:rPr>
              <a:t> положеннями, принципами, методами й особливостями здійснення екологічного менеджменту та інжинір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01400" y="286920"/>
            <a:ext cx="1137924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Програма навчальної дисциплін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55320" y="1609200"/>
            <a:ext cx="11558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Georgia"/>
              </a:rPr>
              <a:t>Концептуальні положення запровадження екологічного менеджмент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Вступ. Предмет екологічного менеджменту, його зміст, функції та завданн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Принципи, форми та методи екологічного менеджмент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Концепція сталого розвитку суспільства, її сутність та значенн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Система організації екологічного менеджменту підприємства</a:t>
            </a: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Планування - основа екологічного менеджмент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Організація управління природокористування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Рисунок 1" descr=""/>
          <p:cNvPicPr/>
          <p:nvPr/>
        </p:nvPicPr>
        <p:blipFill>
          <a:blip r:embed="rId1"/>
          <a:stretch/>
        </p:blipFill>
        <p:spPr>
          <a:xfrm>
            <a:off x="7986600" y="3122640"/>
            <a:ext cx="39276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01400" y="286920"/>
            <a:ext cx="1137924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Програма навчальної дисциплін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55320" y="1609200"/>
            <a:ext cx="11558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Georgia"/>
              </a:rPr>
              <a:t>Теоретичні основи екологічного інжиніринг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Теоретичні засади екологічного інжиніринг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Технічні, технологічні і проектні рішення як фактор підвищення екологічної безпе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Сучасні екологічні технології та їх зв'язок з розвитком НТП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Система організації екологічного менеджменту підприємства</a:t>
            </a: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Екологічний зміст науково-технічної революції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Рисунок 1" descr=""/>
          <p:cNvPicPr/>
          <p:nvPr/>
        </p:nvPicPr>
        <p:blipFill>
          <a:blip r:embed="rId1"/>
          <a:stretch/>
        </p:blipFill>
        <p:spPr>
          <a:xfrm>
            <a:off x="8258040" y="3070080"/>
            <a:ext cx="35229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01400" y="286920"/>
            <a:ext cx="1137924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Програма навчальної дисциплін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55320" y="1609200"/>
            <a:ext cx="11558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Georgia"/>
              </a:rPr>
              <a:t>Практичні напрями та інструменти впровадження системи екологічного менеджмент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Міжнародні стандарти серії ІSО 14000 як основа систем екологічного менеджменту і аудиту (ЕМАS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Спеціальні сфери застосування екологічного аудит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Аудит систем менеджменту якості та систем управління навколишнім середовищ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Оцінка ризику взаємодії з суб’єктами ринку екологічних товарів</a:t>
            </a:r>
            <a:r>
              <a:rPr b="0" lang="en-US" sz="2000" spc="-1" strike="noStrike">
                <a:solidFill>
                  <a:srgbClr val="7f7f7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Теоретичні засади економічного регулювання екологічності діяльності підприємств</a:t>
            </a: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Визначення доцільності застосування методів мотивування екологізації діяльності підприємст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Рисунок 4" descr=""/>
          <p:cNvPicPr/>
          <p:nvPr/>
        </p:nvPicPr>
        <p:blipFill>
          <a:blip r:embed="rId1"/>
          <a:srcRect l="0" t="8839" r="0" b="12386"/>
          <a:stretch/>
        </p:blipFill>
        <p:spPr>
          <a:xfrm>
            <a:off x="8764560" y="4665600"/>
            <a:ext cx="28051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3"/>
          <p:cNvSpPr/>
          <p:nvPr/>
        </p:nvSpPr>
        <p:spPr>
          <a:xfrm>
            <a:off x="901800" y="201600"/>
            <a:ext cx="1048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b050"/>
                </a:solidFill>
                <a:latin typeface="Arial"/>
                <a:ea typeface="Arial"/>
              </a:rPr>
              <a:t>Дякуємо Вам за інтерес до кур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b050"/>
                </a:solidFill>
                <a:latin typeface="Arial"/>
                <a:ea typeface="Arial"/>
              </a:rPr>
              <a:t>«Екологічний менеджмент та інжиніринг</a:t>
            </a:r>
            <a:r>
              <a:rPr b="1" i="1" lang="uk-UA" sz="2800" spc="-1" strike="noStrike">
                <a:solidFill>
                  <a:srgbClr val="92d050"/>
                </a:solidFill>
                <a:latin typeface="Arial"/>
                <a:ea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Рисунок 2" descr=""/>
          <p:cNvPicPr/>
          <p:nvPr/>
        </p:nvPicPr>
        <p:blipFill>
          <a:blip r:embed="rId1"/>
          <a:stretch/>
        </p:blipFill>
        <p:spPr>
          <a:xfrm>
            <a:off x="3755880" y="1585800"/>
            <a:ext cx="47800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1T15:48:04Z</dcterms:created>
  <dc:creator>Дмитрий Зинченко</dc:creator>
  <dc:description/>
  <dc:language>en-US</dc:language>
  <cp:lastModifiedBy>Пользователь 1</cp:lastModifiedBy>
  <dcterms:modified xsi:type="dcterms:W3CDTF">2020-07-31T09:19:17Z</dcterms:modified>
  <cp:revision>55</cp:revision>
  <dc:subject/>
  <dc:title>ХЕРСОНСЬКИЙ ДЕРЖАВНИЙ УНІВЕРСИТЕТ</dc:title>
</cp:coreProperties>
</file>