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5164-7E0B-43DE-93AC-8C303A13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2807-67E1-4FD6-97F0-EE86DBD55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C83-7C81-44E7-AE54-8A97CA8A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E69-1979-4EAF-A331-895D51A5F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2FA6-1AD0-409D-8C25-470790213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84F5-85CF-420A-A46D-2D8AF6EF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7E7E-FDC8-4218-9700-FF77A21B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062C-66F0-43A0-B4E3-3ED87FF36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034-C0BD-42E3-8C36-396876B2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E66E-F7F1-41C5-9A1A-F4609A13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94E8-1092-4162-9907-C371120F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F290-C304-4058-8F88-B65CEDA9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C167-2ED5-4E13-9743-E156FD025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lena-kuzmina.blogspot.com/2014/03/nrdc-tell-epa-to-protect-monarchs.html" TargetMode="External"/><Relationship Id="rId3" Type="http://schemas.openxmlformats.org/officeDocument/2006/relationships/hyperlink" Target="http://elena-kuzmina.blogspot.com/2014/03/nrdc-tell-epa-to-protect-monarchs.html" TargetMode="External"/><Relationship Id="rId4" Type="http://schemas.openxmlformats.org/officeDocument/2006/relationships/hyperlink" Target="http://elena-kuzmina.blogspot.com/2014/03/nrdc-tell-epa-to-protect-monarchs.html" TargetMode="External"/><Relationship Id="rId5" Type="http://schemas.openxmlformats.org/officeDocument/2006/relationships/hyperlink" Target="http://elena-kuzmina.blogspot.com/2014/03/nrdc-tell-epa-to-protect-monarchs.html" TargetMode="External"/><Relationship Id="rId6" Type="http://schemas.openxmlformats.org/officeDocument/2006/relationships/hyperlink" Target="http://elena-kuzmina.blogspot.com/2014/03/nrdc-tell-epa-to-protect-monarchs.html" TargetMode="External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Відпочинок на Херсонщині не кожному по кишені - Херсон Daily"/>
          <p:cNvPicPr/>
          <p:nvPr/>
        </p:nvPicPr>
        <p:blipFill>
          <a:blip r:embed="rId1"/>
          <a:stretch/>
        </p:blipFill>
        <p:spPr>
          <a:xfrm>
            <a:off x="-380880" y="0"/>
            <a:ext cx="98298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Екологічні проблеми Українського Причорномор’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920" y="2895480"/>
            <a:ext cx="8610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світня програма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Еколог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пеціальність 101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кологі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алузь знань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10 Природничі на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ший (бакалаврський) рівень вищої осві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4680" y="198108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біркова компонента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89080"/>
            <a:ext cx="55627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Фото : </a:t>
            </a:r>
            <a:r>
              <a:rPr b="0" lang="ru-RU" sz="5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5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5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lena-kuzmina.blogspot.com</a:t>
            </a:r>
            <a:r>
              <a:rPr b="0" lang="ru-RU" sz="5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/2014/03/</a:t>
            </a:r>
            <a:r>
              <a:rPr b="0" lang="ru-RU" sz="5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nrdc-tell-epa-to-protect-monarchs.html</a:t>
            </a: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Куда поехать в Херсонской области: отдых на море и на природе"/>
          <p:cNvPicPr/>
          <p:nvPr/>
        </p:nvPicPr>
        <p:blipFill>
          <a:blip r:embed="rId1"/>
          <a:stretch/>
        </p:blipFill>
        <p:spPr>
          <a:xfrm>
            <a:off x="-609480" y="0"/>
            <a:ext cx="10515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Мет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23320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666880"/>
            <a:ext cx="9067680" cy="27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формування знань про основні сучасні екологічні проблеми регіону, особливості впливу людини на природне середовище, локальні методи управління процесами природокористуванн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Бюджетный отдых в Железном Порту: 3 недорогих отеля"/>
          <p:cNvPicPr/>
          <p:nvPr/>
        </p:nvPicPr>
        <p:blipFill>
          <a:blip r:embed="rId1"/>
          <a:stretch/>
        </p:blipFill>
        <p:spPr>
          <a:xfrm>
            <a:off x="-609480" y="0"/>
            <a:ext cx="10896480" cy="6810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Завдання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своєння знань про основні екологічні проблеми Українського Причорномор’я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закріплення уявлень про регіональні особливості регіо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ння знань про особливості впливу антропогенних чинників на природне середовище та його зворотну ді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формування навичок використання методів екологічного менеджменту, аудиту і маркетингу на практиці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4 причины посетить Херсон и Херсонскую область - Ukraine IS"/>
          <p:cNvPicPr/>
          <p:nvPr/>
        </p:nvPicPr>
        <p:blipFill>
          <a:blip r:embed="rId1"/>
          <a:stretch/>
        </p:blipFill>
        <p:spPr>
          <a:xfrm>
            <a:off x="-533520" y="-17640"/>
            <a:ext cx="10972800" cy="6875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ограма кур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Загальні особливості Українського Причорномор’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кологічний стан природних ресурсів (водні, земельні, мінерально-сировинні, лісові ресурси, біорізноманіття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Антропогенний вплив на довкілля регіон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Основні напрями регіонального регулювання та управління в сфері охорони навколишнього природного середови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6T10:38:18Z</dcterms:created>
  <dc:creator>Админ</dc:creator>
  <dc:description/>
  <dc:language>en-US</dc:language>
  <cp:lastModifiedBy>Пользователь Windows</cp:lastModifiedBy>
  <dcterms:modified xsi:type="dcterms:W3CDTF">2020-07-30T09:12:0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