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364-A43D-4EC7-B843-73358076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8DB-FE5E-4F1D-83BB-4D550BC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484-0E2D-4891-A49C-AA370EBF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CF3-E43C-4A75-B6A4-7DFA4905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BCA-0248-47D2-AEE2-76D8D24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459-742C-45D2-A674-FAF2D13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E8D-800E-49DE-A734-9149204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DAC-303E-4F2A-8B0F-9943C3D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DAA-D3C2-4CFA-A0B3-C092A812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51C-B975-4C52-AF5F-0FF19E7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F7C-021C-4E0C-AFFE-B10D0F7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A51-10B3-47F4-8CE4-AF243E0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76E-C164-4D44-A9F1-28E75375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ena-kuzmina.blogspot.com/2014/03/nrdc-tell-epa-to-protect-monarchs.html" TargetMode="External"/><Relationship Id="rId3" Type="http://schemas.openxmlformats.org/officeDocument/2006/relationships/hyperlink" Target="http://elena-kuzmina.blogspot.com/2014/03/nrdc-tell-epa-to-protect-monarchs.html" TargetMode="External"/><Relationship Id="rId4" Type="http://schemas.openxmlformats.org/officeDocument/2006/relationships/hyperlink" Target="http://elena-kuzmina.blogspot.com/2014/03/nrdc-tell-epa-to-protect-monarchs.html" TargetMode="External"/><Relationship Id="rId5" Type="http://schemas.openxmlformats.org/officeDocument/2006/relationships/hyperlink" Target="http://elena-kuzmina.blogspot.com/2014/03/nrdc-tell-epa-to-protect-monarchs.html" TargetMode="External"/><Relationship Id="rId6" Type="http://schemas.openxmlformats.org/officeDocument/2006/relationships/hyperlink" Target="http://elena-kuzmina.blogspot.com/2014/03/nrdc-tell-epa-to-protect-monarchs.html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Відпочинок на Херсонщині не кожному по кишені - Херсон Daily"/>
          <p:cNvPicPr/>
          <p:nvPr/>
        </p:nvPicPr>
        <p:blipFill>
          <a:blip r:embed="rId1"/>
          <a:stretch/>
        </p:blipFill>
        <p:spPr>
          <a:xfrm>
            <a:off x="-38088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кологічні проблеми Українського Причорномор’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вітня програм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Еко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пеціальність 101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алузь знан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10 Природничі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ший (бакалаврський) рівень вищої 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4680" y="198108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біркова компонента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89080"/>
            <a:ext cx="5562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Фото : 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lena-kuzmina.blogspot.com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014/03/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rdc-tell-epa-to-protect-monarchs.html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уда поехать в Херсонской области: отдых на море и на природе"/>
          <p:cNvPicPr/>
          <p:nvPr/>
        </p:nvPicPr>
        <p:blipFill>
          <a:blip r:embed="rId1"/>
          <a:stretch/>
        </p:blipFill>
        <p:spPr>
          <a:xfrm>
            <a:off x="-609480" y="0"/>
            <a:ext cx="10515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2332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6880"/>
            <a:ext cx="906768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знань про основні сучасні екологічні проблеми регіону, особливості впливу людини на природне середовище, локальні методи управління процесами природокористу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Бюджетный отдых в Железном Порту: 3 недорогих отеля"/>
          <p:cNvPicPr/>
          <p:nvPr/>
        </p:nvPicPr>
        <p:blipFill>
          <a:blip r:embed="rId1"/>
          <a:stretch/>
        </p:blipFill>
        <p:spPr>
          <a:xfrm>
            <a:off x="-609480" y="0"/>
            <a:ext cx="10896480" cy="681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вдання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воєння знань про основні екологічні проблеми Українського Причорномор’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ріплення уявлень про регіональні особливості регі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знань про особливості впливу антропогенних чинників на природне середовище та його зворотну д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навичок використання методів екологічного менеджменту, аудиту і маркетингу на практиц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4 причины посетить Херсон и Херсонскую область - Ukraine IS"/>
          <p:cNvPicPr/>
          <p:nvPr/>
        </p:nvPicPr>
        <p:blipFill>
          <a:blip r:embed="rId1"/>
          <a:stretch/>
        </p:blipFill>
        <p:spPr>
          <a:xfrm>
            <a:off x="-533520" y="-17640"/>
            <a:ext cx="1097280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грам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особливості Українського Причорномор’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логічний стан природних ресурсів (водні, земельні, мінерально-сировинні, лісові ресурси, біорізноманітт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тропогенний вплив на довкілля регі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напрями регіонального регулювання та управління в сфері охорони навколишнього природного середов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6T10:38:18Z</dcterms:created>
  <dc:creator>Админ</dc:creator>
  <dc:description/>
  <dc:language>en-US</dc:language>
  <cp:lastModifiedBy>Пользователь Windows</cp:lastModifiedBy>
  <dcterms:modified xsi:type="dcterms:W3CDTF">2020-07-30T09:12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