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1181-D6EF-43D5-A468-32AA48962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85FF-CF13-45F8-A14F-04E4B82C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4B6-4328-403F-8250-6F51B58CE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3E58-93BE-41B1-97E5-57B7D821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A45C-F371-41FE-B482-1F837F35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50B-E397-4130-9609-F2A2F7F1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9508-BD1D-4768-8AB2-026148DB9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9348-1EDE-4F99-BEEC-D77284E4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1695-80DA-447B-8A86-86566401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CF25-D1C6-4FEF-8EFC-D32C65F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52B5-550C-453B-941B-41C330FC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572-829B-4FDF-AA3F-56DBB848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50CA-83A8-4925-995B-25CC79AC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D56-A816-4788-A759-BBE2AE8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AAE4-B751-4E43-9CCB-CF06D753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72D-2562-4E05-B124-5C52C450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47F-4A8E-44FA-BFB0-AA260BCD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1604-7628-4A68-AA5E-8520294CF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E2C8-3D4E-474C-B821-EC5D43D5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19B5A-A575-423B-93F5-4A490CF7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2DD0-C3D6-43D7-A01F-F5CC7B8B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44DBF-BE48-4FD7-AEB0-ECE56A7F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F64C-9775-457D-98DB-BCA34559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1C8D1-0F78-47C1-AB01-ABD6B2D89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7CD-79CF-4F26-9831-3089DB82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165D-FC52-4CB1-B4B3-F1E6A649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FF1BE-ED3A-4922-B93F-7F00A4E1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3971E-0948-4874-8A95-3B3DBFD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A742-7244-4FC9-8765-D090B087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E108-7CA1-4D6D-9D55-86FC8B80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7AB0-B7CC-492A-B64E-79F6D697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9E38D-9EC5-4B2F-9353-1D7BA2BD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EA429-D14B-4246-BC8C-D8F29BB1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03CC0-94DD-4BB7-BF88-2CBD4B57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90A03-A843-4D86-A7B8-5F4964A1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715-11EF-40A0-A0E3-66A2898B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CD021-FA71-495D-9B21-5AF23272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6151D-8FA7-45D0-BEDF-3A0DA6EA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290E5-60DC-45B6-B973-B3E8C82F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C22E7-6A8A-44CC-8CB6-109021C5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9F07-A750-4BD8-9D0B-041F1003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C7B54-D0AF-4333-8A18-5FDB1712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26155-C597-4A89-8DD7-7830739B9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FD9F-659E-40D8-8D8D-ABB562D8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215B0-69E6-44E1-AF1C-5B33872B3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ECF-896C-411A-8BB0-E90B52D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F13-159F-4CBE-828C-29B906BCF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C68D-2C8E-4E02-A5A4-567919D8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8B2-12F3-41CF-BB12-F4A7996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789-C05A-43BC-8B0C-B14BCD8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0305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7f8fa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f9fb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7f8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a66a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2d5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87BB-7E29-44AE-8C9E-BAD44761EBD3}" type="slidenum">
              <a:rPr b="0" lang="en-US" sz="1200" spc="-1" strike="noStrike">
                <a:solidFill>
                  <a:srgbClr val="892d5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7f8fa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f9fb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7f8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a66a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5A55-6DE9-4B75-A764-0F70DD67F858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7f8fa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f9fb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7f8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a66a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11CA-7940-41F5-A015-274957337017}" type="slidenum">
              <a:rPr b="0" lang="en-US" sz="1200" spc="-1" strike="noStrike">
                <a:solidFill>
                  <a:srgbClr val="cce1f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90305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7f8fa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df9fb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7f8fa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4a66a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2d5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C19-72EB-4DB1-8879-1253A1C8180B}" type="slidenum">
              <a:rPr b="0" lang="en-US" sz="1200" spc="-1" strike="noStrike">
                <a:solidFill>
                  <a:srgbClr val="892d5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840280" y="2706840"/>
            <a:ext cx="3316320" cy="1706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C:\Users\Tatyana\Desktop\images (3).jpg"/>
          <p:cNvPicPr/>
          <p:nvPr/>
        </p:nvPicPr>
        <p:blipFill>
          <a:blip r:embed="rId2"/>
          <a:srcRect l="0" t="0" r="0" b="21139"/>
          <a:stretch/>
        </p:blipFill>
        <p:spPr>
          <a:xfrm>
            <a:off x="-4680" y="-674640"/>
            <a:ext cx="9386640" cy="864720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2" descr=""/>
          <p:cNvPicPr/>
          <p:nvPr/>
        </p:nvPicPr>
        <p:blipFill>
          <a:blip r:embed="rId3"/>
          <a:stretch/>
        </p:blipFill>
        <p:spPr>
          <a:xfrm>
            <a:off x="-219240" y="3773520"/>
            <a:ext cx="97473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AutoShape 17"/>
          <p:cNvSpPr/>
          <p:nvPr/>
        </p:nvSpPr>
        <p:spPr>
          <a:xfrm>
            <a:off x="882720" y="901800"/>
            <a:ext cx="6357960" cy="5616360"/>
          </a:xfrm>
          <a:prstGeom prst="roundRect">
            <a:avLst>
              <a:gd name="adj" fmla="val 10810"/>
            </a:avLst>
          </a:prstGeom>
          <a:gradFill rotWithShape="0">
            <a:gsLst>
              <a:gs pos="0">
                <a:srgbClr val="6c234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6c24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23"/>
          <p:cNvSpPr/>
          <p:nvPr/>
        </p:nvSpPr>
        <p:spPr>
          <a:xfrm>
            <a:off x="882720" y="48322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6"/>
          <p:cNvGrpSpPr/>
          <p:nvPr/>
        </p:nvGrpSpPr>
        <p:grpSpPr>
          <a:xfrm>
            <a:off x="264960" y="1295280"/>
            <a:ext cx="1606320" cy="4941360"/>
            <a:chOff x="264960" y="1295280"/>
            <a:chExt cx="1606320" cy="4941360"/>
          </a:xfrm>
        </p:grpSpPr>
        <p:sp>
          <p:nvSpPr>
            <p:cNvPr id="294" name="Oval 7"/>
            <p:cNvSpPr/>
            <p:nvPr/>
          </p:nvSpPr>
          <p:spPr>
            <a:xfrm>
              <a:off x="264960" y="5038920"/>
              <a:ext cx="1603800" cy="11624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8"/>
            <p:cNvSpPr/>
            <p:nvPr/>
          </p:nvSpPr>
          <p:spPr>
            <a:xfrm>
              <a:off x="267480" y="1295280"/>
              <a:ext cx="1603800" cy="4941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021"/>
                </a:gs>
                <a:gs pos="50000">
                  <a:srgbClr val="6c2347">
                    <a:alpha val="50196"/>
                  </a:srgbClr>
                </a:gs>
                <a:gs pos="100000">
                  <a:srgbClr val="321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AutoShape 23"/>
          <p:cNvSpPr/>
          <p:nvPr/>
        </p:nvSpPr>
        <p:spPr>
          <a:xfrm>
            <a:off x="264960" y="3645000"/>
            <a:ext cx="1845000" cy="458640"/>
          </a:xfrm>
          <a:prstGeom prst="rightArrow">
            <a:avLst>
              <a:gd name="adj1" fmla="val 50000"/>
              <a:gd name="adj2" fmla="val 583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204840" y="3141720"/>
            <a:ext cx="158580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800000"/>
                </a:solidFill>
                <a:latin typeface="Constantia"/>
              </a:rPr>
              <a:t>Завдання для самостійної робо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6"/>
          <p:cNvSpPr/>
          <p:nvPr/>
        </p:nvSpPr>
        <p:spPr>
          <a:xfrm>
            <a:off x="1301760" y="562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1"/>
          <p:cNvSpPr/>
          <p:nvPr/>
        </p:nvSpPr>
        <p:spPr>
          <a:xfrm>
            <a:off x="204840" y="189000"/>
            <a:ext cx="801540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уктура курсу «Загальна психолог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матика лекцій та семінарських /практичних/ занять, завдання для самостійної роботи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9"/>
          <p:cNvSpPr/>
          <p:nvPr/>
        </p:nvSpPr>
        <p:spPr>
          <a:xfrm>
            <a:off x="2109960" y="1265400"/>
            <a:ext cx="6494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6600"/>
                </a:solidFill>
                <a:latin typeface="Constanti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2"/>
          <p:cNvSpPr/>
          <p:nvPr/>
        </p:nvSpPr>
        <p:spPr>
          <a:xfrm>
            <a:off x="2771640" y="987480"/>
            <a:ext cx="6678720" cy="538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гальне поняття про психологічну науку, її предмет та основні завданн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Історія розвитку психології: основні етап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заємозв'язок еволюції психіки та нервової систе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Розвиток психіки тварин як передісторія становлення психіки люд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обливості інстинктивної поведінки твар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авички та інтелектуальні ді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новні умови становлення психіки люд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Розвиток психіки людини в онтогенез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ренатальний пері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тан рецепторів та їх розвиток у внутрішньоутробному період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остнатальний пері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Розвиток психіки у дитячому та юнацькому ві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Акселераці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обливості психіки та центральної нервової системи дорослої люд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сихіка та центральна нервова система в літньому та похилому ві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тан аналізаторів у літньому та похилому ві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Мозок і психі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Рефлекторна природа психі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сихіка і свідомі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труктура свідом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тани свідом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есвідо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Розлади свідом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новні галузі психологічних зн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Методи психологічних дослідж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апрямки, школи та концепції у психологічній науц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апрямки психології XX столітт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тановлення та розвиток психологічної науки в Україн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сихологія особистості та діяльност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AutoShape 17"/>
          <p:cNvSpPr/>
          <p:nvPr/>
        </p:nvSpPr>
        <p:spPr>
          <a:xfrm>
            <a:off x="395280" y="1220760"/>
            <a:ext cx="7346880" cy="53532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c234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6"/>
          <p:cNvGrpSpPr/>
          <p:nvPr/>
        </p:nvGrpSpPr>
        <p:grpSpPr>
          <a:xfrm>
            <a:off x="264960" y="1295280"/>
            <a:ext cx="801360" cy="5263560"/>
            <a:chOff x="264960" y="1295280"/>
            <a:chExt cx="801360" cy="5263560"/>
          </a:xfrm>
        </p:grpSpPr>
        <p:sp>
          <p:nvSpPr>
            <p:cNvPr id="304" name="Oval 7"/>
            <p:cNvSpPr/>
            <p:nvPr/>
          </p:nvSpPr>
          <p:spPr>
            <a:xfrm>
              <a:off x="264960" y="5283000"/>
              <a:ext cx="800280" cy="123840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8"/>
            <p:cNvSpPr/>
            <p:nvPr/>
          </p:nvSpPr>
          <p:spPr>
            <a:xfrm>
              <a:off x="266040" y="1295280"/>
              <a:ext cx="800280" cy="5263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021"/>
                </a:gs>
                <a:gs pos="50000">
                  <a:srgbClr val="6c2347">
                    <a:alpha val="50196"/>
                  </a:srgbClr>
                </a:gs>
                <a:gs pos="100000">
                  <a:srgbClr val="321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16"/>
          <p:cNvSpPr/>
          <p:nvPr/>
        </p:nvSpPr>
        <p:spPr>
          <a:xfrm>
            <a:off x="1301760" y="562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"/>
          <p:cNvSpPr/>
          <p:nvPr/>
        </p:nvSpPr>
        <p:spPr>
          <a:xfrm>
            <a:off x="517680" y="490680"/>
            <a:ext cx="80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nstantia"/>
              </a:rPr>
              <a:t>Рекомендована лі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Constantia"/>
              </a:rPr>
              <a:t>курсу «Загальна психологія»</a:t>
            </a:r>
            <a:r>
              <a:rPr b="1" i="1" lang="ru-RU" sz="1500" spc="-1" strike="noStrike">
                <a:solidFill>
                  <a:srgbClr val="800000"/>
                </a:solidFill>
                <a:latin typeface="Constanti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9"/>
          <p:cNvSpPr/>
          <p:nvPr/>
        </p:nvSpPr>
        <p:spPr>
          <a:xfrm>
            <a:off x="1301760" y="1265400"/>
            <a:ext cx="759132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6600"/>
                </a:solidFill>
                <a:latin typeface="Constantia"/>
              </a:rPr>
              <a:t> </a:t>
            </a:r>
            <a:r>
              <a:rPr b="1" i="1" lang="uk-UA" sz="1500" spc="-1" strike="noStrike">
                <a:solidFill>
                  <a:srgbClr val="800000"/>
                </a:solidFill>
                <a:latin typeface="Constantia"/>
              </a:rPr>
              <a:t>Основна літерату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1. Бондарчук О. І., Туриніна О. Л. Загальна психологія. — К.: Логос, 2004. — 1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2. Загальна психологія: Навч. посібник / О.Скрипченко, Л.Долинська, З. Огороднійчук та інш. - К.: "А.П.Н.", 1999. - 43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3. Загальна психологія: Підруч. для студентів вищ. навч. закладів. / С.Д.Максименко, В.О.Зайчук, В.В.Клименко, В.О.Соловієнко. За загальною редакцією акад.. С.Д.Максименка - К.: Форум, 2000. - 54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4. Загальна психологія: Хрестоматія: Навч. посібник / О.В. Скрипченко, Л.В. Волинська, З.В. Огороднійчук та ін. - К.: Каравела, 2007. - 64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5. М'ясоїд П.А. Загальна психологія. - К.: Вища школа, 2001. - 487 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6. Маклаков А.Г. Общаяпсихология:Учеб. пособ. для вузов. - СПб.:Питер, 2000. - 59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7. Максименко С. Д. Загальна психологія. — Вінниця: Нова книга, 2004. — 701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8. Психологія: Підручник / Ю.Л.Трофімов, В.В.Рибалка, П.А.Гончарук та ін.; за ред. Ю.Л.Трофімова. - 3-тє вид., стереотип. - К.: Либідь, 2001. -560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9. Сергєєнкова О.П., Столярчук О.А., Коханова О.П., Пасєка О.В. Загальна психологія. Навч. посіб. - Київ «Центр учбової літератури», 2012 р. - 296 с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800000"/>
                </a:solidFill>
                <a:latin typeface="Constantia"/>
              </a:rPr>
              <a:t>Допоміжна літерату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1. Варій М. Й. Загальна психологія: [підр.длястуд. вищ. навч. закл.] / Варій М.Й. –[3- тє вид.]. – К.: Центр учбової літератури, 2009. – 1007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2. Занюк С. Психологія мотивації та емоцій. — Луцьк, 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3. Копець Л.В. Психологія особистості: [навч. посіб. для студ. вищ. навч. закл.] / Копець Л.В. – К.: Вид дім. «Києво-Могилянська академія», 2007. – 46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4. Максименко С. Д. Розвиток психіки в онтогенезі: У 2 т. — К.: Фо-рум, 2002. — Т.1. — 319 с.; Т.2. — 335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5. Основи психології: Підручник / За ред О. В. Киричука, В. А. Роменця. — К.: Либідь, 1995. — 63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6. Психологія: Підручник / [Ю.Л. Трофімов, В.В. Рибалка, П.А. Гончарук та ін.; за ред. Ю.Л. Трофімова]. – К.: Либідь, 2001. – 56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7. Рубинштейн С. Л. Основы общей психологии. - СПб.: Питер, 2000. -712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Constantia"/>
              </a:rPr>
              <a:t>8. Савчин М. В. Загальна психологія: навч. посіб. / Савчин М.В. – К.: Академвидав, 2011. – 46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338640" y="6467400"/>
            <a:ext cx="4022640" cy="16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0" name="Picture 5" descr="C:\Users\Tatyana\Desktop\images (8).jpg"/>
          <p:cNvPicPr/>
          <p:nvPr/>
        </p:nvPicPr>
        <p:blipFill>
          <a:blip r:embed="rId1"/>
          <a:stretch/>
        </p:blipFill>
        <p:spPr>
          <a:xfrm>
            <a:off x="-182520" y="476280"/>
            <a:ext cx="8497800" cy="6265800"/>
          </a:xfrm>
          <a:prstGeom prst="rect">
            <a:avLst/>
          </a:prstGeom>
          <a:ln w="0">
            <a:noFill/>
          </a:ln>
        </p:spPr>
      </p:pic>
      <p:sp>
        <p:nvSpPr>
          <p:cNvPr id="311" name="TextBox 4"/>
          <p:cNvSpPr/>
          <p:nvPr/>
        </p:nvSpPr>
        <p:spPr>
          <a:xfrm>
            <a:off x="3564000" y="1346040"/>
            <a:ext cx="5580000" cy="51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efcfdf"/>
                </a:solidFill>
                <a:latin typeface="Constantia"/>
              </a:rPr>
              <a:t>Дякуєм  за    </a:t>
            </a:r>
            <a:r>
              <a:rPr b="1" i="1" lang="uk-UA" sz="4500" spc="-1" strike="noStrike">
                <a:solidFill>
                  <a:srgbClr val="660066"/>
                </a:solidFill>
                <a:latin typeface="Constantia"/>
              </a:rPr>
              <a:t>увагу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500" spc="-1" strike="noStrike">
                <a:solidFill>
                  <a:srgbClr val="efcfdf"/>
                </a:solidFill>
                <a:latin typeface="Constantia"/>
              </a:rPr>
              <a:t>Чекаєм  на</a:t>
            </a:r>
            <a:r>
              <a:rPr b="1" i="1" lang="uk-UA" sz="4500" spc="-1" strike="noStrike">
                <a:solidFill>
                  <a:srgbClr val="660066"/>
                </a:solidFill>
                <a:latin typeface="Constantia"/>
              </a:rPr>
              <a:t>   Вас!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0" y="292392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uk-UA" sz="5000" spc="-1" strike="noStrike">
                <a:solidFill>
                  <a:srgbClr val="ffffff"/>
                </a:solidFill>
                <a:latin typeface="Constantia"/>
              </a:rPr>
              <a:t>ЗАГАЛЬНА ПСИХОЛОГІЯ</a:t>
            </a:r>
            <a:endParaRPr b="0" lang="en-US" sz="5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6" name="TextBox 1" descr=""/>
          <p:cNvPicPr/>
          <p:nvPr/>
        </p:nvPicPr>
        <p:blipFill>
          <a:blip r:embed="rId1"/>
          <a:stretch/>
        </p:blipFill>
        <p:spPr>
          <a:xfrm>
            <a:off x="609480" y="262080"/>
            <a:ext cx="8064720" cy="1023840"/>
          </a:xfrm>
          <a:prstGeom prst="rect">
            <a:avLst/>
          </a:prstGeom>
          <a:ln w="0">
            <a:noFill/>
          </a:ln>
        </p:spPr>
      </p:pic>
      <p:pic>
        <p:nvPicPr>
          <p:cNvPr id="207" name="Подзаголовок 6" descr=""/>
          <p:cNvPicPr/>
          <p:nvPr/>
        </p:nvPicPr>
        <p:blipFill>
          <a:blip r:embed="rId2"/>
          <a:stretch/>
        </p:blipFill>
        <p:spPr>
          <a:xfrm>
            <a:off x="1573200" y="3895560"/>
            <a:ext cx="6120000" cy="968400"/>
          </a:xfrm>
          <a:prstGeom prst="rect">
            <a:avLst/>
          </a:prstGeom>
          <a:ln w="0">
            <a:noFill/>
          </a:ln>
        </p:spPr>
      </p:pic>
      <p:pic>
        <p:nvPicPr>
          <p:cNvPr id="208" name="Подзаголовок 6" descr=""/>
          <p:cNvPicPr/>
          <p:nvPr/>
        </p:nvPicPr>
        <p:blipFill>
          <a:blip r:embed="rId3"/>
          <a:stretch/>
        </p:blipFill>
        <p:spPr>
          <a:xfrm>
            <a:off x="695160" y="4614840"/>
            <a:ext cx="7899480" cy="573120"/>
          </a:xfrm>
          <a:prstGeom prst="rect">
            <a:avLst/>
          </a:prstGeom>
          <a:ln w="0">
            <a:noFill/>
          </a:ln>
        </p:spPr>
      </p:pic>
      <p:sp>
        <p:nvSpPr>
          <p:cNvPr id="209" name="Подзаголовок 6"/>
          <p:cNvSpPr/>
          <p:nvPr/>
        </p:nvSpPr>
        <p:spPr>
          <a:xfrm>
            <a:off x="274680" y="5373720"/>
            <a:ext cx="8642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робник: Тетяна БІРЮКОВА, викладач кафедри медицини та фізичної терап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0/2021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чальний рі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Подзаголовок 6" descr=""/>
          <p:cNvPicPr/>
          <p:nvPr/>
        </p:nvPicPr>
        <p:blipFill>
          <a:blip r:embed="rId4"/>
          <a:stretch/>
        </p:blipFill>
        <p:spPr>
          <a:xfrm>
            <a:off x="444600" y="1487520"/>
            <a:ext cx="65055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C:\Users\Tatyana\Desktop\images (6).jpg"/>
          <p:cNvPicPr/>
          <p:nvPr/>
        </p:nvPicPr>
        <p:blipFill>
          <a:blip r:embed="rId1"/>
          <a:stretch/>
        </p:blipFill>
        <p:spPr>
          <a:xfrm>
            <a:off x="5870520" y="-171360"/>
            <a:ext cx="4248360" cy="687708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7"/>
          <p:cNvSpPr/>
          <p:nvPr/>
        </p:nvSpPr>
        <p:spPr>
          <a:xfrm>
            <a:off x="179280" y="669960"/>
            <a:ext cx="6264360" cy="56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Анотація до курсу «Загальна психологі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5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     </a:t>
            </a: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ибіркова освітня компонента «Загальна психологія» циклу професійної підготовки здобувачів першого (бакалаврського) рівня освітньої програми «Фізична терапія, ерготерапія» є важливою складовою теоретичної та практичної підготовки майбутнього фахівця з фізичної терапії, ерготерапії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труктура і логіка  </a:t>
            </a:r>
            <a:r>
              <a:rPr b="1" i="1" lang="ru-RU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ибіркової освітньої компоненти «Загальна психологія» </a:t>
            </a: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прямована на формування системного розуміння здобувачами предметної області психологічної науки, аналізу психологічного змісту, структури, психологічних механізмів та умов розвитку особистості, аналізу психологічної сутності різних проявів поведінки і діяльності особистост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     </a:t>
            </a: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Курс «Загальна психологія» передбачає  формування культури особистості майбутнього фахівця з фізичної терапії, ерготерапії на засадах гуманізму та загальнолюдських цінностей, за умов оволодіння базовим набором загальних та спеціальних компетентностей, теоретико-методологічних знань та практичних вмін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C:\Users\Tatyana\Desktop\современный-го-овной-знак-оготипа-психо-огии-че-овек-профи-я-истья-90523595.jpg"/>
          <p:cNvPicPr/>
          <p:nvPr/>
        </p:nvPicPr>
        <p:blipFill>
          <a:blip r:embed="rId1"/>
          <a:srcRect l="0" t="0" r="53611" b="0"/>
          <a:stretch/>
        </p:blipFill>
        <p:spPr>
          <a:xfrm>
            <a:off x="6516720" y="620640"/>
            <a:ext cx="2131920" cy="53388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7"/>
          <p:cNvSpPr/>
          <p:nvPr/>
        </p:nvSpPr>
        <p:spPr>
          <a:xfrm>
            <a:off x="179280" y="176040"/>
            <a:ext cx="6831000" cy="66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урс «Загальна психологія» </a:t>
            </a: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щодо змісту і структури побудовано на висвітленні головних аспектів загальної психології в обсязі, необхідному для підготовки майбутніх фахівціф з фізичної терапії, ерготерапії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икладення навчального матеріалу має проблемно-дослідницький характер, що дає здобувачам змогу не лише розширити свої уявлення про психологічну науку, а й активізувати свою пізнавальну діяльність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гальна психологія </a:t>
            </a:r>
            <a:r>
              <a:rPr b="1" i="1" lang="ru-RU" sz="1800" spc="-1" strike="noStrike">
                <a:solidFill>
                  <a:srgbClr val="00192f"/>
                </a:solidFill>
                <a:latin typeface="Symbol"/>
                <a:ea typeface="Symbol"/>
              </a:rPr>
              <a:t></a:t>
            </a:r>
            <a:r>
              <a:rPr b="1" i="1" lang="ru-RU" sz="18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це галузь психологічної науки,.що займає </a:t>
            </a: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обливе місце серед усіх галузей психології, оскільки вона є  </a:t>
            </a:r>
            <a:r>
              <a:rPr b="1" i="1" lang="ru-RU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фундаментальною основою розвитку всіх галузей і розділів психологічної науки</a:t>
            </a: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дмет</a:t>
            </a:r>
            <a:r>
              <a:rPr b="1" i="1" lang="uk-UA" sz="16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 </a:t>
            </a:r>
            <a:r>
              <a:rPr b="1" i="1" lang="uk-UA" sz="16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дослідження загальної психології станови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гальні закономірності, тенденції, особливості розвитку психіки у філо- та онтогенез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теоретичні методи й принципи психології, її основні поняття                                     та</a:t>
            </a:r>
            <a:r>
              <a:rPr b="1" i="1" lang="uk-UA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категоріальний апарат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вданням</a:t>
            </a:r>
            <a:r>
              <a:rPr b="1" i="1" lang="uk-UA" sz="16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 </a:t>
            </a:r>
            <a:r>
              <a:rPr b="1" i="1" lang="uk-UA" sz="15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гальної  психології  є  розроблення проблем методології та історії психології, теорії і методів дослідження найбільш загальних законів виникнення, розвитку і буття психічних явищ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     </a:t>
            </a:r>
            <a:r>
              <a:rPr b="1" i="1" lang="uk-UA" sz="16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гальна психологія </a:t>
            </a:r>
            <a:r>
              <a:rPr b="1" i="1" lang="uk-UA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ивча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сихіку і світ психічних явищ люди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ізнавальну і практичну діяльні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гальні закономірності відчуттів, сприйняття, пам’яті, уяви, </a:t>
            </a:r>
            <a:r>
              <a:rPr b="1" i="1" lang="uk-U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слення,</a:t>
            </a:r>
            <a:r>
              <a:rPr b="1" i="1" lang="uk-UA" sz="1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психологічну саморегуляці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диференціально-психологічні особливості особистості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характер  і темперамент, провідні мотиви поведін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19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гальні підходи до пізнання людини з метою її навчання, виховання, розвитку, підготовки до життєдіяльності, здійснення психологічного  впли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9"/>
          <p:cNvSpPr/>
          <p:nvPr/>
        </p:nvSpPr>
        <p:spPr>
          <a:xfrm>
            <a:off x="2502000" y="1662120"/>
            <a:ext cx="6480000" cy="2581200"/>
          </a:xfrm>
          <a:prstGeom prst="roundRect">
            <a:avLst>
              <a:gd name="adj" fmla="val 16667"/>
            </a:avLst>
          </a:prstGeom>
          <a:solidFill>
            <a:srgbClr val="d6e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5"/>
          <p:cNvGrpSpPr/>
          <p:nvPr/>
        </p:nvGrpSpPr>
        <p:grpSpPr>
          <a:xfrm>
            <a:off x="104760" y="4241880"/>
            <a:ext cx="2090880" cy="1755360"/>
            <a:chOff x="104760" y="4241880"/>
            <a:chExt cx="2090880" cy="1755360"/>
          </a:xfrm>
        </p:grpSpPr>
        <p:grpSp>
          <p:nvGrpSpPr>
            <p:cNvPr id="217" name="Group 6"/>
            <p:cNvGrpSpPr/>
            <p:nvPr/>
          </p:nvGrpSpPr>
          <p:grpSpPr>
            <a:xfrm>
              <a:off x="226440" y="4995000"/>
              <a:ext cx="1884240" cy="1002240"/>
              <a:chOff x="226440" y="4995000"/>
              <a:chExt cx="1884240" cy="1002240"/>
            </a:xfrm>
          </p:grpSpPr>
          <p:sp>
            <p:nvSpPr>
              <p:cNvPr id="218" name="Freeform 7"/>
              <p:cNvSpPr/>
              <p:nvPr/>
            </p:nvSpPr>
            <p:spPr>
              <a:xfrm>
                <a:off x="226440" y="5332320"/>
                <a:ext cx="740160" cy="664920"/>
              </a:xfrm>
              <a:custGeom>
                <a:avLst/>
                <a:gdLst>
                  <a:gd name="textAreaLeft" fmla="*/ 0 w 740160"/>
                  <a:gd name="textAreaRight" fmla="*/ 740520 w 740160"/>
                  <a:gd name="textAreaTop" fmla="*/ 0 h 664920"/>
                  <a:gd name="textAreaBottom" fmla="*/ 664920 h 66492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8"/>
              <p:cNvSpPr/>
              <p:nvPr/>
            </p:nvSpPr>
            <p:spPr>
              <a:xfrm>
                <a:off x="958320" y="5281200"/>
                <a:ext cx="1152360" cy="713520"/>
              </a:xfrm>
              <a:custGeom>
                <a:avLst/>
                <a:gdLst>
                  <a:gd name="textAreaLeft" fmla="*/ 0 w 1152360"/>
                  <a:gd name="textAreaRight" fmla="*/ 1152720 w 1152360"/>
                  <a:gd name="textAreaTop" fmla="*/ 0 h 713520"/>
                  <a:gd name="textAreaBottom" fmla="*/ 713880 h 7135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b88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9"/>
              <p:cNvSpPr/>
              <p:nvPr/>
            </p:nvSpPr>
            <p:spPr>
              <a:xfrm>
                <a:off x="226440" y="4995000"/>
                <a:ext cx="1884240" cy="824400"/>
              </a:xfrm>
              <a:custGeom>
                <a:avLst/>
                <a:gdLst>
                  <a:gd name="textAreaLeft" fmla="*/ 0 w 1884240"/>
                  <a:gd name="textAreaRight" fmla="*/ 1884600 w 1884240"/>
                  <a:gd name="textAreaTop" fmla="*/ 0 h 824400"/>
                  <a:gd name="textAreaBottom" fmla="*/ 824760 h 824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Group 10"/>
            <p:cNvGrpSpPr/>
            <p:nvPr/>
          </p:nvGrpSpPr>
          <p:grpSpPr>
            <a:xfrm>
              <a:off x="185760" y="4749840"/>
              <a:ext cx="1951200" cy="1002240"/>
              <a:chOff x="185760" y="4749840"/>
              <a:chExt cx="1951200" cy="1002240"/>
            </a:xfrm>
          </p:grpSpPr>
          <p:sp>
            <p:nvSpPr>
              <p:cNvPr id="222" name="Freeform 11"/>
              <p:cNvSpPr/>
              <p:nvPr/>
            </p:nvSpPr>
            <p:spPr>
              <a:xfrm>
                <a:off x="185760" y="5087160"/>
                <a:ext cx="766440" cy="664920"/>
              </a:xfrm>
              <a:custGeom>
                <a:avLst/>
                <a:gdLst>
                  <a:gd name="textAreaLeft" fmla="*/ 0 w 766440"/>
                  <a:gd name="textAreaRight" fmla="*/ 766800 w 766440"/>
                  <a:gd name="textAreaTop" fmla="*/ 0 h 664920"/>
                  <a:gd name="textAreaBottom" fmla="*/ 664920 h 66492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12"/>
              <p:cNvSpPr/>
              <p:nvPr/>
            </p:nvSpPr>
            <p:spPr>
              <a:xfrm>
                <a:off x="943560" y="5036040"/>
                <a:ext cx="1193400" cy="713520"/>
              </a:xfrm>
              <a:custGeom>
                <a:avLst/>
                <a:gdLst>
                  <a:gd name="textAreaLeft" fmla="*/ 0 w 1193400"/>
                  <a:gd name="textAreaRight" fmla="*/ 1193760 w 1193400"/>
                  <a:gd name="textAreaTop" fmla="*/ 0 h 713520"/>
                  <a:gd name="textAreaBottom" fmla="*/ 713880 h 7135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df9f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13"/>
              <p:cNvSpPr/>
              <p:nvPr/>
            </p:nvSpPr>
            <p:spPr>
              <a:xfrm>
                <a:off x="185760" y="4749840"/>
                <a:ext cx="1951200" cy="824400"/>
              </a:xfrm>
              <a:custGeom>
                <a:avLst/>
                <a:gdLst>
                  <a:gd name="textAreaLeft" fmla="*/ 0 w 1951200"/>
                  <a:gd name="textAreaRight" fmla="*/ 1951560 w 1951200"/>
                  <a:gd name="textAreaTop" fmla="*/ 0 h 824400"/>
                  <a:gd name="textAreaBottom" fmla="*/ 824760 h 824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4"/>
            <p:cNvGrpSpPr/>
            <p:nvPr/>
          </p:nvGrpSpPr>
          <p:grpSpPr>
            <a:xfrm>
              <a:off x="145080" y="4496400"/>
              <a:ext cx="2020680" cy="1002240"/>
              <a:chOff x="145080" y="4496400"/>
              <a:chExt cx="2020680" cy="1002240"/>
            </a:xfrm>
          </p:grpSpPr>
          <p:sp>
            <p:nvSpPr>
              <p:cNvPr id="226" name="Freeform 15"/>
              <p:cNvSpPr/>
              <p:nvPr/>
            </p:nvSpPr>
            <p:spPr>
              <a:xfrm>
                <a:off x="145080" y="4833720"/>
                <a:ext cx="793800" cy="664920"/>
              </a:xfrm>
              <a:custGeom>
                <a:avLst/>
                <a:gdLst>
                  <a:gd name="textAreaLeft" fmla="*/ 0 w 793800"/>
                  <a:gd name="textAreaRight" fmla="*/ 794160 w 793800"/>
                  <a:gd name="textAreaTop" fmla="*/ 0 h 664920"/>
                  <a:gd name="textAreaBottom" fmla="*/ 664920 h 66492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16"/>
              <p:cNvSpPr/>
              <p:nvPr/>
            </p:nvSpPr>
            <p:spPr>
              <a:xfrm>
                <a:off x="929880" y="4782600"/>
                <a:ext cx="1235880" cy="713520"/>
              </a:xfrm>
              <a:custGeom>
                <a:avLst/>
                <a:gdLst>
                  <a:gd name="textAreaLeft" fmla="*/ 0 w 1235880"/>
                  <a:gd name="textAreaRight" fmla="*/ 1236240 w 1235880"/>
                  <a:gd name="textAreaTop" fmla="*/ 0 h 713520"/>
                  <a:gd name="textAreaBottom" fmla="*/ 713880 h 7135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6c23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17"/>
              <p:cNvSpPr/>
              <p:nvPr/>
            </p:nvSpPr>
            <p:spPr>
              <a:xfrm>
                <a:off x="145080" y="4496400"/>
                <a:ext cx="2020680" cy="824400"/>
              </a:xfrm>
              <a:custGeom>
                <a:avLst/>
                <a:gdLst>
                  <a:gd name="textAreaLeft" fmla="*/ 0 w 2020680"/>
                  <a:gd name="textAreaRight" fmla="*/ 2021040 w 2020680"/>
                  <a:gd name="textAreaTop" fmla="*/ 0 h 824400"/>
                  <a:gd name="textAreaBottom" fmla="*/ 824760 h 824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18"/>
            <p:cNvGrpSpPr/>
            <p:nvPr/>
          </p:nvGrpSpPr>
          <p:grpSpPr>
            <a:xfrm>
              <a:off x="104760" y="4241880"/>
              <a:ext cx="2090880" cy="1002240"/>
              <a:chOff x="104760" y="4241880"/>
              <a:chExt cx="2090880" cy="1002240"/>
            </a:xfrm>
          </p:grpSpPr>
          <p:sp>
            <p:nvSpPr>
              <p:cNvPr id="230" name="Freeform 19"/>
              <p:cNvSpPr/>
              <p:nvPr/>
            </p:nvSpPr>
            <p:spPr>
              <a:xfrm>
                <a:off x="104760" y="4579200"/>
                <a:ext cx="821520" cy="664920"/>
              </a:xfrm>
              <a:custGeom>
                <a:avLst/>
                <a:gdLst>
                  <a:gd name="textAreaLeft" fmla="*/ 0 w 821520"/>
                  <a:gd name="textAreaRight" fmla="*/ 821880 w 821520"/>
                  <a:gd name="textAreaTop" fmla="*/ 0 h 664920"/>
                  <a:gd name="textAreaBottom" fmla="*/ 664920 h 664920"/>
                </a:gdLst>
                <a:ahLst/>
                <a:rect l="textAreaLeft" t="textAreaTop" r="textAreaRight" b="textAreaBottom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20"/>
              <p:cNvSpPr/>
              <p:nvPr/>
            </p:nvSpPr>
            <p:spPr>
              <a:xfrm>
                <a:off x="916920" y="4528080"/>
                <a:ext cx="1278720" cy="713520"/>
              </a:xfrm>
              <a:custGeom>
                <a:avLst/>
                <a:gdLst>
                  <a:gd name="textAreaLeft" fmla="*/ 0 w 1278720"/>
                  <a:gd name="textAreaRight" fmla="*/ 1279080 w 1278720"/>
                  <a:gd name="textAreaTop" fmla="*/ 0 h 713520"/>
                  <a:gd name="textAreaBottom" fmla="*/ 713880 h 713520"/>
                </a:gdLst>
                <a:ahLst/>
                <a:rect l="textAreaLeft" t="textAreaTop" r="textAreaRight" b="textAreaBottom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ea15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21"/>
              <p:cNvSpPr/>
              <p:nvPr/>
            </p:nvSpPr>
            <p:spPr>
              <a:xfrm>
                <a:off x="104760" y="4241880"/>
                <a:ext cx="2090880" cy="82440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824400"/>
                  <a:gd name="textAreaBottom" fmla="*/ 824760 h 824400"/>
                </a:gdLst>
                <a:ahLst/>
                <a:rect l="textAreaLeft" t="textAreaTop" r="textAreaRight" b="textAreaBottom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3" name="Rectangle 17"/>
          <p:cNvSpPr/>
          <p:nvPr/>
        </p:nvSpPr>
        <p:spPr>
          <a:xfrm rot="3418800">
            <a:off x="1613160" y="2282760"/>
            <a:ext cx="514080" cy="549360"/>
          </a:xfrm>
          <a:prstGeom prst="rect">
            <a:avLst/>
          </a:prstGeom>
          <a:gradFill rotWithShape="0">
            <a:gsLst>
              <a:gs pos="0">
                <a:srgbClr val="df9fbe"/>
              </a:gs>
              <a:gs pos="100000">
                <a:srgbClr val="674a58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9"/>
          <p:cNvSpPr/>
          <p:nvPr/>
        </p:nvSpPr>
        <p:spPr>
          <a:xfrm>
            <a:off x="1673280" y="2327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4"/>
          <p:cNvSpPr/>
          <p:nvPr/>
        </p:nvSpPr>
        <p:spPr>
          <a:xfrm rot="3418800">
            <a:off x="1664640" y="5918400"/>
            <a:ext cx="479520" cy="520920"/>
          </a:xfrm>
          <a:prstGeom prst="rect">
            <a:avLst/>
          </a:prstGeom>
          <a:gradFill rotWithShape="0">
            <a:gsLst>
              <a:gs pos="0">
                <a:srgbClr val="eb8803"/>
              </a:gs>
              <a:gs pos="100000">
                <a:srgbClr val="6d3f01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9"/>
          <p:cNvSpPr/>
          <p:nvPr/>
        </p:nvSpPr>
        <p:spPr>
          <a:xfrm>
            <a:off x="1757880" y="5986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Прямоугольник 2" descr=""/>
          <p:cNvPicPr/>
          <p:nvPr/>
        </p:nvPicPr>
        <p:blipFill>
          <a:blip r:embed="rId1"/>
          <a:stretch/>
        </p:blipFill>
        <p:spPr>
          <a:xfrm>
            <a:off x="30240" y="1444680"/>
            <a:ext cx="3078000" cy="7016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3" descr="http://slavdnz6.at.ua/_nw/4/99672952.jpg"/>
          <p:cNvPicPr/>
          <p:nvPr/>
        </p:nvPicPr>
        <p:blipFill>
          <a:blip r:embed="rId2"/>
          <a:stretch/>
        </p:blipFill>
        <p:spPr>
          <a:xfrm>
            <a:off x="133200" y="2932200"/>
            <a:ext cx="1927440" cy="2011320"/>
          </a:xfrm>
          <a:prstGeom prst="rect">
            <a:avLst/>
          </a:prstGeom>
          <a:ln w="0">
            <a:noFill/>
          </a:ln>
        </p:spPr>
      </p:pic>
      <p:grpSp>
        <p:nvGrpSpPr>
          <p:cNvPr id="239" name="AutoShape 3"/>
          <p:cNvGrpSpPr/>
          <p:nvPr/>
        </p:nvGrpSpPr>
        <p:grpSpPr>
          <a:xfrm>
            <a:off x="1695600" y="3676680"/>
            <a:ext cx="693720" cy="925560"/>
            <a:chOff x="1695600" y="3676680"/>
            <a:chExt cx="693720" cy="925560"/>
          </a:xfrm>
        </p:grpSpPr>
        <p:pic>
          <p:nvPicPr>
            <p:cNvPr id="240" name="AutoShape 3" descr=""/>
            <p:cNvPicPr/>
            <p:nvPr/>
          </p:nvPicPr>
          <p:blipFill>
            <a:blip r:embed="rId3"/>
            <a:stretch/>
          </p:blipFill>
          <p:spPr>
            <a:xfrm>
              <a:off x="1695600" y="3679560"/>
              <a:ext cx="693720" cy="9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695600" y="3676680"/>
              <a:ext cx="685800" cy="92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AutoShape 4"/>
          <p:cNvGrpSpPr/>
          <p:nvPr/>
        </p:nvGrpSpPr>
        <p:grpSpPr>
          <a:xfrm>
            <a:off x="-115920" y="3584520"/>
            <a:ext cx="682560" cy="974880"/>
            <a:chOff x="-115920" y="3584520"/>
            <a:chExt cx="682560" cy="974880"/>
          </a:xfrm>
        </p:grpSpPr>
        <p:pic>
          <p:nvPicPr>
            <p:cNvPr id="243" name="AutoShape 4" descr=""/>
            <p:cNvPicPr/>
            <p:nvPr/>
          </p:nvPicPr>
          <p:blipFill>
            <a:blip r:embed="rId4"/>
            <a:stretch/>
          </p:blipFill>
          <p:spPr>
            <a:xfrm>
              <a:off x="-115920" y="3587400"/>
              <a:ext cx="680760" cy="9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-111240" y="3584520"/>
              <a:ext cx="677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AutoShape 29"/>
          <p:cNvSpPr/>
          <p:nvPr/>
        </p:nvSpPr>
        <p:spPr>
          <a:xfrm>
            <a:off x="2502000" y="4297320"/>
            <a:ext cx="6480000" cy="2376360"/>
          </a:xfrm>
          <a:prstGeom prst="roundRect">
            <a:avLst>
              <a:gd name="adj" fmla="val 16667"/>
            </a:avLst>
          </a:prstGeom>
          <a:solidFill>
            <a:srgbClr val="d6e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42"/>
          <p:cNvSpPr/>
          <p:nvPr/>
        </p:nvSpPr>
        <p:spPr>
          <a:xfrm>
            <a:off x="2502000" y="4325760"/>
            <a:ext cx="6588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990000"/>
                </a:solidFill>
                <a:latin typeface="Constantia"/>
              </a:rPr>
              <a:t>      </a:t>
            </a:r>
            <a:r>
              <a:rPr b="1" i="1" lang="uk-UA" sz="1900" spc="-1" strike="noStrike">
                <a:solidFill>
                  <a:srgbClr val="990000"/>
                </a:solidFill>
                <a:latin typeface="Constantia"/>
              </a:rPr>
              <a:t>Практична склад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формувати у здобувачів практичні вміння та навички з загальної психології , якими                      повинен володіти фахівець з фізичної терапії, ерготерапії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Сформувати базу для подальшого вивчення психологічних дисциплін, що забезпечують природничо-наукову та професійно-практичну підготовку фахівеця з фізичної терапії, ерготерапії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авчити здобувачів організовувати дослідження психічних явищ відповідно до методологічних принципів психології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авчити застосовувати адекватні методи дослідження психік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авчити проводити науково обґрунтований аналіз психологічних факті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Навчити пояснювати психологічний зміст та механізми становлення і розвитку різних форм прояву психіки (психічних процесів, станів і властивостей особистості, свідомих і неусвідомлюваних психічних явищ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Прямоугольник 30" descr=""/>
          <p:cNvPicPr/>
          <p:nvPr/>
        </p:nvPicPr>
        <p:blipFill>
          <a:blip r:embed="rId5"/>
          <a:stretch/>
        </p:blipFill>
        <p:spPr>
          <a:xfrm>
            <a:off x="0" y="-49320"/>
            <a:ext cx="9034560" cy="1755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4"/>
          <p:cNvSpPr/>
          <p:nvPr/>
        </p:nvSpPr>
        <p:spPr>
          <a:xfrm>
            <a:off x="2502000" y="1595520"/>
            <a:ext cx="658800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900" spc="-1" strike="noStrike">
                <a:solidFill>
                  <a:srgbClr val="990000"/>
                </a:solidFill>
                <a:latin typeface="Constantia"/>
              </a:rPr>
              <a:t>      </a:t>
            </a:r>
            <a:r>
              <a:rPr b="1" i="1" lang="uk-UA" sz="1900" spc="-1" strike="noStrike">
                <a:solidFill>
                  <a:srgbClr val="990000"/>
                </a:solidFill>
                <a:latin typeface="Constantia"/>
              </a:rPr>
              <a:t>Теоретична складо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Ознайомити здобувачів з основами загальної психології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Надати здобувачам системні теоретичні знання з загальної психології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Пояснити методологічні принципи і методи дослідження психіки, особливості психічного відображення дійсності, рівні  розвитку і форми прояву психік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Роз'яснити  поняття: свідомість та самосвідомість людини, неусвідомлювані психічні явищ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З'ясувати сутність, структуру та психологічні властивості особистості як системної                   якості індивід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Розкрити зміст, основні характеристики та умови розвитку когнітивної, регулятивно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афективної сфер особистості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Розглянути індивідуально-типологічні особливості особистості (темперамент, характер, здібності) та можливості впливу на їх розвито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•</a:t>
            </a:r>
            <a:r>
              <a:rPr b="1" i="1" lang="uk-UA" sz="1100" spc="-1" strike="noStrike">
                <a:solidFill>
                  <a:srgbClr val="481830"/>
                </a:solidFill>
                <a:latin typeface="Times New Roman"/>
                <a:ea typeface="Times New Roman"/>
              </a:rPr>
              <a:t>Охарактеризувати зміст, структуру, види діяльності та поведінки як психологічних феномені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71280" y="691920"/>
            <a:ext cx="734364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уктура </a:t>
            </a:r>
            <a:br>
              <a:rPr sz="2500"/>
            </a:br>
            <a:r>
              <a:rPr b="1" i="1" lang="uk-UA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ибіркової освітньої компоненти</a:t>
            </a:r>
            <a:br>
              <a:rPr sz="2500"/>
            </a:br>
            <a:r>
              <a:rPr b="1" i="1" lang="uk-UA" sz="25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Загальна психологія»</a:t>
            </a:r>
            <a:endParaRPr b="0" lang="en-US" sz="2500" spc="-1" strike="noStrike">
              <a:solidFill>
                <a:srgbClr val="90305f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1600200" y="4991040"/>
            <a:ext cx="640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Таблица 1" descr=""/>
          <p:cNvPicPr/>
          <p:nvPr/>
        </p:nvPicPr>
        <p:blipFill>
          <a:blip r:embed="rId1"/>
          <a:stretch/>
        </p:blipFill>
        <p:spPr>
          <a:xfrm>
            <a:off x="682560" y="1914480"/>
            <a:ext cx="76392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600200" y="5030640"/>
            <a:ext cx="6400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оугольник 2"/>
          <p:cNvSpPr/>
          <p:nvPr/>
        </p:nvSpPr>
        <p:spPr>
          <a:xfrm>
            <a:off x="395280" y="136440"/>
            <a:ext cx="8353440" cy="9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100" spc="-1" strike="noStrike">
                <a:solidFill>
                  <a:srgbClr val="990000"/>
                </a:solidFill>
                <a:latin typeface="Constantia"/>
              </a:rPr>
              <a:t>Компетентності, </a:t>
            </a:r>
            <a:r>
              <a:rPr b="1" i="1" lang="uk-UA" sz="1900" spc="-1" strike="noStrike">
                <a:solidFill>
                  <a:srgbClr val="990000"/>
                </a:solidFill>
                <a:latin typeface="Constantia"/>
              </a:rPr>
              <a:t>                                                                                </a:t>
            </a:r>
            <a:r>
              <a:rPr b="1" i="1" lang="uk-UA" sz="1700" spc="-1" strike="noStrike">
                <a:solidFill>
                  <a:srgbClr val="990000"/>
                </a:solidFill>
                <a:latin typeface="Constantia"/>
              </a:rPr>
              <a:t>формуванню яких сприяє вибіркова освітня компон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990000"/>
                </a:solidFill>
                <a:latin typeface="Constantia"/>
              </a:rPr>
              <a:t>«Загальна психологі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4"/>
          <p:cNvSpPr/>
          <p:nvPr/>
        </p:nvSpPr>
        <p:spPr>
          <a:xfrm>
            <a:off x="108000" y="1074600"/>
            <a:ext cx="8928000" cy="8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800000"/>
                </a:solidFill>
                <a:latin typeface="Constantia"/>
              </a:rPr>
              <a:t>Інтегральн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вирішувати складні спеціалізовані задачі та практичні проблеми, пов’язані з фізичною терапією та ерготерапією, що характеризуються комплексністю та невизначеністю умов, із застосуванням положень, теорій та методів медико-біологічних, соціальних, психолого-педагогічних наук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5"/>
          <p:cNvSpPr/>
          <p:nvPr/>
        </p:nvSpPr>
        <p:spPr>
          <a:xfrm>
            <a:off x="108000" y="1812960"/>
            <a:ext cx="8928000" cy="24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800000"/>
                </a:solidFill>
                <a:latin typeface="Constantia"/>
              </a:rPr>
              <a:t>Загаль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нання та розуміння предметної області та розуміння професійної діяльності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діяти на основі етичних міркувань (мотивів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Навички міжособистісної взаємодії, здатність працювати в команді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мотивувати людей та рухатися до спільної мет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планувати та управляти часом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Навички використання інформаційних і комунікаційних технологій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до пошуку, оброблення та аналізу інформації з різних джерел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вчитися і оволодівати сучасними знаннями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застосовувати знання у практичних ситуаціях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діяти соціально відповідально та свідомо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108000" y="3948120"/>
            <a:ext cx="8928000" cy="29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800000"/>
                </a:solidFill>
                <a:latin typeface="Constantia"/>
              </a:rPr>
              <a:t>Спеціальні /фахові, предметні/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пояснити потребу у заходах фізичної терапії, ерготерапії, принципи їх використання і зв'язок з охороною здоров’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аналізувати будову, нормальний та індивідуальний розвиток людського організму та його рухові функції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трактувати патологічні процеси та порушення і застосовувати для їх корекції придатні засоби фізичної терапії, ерготерапії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враховувати медичні, психолого-педагогічні, соціальні аспекти у практиці фізичної терапії, ерготерапії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допомогти пацієнту/клієнту зрозуміти власні потреби, обговорювати та пояснювати зміст і необхідність виконання програми фізичної терапії та ерготерапії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ефективно реалізовувати програму фізичної терапії та/або ерготерапії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адаптовувати свою поточну практичну діяльність до змінних умов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навчати пацієнта/опікунів самообслуговуванню/догляду, профілактиці захворювань, травм, ускладнень та неповносправності, здоровому способу життя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192f"/>
                </a:solidFill>
                <a:latin typeface="Arial"/>
              </a:rPr>
              <a:t>• </a:t>
            </a:r>
            <a:r>
              <a:rPr b="1" i="1" lang="uk-UA" sz="1100" spc="-1" strike="noStrike">
                <a:solidFill>
                  <a:srgbClr val="00192f"/>
                </a:solidFill>
                <a:latin typeface="Constantia"/>
              </a:rPr>
              <a:t>Здатність знаходити шляхи постійного покращення якості послуг фізичної терапії та ерготерапії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AutoShape 17"/>
          <p:cNvSpPr/>
          <p:nvPr/>
        </p:nvSpPr>
        <p:spPr>
          <a:xfrm>
            <a:off x="714240" y="903240"/>
            <a:ext cx="7290000" cy="34416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c234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19"/>
          <p:cNvSpPr/>
          <p:nvPr/>
        </p:nvSpPr>
        <p:spPr>
          <a:xfrm>
            <a:off x="714240" y="4405320"/>
            <a:ext cx="6818400" cy="19177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f9fb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3"/>
          <p:cNvSpPr/>
          <p:nvPr/>
        </p:nvSpPr>
        <p:spPr>
          <a:xfrm>
            <a:off x="714240" y="5353200"/>
            <a:ext cx="533520" cy="380880"/>
          </a:xfrm>
          <a:prstGeom prst="rightArrow">
            <a:avLst>
              <a:gd name="adj1" fmla="val 50000"/>
              <a:gd name="adj2" fmla="val 5836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3"/>
          <p:cNvGrpSpPr/>
          <p:nvPr/>
        </p:nvGrpSpPr>
        <p:grpSpPr>
          <a:xfrm>
            <a:off x="0" y="4851360"/>
            <a:ext cx="1674360" cy="969840"/>
            <a:chOff x="0" y="4851360"/>
            <a:chExt cx="1674360" cy="969840"/>
          </a:xfrm>
        </p:grpSpPr>
        <p:sp>
          <p:nvSpPr>
            <p:cNvPr id="261" name="Oval 4"/>
            <p:cNvSpPr/>
            <p:nvPr/>
          </p:nvSpPr>
          <p:spPr>
            <a:xfrm>
              <a:off x="0" y="5586120"/>
              <a:ext cx="1671480" cy="2282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5"/>
            <p:cNvSpPr/>
            <p:nvPr/>
          </p:nvSpPr>
          <p:spPr>
            <a:xfrm>
              <a:off x="2880" y="4851360"/>
              <a:ext cx="1671480" cy="9698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4a58"/>
                </a:gs>
                <a:gs pos="50000">
                  <a:srgbClr val="df9fbe">
                    <a:alpha val="50196"/>
                  </a:srgbClr>
                </a:gs>
                <a:gs pos="100000">
                  <a:srgbClr val="67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6"/>
          <p:cNvGrpSpPr/>
          <p:nvPr/>
        </p:nvGrpSpPr>
        <p:grpSpPr>
          <a:xfrm>
            <a:off x="19080" y="2066760"/>
            <a:ext cx="1606320" cy="914400"/>
            <a:chOff x="19080" y="2066760"/>
            <a:chExt cx="1606320" cy="914400"/>
          </a:xfrm>
        </p:grpSpPr>
        <p:sp>
          <p:nvSpPr>
            <p:cNvPr id="264" name="Oval 7"/>
            <p:cNvSpPr/>
            <p:nvPr/>
          </p:nvSpPr>
          <p:spPr>
            <a:xfrm>
              <a:off x="19080" y="2759400"/>
              <a:ext cx="1603800" cy="21492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8"/>
            <p:cNvSpPr/>
            <p:nvPr/>
          </p:nvSpPr>
          <p:spPr>
            <a:xfrm>
              <a:off x="21600" y="2066760"/>
              <a:ext cx="1603800" cy="9144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021"/>
                </a:gs>
                <a:gs pos="50000">
                  <a:srgbClr val="6c2347">
                    <a:alpha val="50196"/>
                  </a:srgbClr>
                </a:gs>
                <a:gs pos="100000">
                  <a:srgbClr val="321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AutoShape 23"/>
          <p:cNvSpPr/>
          <p:nvPr/>
        </p:nvSpPr>
        <p:spPr>
          <a:xfrm>
            <a:off x="22320" y="2394000"/>
            <a:ext cx="1779480" cy="458640"/>
          </a:xfrm>
          <a:prstGeom prst="rightArrow">
            <a:avLst>
              <a:gd name="adj1" fmla="val 50000"/>
              <a:gd name="adj2" fmla="val 5830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-79200" y="2394000"/>
            <a:ext cx="173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нан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301760" y="562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1"/>
          <p:cNvSpPr/>
          <p:nvPr/>
        </p:nvSpPr>
        <p:spPr>
          <a:xfrm>
            <a:off x="144360" y="111240"/>
            <a:ext cx="79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nstantia"/>
              </a:rPr>
              <a:t>Вивчення курсу «Загальна психологі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Constantia"/>
              </a:rPr>
              <a:t>забезпечує  здобува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4"/>
          <p:cNvSpPr/>
          <p:nvPr/>
        </p:nvSpPr>
        <p:spPr>
          <a:xfrm>
            <a:off x="1893960" y="982800"/>
            <a:ext cx="707076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1) на понятійному  рівн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новні етапи становлення психології як нау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новні теоретичні напрямки сучасної психології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2) на фундаментальному рівн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новні категорії, принципи, закони сучасної психології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методи психологічного дослідже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теоретичне обґрунтування проблеми виникнення та розвитку психіки у філогенез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виникнення, онтогенетичний розвиток, особливості свідомості люди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собливості несвідомих психічних явищ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оняття та теорії особистості, типи особистості, структуру особистості та індивідуально-психологічні особливості: темперамент, характер, здібност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гально-психологічну теорію діяльності, операціонально-технічні та мотиваційно-особистісні аспекти діяльності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3) на практично-творчому рівн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кономірності та механізми мотиваційного та емоційно-вольового регулювання діяльності та поведінки люди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 </a:t>
            </a:r>
            <a:r>
              <a:rPr b="1" i="1" lang="ru-RU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сихологічні теорії, механізми та закономірності пізнавальних процесів: відчуття, сприймання, уваги, пам'яті, мислення та мовлення, уяви люди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2"/>
          <p:cNvSpPr/>
          <p:nvPr/>
        </p:nvSpPr>
        <p:spPr>
          <a:xfrm>
            <a:off x="0" y="5191200"/>
            <a:ext cx="1744560" cy="506160"/>
          </a:xfrm>
          <a:prstGeom prst="rightArrow">
            <a:avLst>
              <a:gd name="adj1" fmla="val 50000"/>
              <a:gd name="adj2" fmla="val 582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-95400" y="522144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мін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29"/>
          <p:cNvSpPr/>
          <p:nvPr/>
        </p:nvSpPr>
        <p:spPr>
          <a:xfrm>
            <a:off x="1979640" y="4535640"/>
            <a:ext cx="698508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1) на репродуктивному рівн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аналізувати психологічні факти та явищ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2) на алгоритмічному рівн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планувати та організовувати психологічне дослідженн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3) на евристичному рівн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орієнтуватися в основних теоретичних напрямках сучасної психології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4) на творчому рівні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• </a:t>
            </a:r>
            <a:r>
              <a:rPr b="1" i="1" lang="uk-UA" sz="12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застосовувати знання загальної психології при вивченні інших дисциплін циклу                              професійної підготов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17"/>
          <p:cNvSpPr/>
          <p:nvPr/>
        </p:nvSpPr>
        <p:spPr>
          <a:xfrm>
            <a:off x="1897200" y="1349280"/>
            <a:ext cx="6960960" cy="1990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6c2347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19"/>
          <p:cNvSpPr/>
          <p:nvPr/>
        </p:nvSpPr>
        <p:spPr>
          <a:xfrm>
            <a:off x="1714680" y="3429000"/>
            <a:ext cx="6818040" cy="3240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f9fb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23"/>
          <p:cNvSpPr/>
          <p:nvPr/>
        </p:nvSpPr>
        <p:spPr>
          <a:xfrm>
            <a:off x="882720" y="4832280"/>
            <a:ext cx="533160" cy="381240"/>
          </a:xfrm>
          <a:prstGeom prst="rightArrow">
            <a:avLst>
              <a:gd name="adj1" fmla="val 50000"/>
              <a:gd name="adj2" fmla="val 582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262080" y="3860640"/>
            <a:ext cx="1599840" cy="2135520"/>
            <a:chOff x="262080" y="3860640"/>
            <a:chExt cx="1599840" cy="2135520"/>
          </a:xfrm>
        </p:grpSpPr>
        <p:sp>
          <p:nvSpPr>
            <p:cNvPr id="278" name="Oval 4"/>
            <p:cNvSpPr/>
            <p:nvPr/>
          </p:nvSpPr>
          <p:spPr>
            <a:xfrm>
              <a:off x="262080" y="5478480"/>
              <a:ext cx="1597320" cy="50220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5"/>
            <p:cNvSpPr/>
            <p:nvPr/>
          </p:nvSpPr>
          <p:spPr>
            <a:xfrm>
              <a:off x="264600" y="3860640"/>
              <a:ext cx="1597320" cy="2135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74a58"/>
                </a:gs>
                <a:gs pos="50000">
                  <a:srgbClr val="df9fbe">
                    <a:alpha val="50196"/>
                  </a:srgbClr>
                </a:gs>
                <a:gs pos="100000">
                  <a:srgbClr val="674a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6"/>
          <p:cNvGrpSpPr/>
          <p:nvPr/>
        </p:nvGrpSpPr>
        <p:grpSpPr>
          <a:xfrm>
            <a:off x="264960" y="1295280"/>
            <a:ext cx="1606320" cy="2040120"/>
            <a:chOff x="264960" y="1295280"/>
            <a:chExt cx="1606320" cy="2040120"/>
          </a:xfrm>
        </p:grpSpPr>
        <p:sp>
          <p:nvSpPr>
            <p:cNvPr id="281" name="Oval 7"/>
            <p:cNvSpPr/>
            <p:nvPr/>
          </p:nvSpPr>
          <p:spPr>
            <a:xfrm>
              <a:off x="264960" y="2840760"/>
              <a:ext cx="1603800" cy="47988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8"/>
            <p:cNvSpPr/>
            <p:nvPr/>
          </p:nvSpPr>
          <p:spPr>
            <a:xfrm>
              <a:off x="267480" y="1295280"/>
              <a:ext cx="1603800" cy="20401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21021"/>
                </a:gs>
                <a:gs pos="50000">
                  <a:srgbClr val="6c2347">
                    <a:alpha val="50196"/>
                  </a:srgbClr>
                </a:gs>
                <a:gs pos="100000">
                  <a:srgbClr val="32102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23"/>
          <p:cNvSpPr/>
          <p:nvPr/>
        </p:nvSpPr>
        <p:spPr>
          <a:xfrm>
            <a:off x="1488960" y="2155680"/>
            <a:ext cx="621000" cy="459000"/>
          </a:xfrm>
          <a:prstGeom prst="rightArrow">
            <a:avLst>
              <a:gd name="adj1" fmla="val 50000"/>
              <a:gd name="adj2" fmla="val 5829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5"/>
          <p:cNvSpPr/>
          <p:nvPr/>
        </p:nvSpPr>
        <p:spPr>
          <a:xfrm>
            <a:off x="395280" y="196056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екці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6"/>
          <p:cNvSpPr/>
          <p:nvPr/>
        </p:nvSpPr>
        <p:spPr>
          <a:xfrm>
            <a:off x="1301760" y="5621400"/>
            <a:ext cx="21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1"/>
          <p:cNvSpPr/>
          <p:nvPr/>
        </p:nvSpPr>
        <p:spPr>
          <a:xfrm>
            <a:off x="157320" y="115920"/>
            <a:ext cx="85914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уктура курсу «Загальна психологі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матика лекцій та семінарських /практичних/ занять, завдання для самостійної робот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2"/>
          <p:cNvSpPr/>
          <p:nvPr/>
        </p:nvSpPr>
        <p:spPr>
          <a:xfrm>
            <a:off x="1538280" y="4894200"/>
            <a:ext cx="657360" cy="504720"/>
          </a:xfrm>
          <a:prstGeom prst="rightArrow">
            <a:avLst>
              <a:gd name="adj1" fmla="val 50000"/>
              <a:gd name="adj2" fmla="val 583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5"/>
          <p:cNvSpPr/>
          <p:nvPr/>
        </p:nvSpPr>
        <p:spPr>
          <a:xfrm>
            <a:off x="157320" y="4406760"/>
            <a:ext cx="1806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ми семінарських /практичних/ зан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9"/>
          <p:cNvSpPr/>
          <p:nvPr/>
        </p:nvSpPr>
        <p:spPr>
          <a:xfrm>
            <a:off x="2109960" y="3500280"/>
            <a:ext cx="64227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just">
              <a:lnSpc>
                <a:spcPct val="100000"/>
              </a:lnSpc>
              <a:buClr>
                <a:srgbClr val="6c2447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Предмет, методи, завдання та основні принципи психологічної науки. Психіка і свідомість. Взаємозв’язок психології з іншими науками</a:t>
            </a: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2. Основні етапи становлення психології як науки. Основні психологічні школи і напрям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3. Проблема розвитку в психології. Виникнення психіки. Розвиток механізмів психіки. Розвиток психіки в філогенезі. Виникнення і розвиток людської свідом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 </a:t>
            </a: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4. Загальний погляд на особисті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5. </a:t>
            </a:r>
            <a:r>
              <a:rPr b="1" i="1" lang="ru-RU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Біологічне і соціальне в структурі особист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6. Самосвідомість особистості та її життєвий шля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7. Темперамент. Роль ткмпераменту в професійній діяльн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8. Характер та здібн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9. Психологічна природа активності особист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6c2447"/>
                </a:solidFill>
                <a:latin typeface="Times New Roman"/>
                <a:ea typeface="Times New Roman"/>
              </a:rPr>
              <a:t>10. Загальна психологічна характеристика діяльност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9"/>
          <p:cNvSpPr/>
          <p:nvPr/>
        </p:nvSpPr>
        <p:spPr>
          <a:xfrm>
            <a:off x="2109960" y="1554120"/>
            <a:ext cx="692604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1.  Психологія як нау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2. Взаємозв'язок еволюції психіки та нервової систе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3. Рівні психіки: свідоме, несвідоме та підсвідом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4. Пізнавальні та емоційно-вольові процес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5. Загальне поняття про особистість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700" spc="-1" strike="noStrike">
                <a:solidFill>
                  <a:srgbClr val="00192f"/>
                </a:solidFill>
                <a:latin typeface="Times New Roman"/>
                <a:ea typeface="Times New Roman"/>
              </a:rPr>
              <a:t>6. Психічні якості особистості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16:52:16Z</dcterms:created>
  <dc:creator>NOYT</dc:creator>
  <dc:description/>
  <dc:language>en-US</dc:language>
  <cp:lastModifiedBy>Tatyana</cp:lastModifiedBy>
  <dcterms:modified xsi:type="dcterms:W3CDTF">2020-08-17T18:26:51Z</dcterms:modified>
  <cp:revision>195</cp:revision>
  <dc:subject/>
  <dc:title>Моделирование ситуации успеха в личностно-ориентированном обучении</dc:title>
</cp:coreProperties>
</file>