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media/image3.jpeg" ContentType="image/jpeg"/>
  <Override PartName="/ppt/media/type.wav" ContentType="audio/x-wav"/>
  <Override PartName="/ppt/media/image1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664F-BB20-4F7A-AE15-2336E3E448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C845-8218-4C2B-8E0D-4873670535A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D883-1B59-4FEB-B326-EF5A16C2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9FE-3BF0-4BD4-B59D-D87E1688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53B-D04D-4CE2-B5FD-55AF3CB9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7BB-F30C-4CBA-877D-FC77B1DCB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CAC8-148D-442E-873C-53A34C7BE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8F2A-E342-4A75-81A4-6927D93D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33E-8D7C-45AF-9399-64788C92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01F5-31AF-4B83-827D-19689A05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DBDE-B8F4-4F79-8B29-06C9FD98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D42A-A51A-4005-BF61-E70BFF1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BDD3-B334-44A5-A24E-51841B644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EC0E-BC06-4332-9F6A-FD683883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8D70-532C-40AC-A48A-2A4AC50D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A45A3-2F2B-4C4F-B306-528BBBF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4AA7-96F0-4588-BF7B-26D169E0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54366-9E2C-4258-A86E-A1A3D256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FE0D8-F871-461C-9423-CF05DF0B3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D12-A54C-448B-8495-E3C13530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DEA-43B9-4343-8819-21A541A0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AEA1-5A4E-41B0-8F4F-0199188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1DB-0E02-44CC-848B-0758AE18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AB1-B4BE-4B47-83F1-59E12140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2313-8330-476D-8755-B7F1B60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D03-CC47-4B85-9E34-B57FA47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0615-279F-417C-9A28-2E35B84DD2D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2068-8D24-4451-AB37-5685BC3BE7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Arc 3"/>
          <p:cNvSpPr/>
          <p:nvPr/>
        </p:nvSpPr>
        <p:spPr>
          <a:xfrm>
            <a:off x="0" y="843120"/>
            <a:ext cx="2897280" cy="601488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FE8-436A-4CE2-A894-F782851E4D8E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D7F68-4E81-4417-A3A3-D2B3DACDADB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7EF53-CF73-42BA-8DC9-6FEE092627E6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8F13-A925-456E-8FC3-DB3E3AF529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cc"/>
                </a:solidFill>
                <a:latin typeface="Arial Narrow"/>
              </a:rPr>
              <a:t>Походження клітини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cc"/>
                </a:solidFill>
                <a:latin typeface="Arial"/>
              </a:rPr>
              <a:t>Херсон - 201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-92160" y="193680"/>
            <a:ext cx="199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2"/>
          <p:cNvSpPr/>
          <p:nvPr/>
        </p:nvSpPr>
        <p:spPr>
          <a:xfrm>
            <a:off x="1143000" y="6858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Line 15"/>
          <p:cNvSpPr/>
          <p:nvPr/>
        </p:nvSpPr>
        <p:spPr>
          <a:xfrm flipH="1">
            <a:off x="6553080" y="914400"/>
            <a:ext cx="106704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Line 16"/>
          <p:cNvSpPr/>
          <p:nvPr/>
        </p:nvSpPr>
        <p:spPr>
          <a:xfrm flipH="1">
            <a:off x="3124080" y="762120"/>
            <a:ext cx="419112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AA00-7C89-4E46-9271-B9854DAE8AB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D1E77-A27C-4D12-85B7-42F2547909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-2827440" y="0"/>
            <a:ext cx="12196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F0AA-D23B-4AC1-B775-F4B0DF0B711B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4383-1AF0-4005-AEE4-26A281BEB4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762120"/>
            <a:ext cx="76359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Гіпотеза хемоавтотрофного походження клітин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Рассела, Хейла 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життя виникло на великих глибинах (близько 4 км), в лужному середовищі в гідротермальних джерела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2)   гаряча вода (до 350 градусів)  несла колоїдні частки, які утворювали пористі структури, в основі яких був моносульфід заліза ті інші сульфіди металів, і крім того несла багато різних речовин СО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CN~,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,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, C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H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,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роткі алкіл-сульфід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тінки пористих структур забезпечували постійне джерело електронів, каталітичні реакції та підтримували високу концентрацію органічних речовин всередині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4)   різниця в кислотності, температурі та редокс-потенціалі між зовнішніми (темп. 350 гр.,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 9-10)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та внутрішніми (темп. 60 гр., рН 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redox potencial 500 mV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) розчинами забезпечували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остійність геохімічних умов для виникнення предбіологічних стані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8967-6D3C-4592-9538-3E56C29B4C1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45F48-42BC-4AAC-939B-0B066239BA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Group 10"/>
          <p:cNvGrpSpPr/>
          <p:nvPr/>
        </p:nvGrpSpPr>
        <p:grpSpPr>
          <a:xfrm>
            <a:off x="0" y="0"/>
            <a:ext cx="4114800" cy="8839080"/>
            <a:chOff x="0" y="0"/>
            <a:chExt cx="4114800" cy="8839080"/>
          </a:xfrm>
        </p:grpSpPr>
        <p:pic>
          <p:nvPicPr>
            <p:cNvPr id="143" name="Picture 11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70280" y="0"/>
              <a:ext cx="3811680" cy="67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12"/>
            <p:cNvSpPr/>
            <p:nvPr/>
          </p:nvSpPr>
          <p:spPr>
            <a:xfrm>
              <a:off x="0" y="6885720"/>
              <a:ext cx="4114800" cy="19533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" name="Text Box 13"/>
          <p:cNvSpPr/>
          <p:nvPr/>
        </p:nvSpPr>
        <p:spPr>
          <a:xfrm>
            <a:off x="4708440" y="547560"/>
            <a:ext cx="41306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) відклади моносульфіда заліза, які утворилися в гідротермальних джерелах “черних курильників” 360 млн. років тому наза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) зріз відкладів піриту (вік 360 млн рокі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) теж саме, але збільше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)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ористі структури сульфіду заліза, які були отримані в лабораторних умов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8740-560C-4353-8DC2-BCE3B63A0424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DC55-A3B3-4B63-AA08-079939B16CD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68007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7010280" y="1704960"/>
            <a:ext cx="16765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Модель походження життя в redox, pH та температур-ному градієнті, в підводних гідротер-мальних порожнинах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C793-AF67-465D-B342-540A44F4C633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6E83-DD19-44C5-AAD2-6ACA3A8813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46280" y="1081080"/>
            <a:ext cx="74833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тап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ра пребіотичної хімії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ра РН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ра ДН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ра ДНК та протеїні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5)    Ера універсального не вільного-існуючого анцесто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Рассел та Хейл підкреслювали, що ніяка нуклеїново-кислотна еволюція не можлива без підтримуючої геохімії, більш пізнішої біогеохімії та біохімії завершення, щоб забезпечити стійку концентрацію полімеразних продуктів (наприклад нуклеотидів),  що є основою для різних варіантів реплікації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B19A-B274-4575-BE67-59D4457C02C7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8ADF-E315-41D9-A483-9470D2E8E9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-457200" y="0"/>
            <a:ext cx="6324480" cy="7848720"/>
            <a:chOff x="-457200" y="0"/>
            <a:chExt cx="6324480" cy="7848720"/>
          </a:xfrm>
        </p:grpSpPr>
        <p:pic>
          <p:nvPicPr>
            <p:cNvPr id="156" name="Picture 5" descr=""/>
            <p:cNvPicPr/>
            <p:nvPr/>
          </p:nvPicPr>
          <p:blipFill>
            <a:blip r:embed="rId1"/>
            <a:stretch/>
          </p:blipFill>
          <p:spPr>
            <a:xfrm>
              <a:off x="15840" y="0"/>
              <a:ext cx="5295240" cy="68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 Box 6"/>
            <p:cNvSpPr/>
            <p:nvPr/>
          </p:nvSpPr>
          <p:spPr>
            <a:xfrm>
              <a:off x="-457200" y="6915960"/>
              <a:ext cx="6324480" cy="93276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2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Text Box 7"/>
          <p:cNvSpPr/>
          <p:nvPr/>
        </p:nvSpPr>
        <p:spPr>
          <a:xfrm>
            <a:off x="5334120" y="304920"/>
            <a:ext cx="380988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Модель утворенн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ільно-існуючих кліт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1)   Ускладнення біохімічних процесі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езалежне виникнення біохімічних процесів, що привело до синтезу ліпіді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езалежне виникнення біохімічних процесів, що привели до синтезу елементів клітинної оболон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Утворення клітинної оболонки та консервація окислювально-відновлювальних процесів всередині клітин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6)   Поява перших хемоавтотрофних вільно-існуючих кліти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Дата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377-F776-4E75-AC9C-513B039FC85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B35-A7DE-47B0-BEEA-D32DE86894F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cc"/>
                </a:solidFill>
                <a:latin typeface="Arial Narrow"/>
              </a:rPr>
              <a:t>Рекомендована література: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351720" indent="-35172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W., Russel M. 2002. On the origins of cells: a hypothesis for the evolutionary transitions from abiotic geochemistry to chemoautotrophic prokariotes, and from prokariotes to nucleotic cell. Phil. Trans. R. Soc. Lond. B: 604-63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ssel M.J., Hall A.J., Cairns-Smith A.G., Braterman P.S. 1988. Submarine hot springs and the origin of life. Nature 336: 11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арин А. И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968.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Жизнь, её природа, происхождение и развитие. — 2-е изд.,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полненное. — М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: Наука, 178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-351720">
              <a:spcBef>
                <a:spcPts val="601"/>
              </a:spcBef>
              <a:buClr>
                <a:srgbClr val="fffff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редингер Е. Что такое жизнь. Физический аспект живой клетки. – Москва-Ижевск, 2002. – 92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75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75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75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75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75"/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9CFC-A0D9-4618-B8C4-336CBB2B41F8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C3AF-DF06-4C59-B0CC-3402C4412D3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414720" y="1143000"/>
            <a:ext cx="63604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лан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.    Гіпотеза теплих водойм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2.    Коацерватна гіпот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3.    Хемоавтотрофна гіпотез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426600"/>
            <a:ext cx="9142560" cy="7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ffffcc"/>
                </a:solidFill>
                <a:latin typeface="Arial Narrow"/>
              </a:rPr>
              <a:t>1</a:t>
            </a:r>
            <a:r>
              <a:rPr b="1" lang="uk-UA" sz="6000" spc="-1" strike="noStrike">
                <a:solidFill>
                  <a:srgbClr val="ffffcc"/>
                </a:solidFill>
                <a:latin typeface="Arial Narrow"/>
              </a:rPr>
              <a:t>. Гіпотеза теплих водойм</a:t>
            </a:r>
            <a:endParaRPr b="1" lang="en-US" sz="6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14280" y="863640"/>
            <a:ext cx="6218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. Дарвін у 1871 р. писав в одному з листів: "Поширена думка, що всі умови для виникнення живого організму, які могли колись існувати, існують і в наш час. Але якщо навіть уявити собі, що в якій-небудь невеликій теплій водоймі, що містить усе необхідне (аміак, солі фосфорної кислоти та ін.), а також одержує світло, тепло, електричну енергію і т.д. міг би хімічним шляхом утворитися білок, здатний до подальших складних перетворень, то хіба не зрозуміло, що в наш час він був би негайно ким-небудь з'їдений або поглинутий, тоді як до виникнення живих істот цього трапитись не могло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Дата 3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2B46-A944-4717-AFE1-2B986C66BBCA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Номер слайда 4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9FB0A-89A8-41A4-93E2-A8B0D349D1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>
            <a:off x="-318960" y="1447920"/>
            <a:ext cx="3333600" cy="42861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158400" y="5848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Чарльз Дарвін (1809-1882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F8F5-6947-422B-A69A-FD13A5A4D225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BFAD1-BFA5-497A-957A-F07008885B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304920" y="1131840"/>
            <a:ext cx="3173400" cy="4552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3451680" y="1143000"/>
            <a:ext cx="62128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Життя виникло абіогенним шлях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2) Біологічній еволюції передувала довг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хімічна еволюці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3) Виникнення життя – етап еволюції матері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у Всесвіті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4) Закономірності виникнення основних етапі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життя може бути перевірено в лабораторії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атоми – прості молекули – макромолекули –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ацервати – пробіонти – одноклітинні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рганіз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4) Первинна атмосфера Землі мал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ідновлюючий характер, а перші організмі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були гетеротрофа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5) Можливість повторного виникнення житт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а Землі виключе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1269720" y="5740560"/>
            <a:ext cx="320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рофесор біохімії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парін Олександр Іванович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(1894-198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1260720" y="136440"/>
            <a:ext cx="789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2. Коацерватна гіпотез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9422-9DB5-4443-BDDE-58BA23ED8D8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270B-D156-48A3-8E3E-9CCEAB39C5C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394280" y="1371600"/>
            <a:ext cx="7854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Теорія коацерватів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Коацерватні системи – багатомолекулярні системи, які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ідокремилися від навколишнього середовища ліпідними мембрана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2) Історія однієї коацерватної краплі суттєво відрізнялася від інших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які знаходилися поруч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3) Чим повільніше проходять в коацерватній частині процеси, ти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стійкіша систем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4) Перетворення коацерватних частин у відкриті систе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иникненення здатності до самозбереження – як первинний ета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еволюції коацерваті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5) Постійне збільшення в коацерватах організованої речовини я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другий етап виникнення кліти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6) Виникнення динамічнно стійких систем як третій етап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виникнення клітин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AD342-9FD5-4F77-8790-33A49A5F866D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EAD-5920-4E5E-8FFE-F8C453E7594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6324480" cy="31622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4" descr=""/>
          <p:cNvPicPr/>
          <p:nvPr/>
        </p:nvPicPr>
        <p:blipFill>
          <a:blip r:embed="rId2"/>
          <a:stretch/>
        </p:blipFill>
        <p:spPr>
          <a:xfrm>
            <a:off x="942840" y="3908520"/>
            <a:ext cx="672480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6485-6399-4CCA-AC79-9044F8A7ADE9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88785-F16C-4B67-A301-7AF596E2E9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065600" y="1371600"/>
            <a:ext cx="8169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7) Нукле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ї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новій кислоті належить вагома роль в організації живих систем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днак вона не є самодостатнім елементом, а представляє собою всьог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лише частину загальної організації живої систе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8) Подальша еволюція пов’язана із зміню ферментативн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(каталітичних) систем в клітині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арадигми Опаріна: в основі обміну усіх сучасних живих організмі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лежить здатність використовувати органічні сполуки як вихідни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матеріал для біосінтеза білків, нуклеінових кислот та інших складов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протоплаз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Загальним для всіх організмів способом отримання енергії з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imes New Roman"/>
              </a:rPr>
              <a:t>органічних речовин є їх анаеробний розкла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7224-E19B-4E07-A494-2243F27316FC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D970-D285-406B-A42B-AC980A36467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Рисунок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197160" cy="409572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3168360" y="4951440"/>
            <a:ext cx="44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Міхаел Рассе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Michael Russel)</a:t>
            </a: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–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Times New Roman"/>
              </a:rPr>
              <a:t>британський геофізи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Рисунок 6" descr=""/>
          <p:cNvPicPr/>
          <p:nvPr/>
        </p:nvPicPr>
        <p:blipFill>
          <a:blip r:embed="rId2"/>
          <a:stretch/>
        </p:blipFill>
        <p:spPr>
          <a:xfrm>
            <a:off x="6172200" y="1150920"/>
            <a:ext cx="2971800" cy="44686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30240" y="139680"/>
            <a:ext cx="9259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ffff"/>
                </a:solidFill>
                <a:latin typeface="Times New Roman"/>
              </a:rPr>
              <a:t>3. Хемоавтотрофна гіпотеза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1"/>
          <p:cNvSpPr/>
          <p:nvPr/>
        </p:nvSpPr>
        <p:spPr>
          <a:xfrm>
            <a:off x="3049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CDE7-4EA7-4EAB-9F9C-3A6D70CDD97F}" type="datetime">
              <a:rPr b="0" lang="ru-RU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Номер слайда 2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25D05-A246-4F6A-9F4F-335CCF9A6B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Рисунок 3" descr=""/>
          <p:cNvPicPr/>
          <p:nvPr/>
        </p:nvPicPr>
        <p:blipFill>
          <a:blip r:embed="rId1"/>
          <a:stretch/>
        </p:blipFill>
        <p:spPr>
          <a:xfrm>
            <a:off x="0" y="960480"/>
            <a:ext cx="104886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 pc</dc:creator>
  <dc:description/>
  <dc:language>en-US</dc:language>
  <cp:lastModifiedBy>Customer</cp:lastModifiedBy>
  <dcterms:modified xsi:type="dcterms:W3CDTF">2019-09-19T13:25:55Z</dcterms:modified>
  <cp:revision>65</cp:revision>
  <dc:subject/>
  <dc:title>Презентация PowerPoint</dc:title>
</cp:coreProperties>
</file>