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AA5-0396-495C-8043-221DB042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C11B-42BF-4C70-960D-4370D0D3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B6DB-C9C6-4DFA-ADE5-E2B73A84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055D-E01B-4DEF-8D35-1D99B9BE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8F99-DE54-49A6-9B63-9B1AD174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94B2-F4E5-4068-9556-CBE90F45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17F4-25F4-4E14-8756-351D685A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639-0405-4D48-9F10-927B9EAE7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BAC-9D7C-44B3-AC86-436E220C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447E-29D1-40DE-B642-5B4955D8C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427-A24E-471B-89D0-5C83F4E1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005F-4EAC-4258-9F99-AEFC45AE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6483-3690-4051-88F4-6437E9531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3499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3300"/>
                </a:solidFill>
                <a:latin typeface="Arial"/>
              </a:rPr>
              <a:t>Методи природньо-географічних дослідж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5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803240" cy="18032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6" descr=""/>
          <p:cNvPicPr/>
          <p:nvPr/>
        </p:nvPicPr>
        <p:blipFill>
          <a:blip r:embed="rId2"/>
          <a:stretch/>
        </p:blipFill>
        <p:spPr>
          <a:xfrm>
            <a:off x="7236000" y="141120"/>
            <a:ext cx="1742760" cy="17686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2287440" y="2872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2060"/>
                </a:solidFill>
                <a:latin typeface="Arial"/>
              </a:rPr>
              <a:t>ХЕРСОНСЬКИЙ ДЕРЖАВНИЙ УНІВЕРСИТЕТ</a:t>
            </a:r>
            <a:br>
              <a:rPr sz="18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</a:rPr>
              <a:t>Факультет біології, географії і екології</a:t>
            </a:r>
            <a:br>
              <a:rPr sz="1800"/>
            </a:br>
            <a:r>
              <a:rPr b="1" i="1" lang="uk-UA" sz="1800" spc="-1" strike="noStrike">
                <a:solidFill>
                  <a:srgbClr val="002060"/>
                </a:solidFill>
                <a:latin typeface="Arial"/>
              </a:rPr>
              <a:t>Кафедра географії та еколог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181440" y="-360"/>
            <a:ext cx="9325080" cy="673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ета дисципліни–узагальнити найголовніші знання про сучасні методи дослідження в зарубіжній і вітчизняній фізичній географії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а завданням – сформувати уявлення, на підставі вивчення відповідних джерел географічної інформації, про сучасні методи дослідження фізичної географії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-252720" y="0"/>
            <a:ext cx="9396360" cy="7750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методи є центральним елементом усієї системи методології,…оскільки є системою правил і прийомів підходу до вивчення явищ, законів і закономірностей природи, суспільства і мислення, а також шлях, спосіб досягнення певних результатів і упізнанні і практиці, прийом теоретичного дослідження або практичних дій, який виходить із знання закономірностей розвитку об’єктивної дійсності і досліджуваного предмету, явища, процес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9T09:31:29Z</dcterms:created>
  <dc:creator>User</dc:creator>
  <dc:description/>
  <dc:language>en-US</dc:language>
  <cp:lastModifiedBy>1</cp:lastModifiedBy>
  <dcterms:modified xsi:type="dcterms:W3CDTF">2020-07-29T11:54:20Z</dcterms:modified>
  <cp:revision>4</cp:revision>
  <dc:subject/>
  <dc:title>Методи природньо-географічних досліджень</dc:title>
</cp:coreProperties>
</file>