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B99-84EC-4422-AAB4-D7F51492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BBE-AF13-46BB-8FAB-E591231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804-0C39-4B23-90CB-B248F0EA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46A-F8C7-41C1-8DEB-B115742D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C51-1090-47BB-8F80-E29ED0D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ED6-5CE0-4DAB-8CC2-55018DB0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ABC-4384-4134-AB8A-7326247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F7D-B070-4763-911E-8C0E66F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7C5-C059-4368-BA75-2FA5E90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B7C-C6EF-447B-9E06-2C5296E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D7B-4B0E-4208-B005-589ABB0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BD0-849D-4930-B943-14A564B3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BE26-2B21-451F-94E4-C198B5AF5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49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Методи природньо-географічних дослідж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803240" cy="1803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7236000" y="141120"/>
            <a:ext cx="1742760" cy="1768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2287440" y="287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ХЕРСОНСЬКИЙ ДЕРЖАВНИЙ УНІВЕРСИТЕТ</a:t>
            </a:r>
            <a:br>
              <a:rPr sz="18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</a:rPr>
              <a:t>Факультет біології, географії і екології</a:t>
            </a:r>
            <a:br>
              <a:rPr sz="18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</a:rPr>
              <a:t>Кафедра географії та еколо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325080" cy="673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мета дисципліни–узагальнити найголовніші знання про сучасні методи дослідження в зарубіжній і вітчизняній фізичній географії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 завданням – сформувати уявлення, на підставі вивчення відповідних джерел географічної інформації, про сучасні методи дослідження фізичної географі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775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методи є центральним елементом усієї системи методології,…оскільки є системою правил і прийомів підходу до вивчення явищ, законів і закономірностей природи, суспільства і мислення, а також шлях, спосіб досягнення певних результатів і упізнанні і практиці, прийом теоретичного дослідження або практичних дій, який виходить із знання закономірностей розвитку об’єктивної дійсності і досліджуваного предмету, явища, процес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9T09:31:29Z</dcterms:created>
  <dc:creator>User</dc:creator>
  <dc:description/>
  <dc:language>en-US</dc:language>
  <cp:lastModifiedBy>1</cp:lastModifiedBy>
  <dcterms:modified xsi:type="dcterms:W3CDTF">2020-07-29T11:54:20Z</dcterms:modified>
  <cp:revision>4</cp:revision>
  <dc:subject/>
  <dc:title>Методи природньо-географічних досліджень</dc:title>
</cp:coreProperties>
</file>