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F38D-C3E5-432E-A5B8-62C0F5B7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F86-A6DF-4ABC-8F2D-AE4D89E2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E59-5FD3-4C4C-B8E3-0B8DD645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FCD-9041-4634-AE5A-06D4EC84C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9798-CFF6-4265-BDB0-4009ACD4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4D63-A7FC-4117-AE01-6060BB99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1E77-DC80-4EDE-AE70-F154F0555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E0E0-B36F-4243-A9EA-42F71CDA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18C0-0F85-4DCE-A10F-DBA292CF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6DA8-F187-45AA-AF59-35BDE817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A9EEE-BB14-4EC6-AEEB-DCF553EF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28D5-E0F6-42BE-9F4C-46E085C6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BACE-07BB-471F-A6F8-19431D2F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5D727-E982-4959-9E0D-BAFC22B0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5372-CB0B-4166-A5E3-8BD102FD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54D5B-F5B3-4FA9-83AF-E1EAB6EC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E043-3B7E-4A91-8EAF-B3B1E816E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8B7F-0815-4D1D-B06E-A950C39D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5847-5E6C-4DB2-A774-9B059B10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E9F6-0E2E-4B3B-9E37-57DF253C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7D19-234B-4777-9311-F7B4398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394-62F8-41D4-B29C-B928412C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BA2-2AD7-4651-86BF-19746AE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6EA0-3EB4-47AF-AC29-F03C45E1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B4E-7D97-46D2-B957-D35494C3EB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C10-15C7-4A4B-9C06-E38840F15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sylib.org.ua/books/daino01/index.htm" TargetMode="External"/><Relationship Id="rId3" Type="http://schemas.openxmlformats.org/officeDocument/2006/relationships/hyperlink" Target="http://psylib.org.ua/books/daino01/index.htm" TargetMode="External"/><Relationship Id="rId4" Type="http://schemas.openxmlformats.org/officeDocument/2006/relationships/hyperlink" Target="http://psylib.org.ua/books/daino01/index.htm" TargetMode="External"/><Relationship Id="rId5" Type="http://schemas.openxmlformats.org/officeDocument/2006/relationships/hyperlink" Target="http://psylib.org.ua/books/daino01/index.htm" TargetMode="External"/><Relationship Id="rId6" Type="http://schemas.openxmlformats.org/officeDocument/2006/relationships/hyperlink" Target="http://psylib.org.ua/books/daino01/index.htm" TargetMode="External"/><Relationship Id="rId7" Type="http://schemas.openxmlformats.org/officeDocument/2006/relationships/hyperlink" Target="http://psylib.org.ua/books/daino01/index.htm" TargetMode="External"/><Relationship Id="rId8" Type="http://schemas.openxmlformats.org/officeDocument/2006/relationships/hyperlink" Target="http://psylib.org.ua/books/daino01/index.htm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libr.dp.ua/" TargetMode="External"/><Relationship Id="rId3" Type="http://schemas.openxmlformats.org/officeDocument/2006/relationships/hyperlink" Target="http://www.library.dp.ua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5ffff"/>
                </a:solidFill>
                <a:latin typeface="Tahoma"/>
              </a:rPr>
              <a:t>Основи психотерапії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14240" y="472428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к.н. фіз. вих та спорту, ст. викладач кафедри медицини та фізичної терапі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Tahoma"/>
              </a:rPr>
              <a:t>Інна Тар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7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Мета викладання навчальної дисциплі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йомити студентів з основними напрямками психотерапії, закономірністю психотерапевтичного процес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Основні завдання вивчення дисциплін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зкрити основні поняття, принципи, види та задачі психотерапії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знайомитися із сучасними теоріям психотерапії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формувати уявлення про особистість психотерапев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5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Заплановані результати навчанн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) знати основні поняття, принципи, задачі та можливості психотерапії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) знати основні теорії психотерапії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) знати принципи психотерапевтичної допомоги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) знати механізми корекційного впливу в практиці психологічного консультуванн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) застосовувати на практиці окремі техніки психотерапії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Теми лекційних та практичних занять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Вступ до психотерапії. Народження психотерапії. Місце психотерапії у системі гуманітарного та природничого знання. Історія становлення психотерапії у світі та СНД. Сучасна психотерапія в Україні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Медична та психологічна моделі психотерапії. Симптоматична та особистістноорієнтована психотерапія. Класифікації напрямків, видів та методів психотерапії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Структура психотерапевтичної допомоги. Законодавча база психотерапевтичної діяльності. Психотерапевтична освіта. Вимоги до особистості психотерапевта. Проблема оцінки ефективності психотерапії. Етичні кодекси в психотерапії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нтакт в психотерапії: види та етапи. Різні парадигми психотерапевтичного контакту. Змістовно та процесуально орієнтована психотерапія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Метафори психотерапевтичної допомоги. Принцип процесуальності в психотерапії. Типологія клієнтів психолога-психотерапевта. Психологічні типи скарг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Механізми психотерапії. Поняття про саногенні механізми. Чинники саногенезу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Відповідність механізму психологічного впливу основним напрямкам психотерапії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Психотерапія в умовах неврологічної, психіатричної та соматичної кліні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000" spc="-1" strike="noStrike">
                <a:solidFill>
                  <a:srgbClr val="ffffff"/>
                </a:solidFill>
                <a:latin typeface="Tahoma"/>
              </a:rPr>
              <a:t>Рекомендована література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Основна: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Александров А. А. Психотерапия: Учеб. пособие — СПб: Питер, 2004. – 48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ahoma"/>
              </a:rPr>
              <a:t>2. Бурлачук Л.Ф. Жидко М.Е. Кочарян А.С. Психотерапия : Учеб.для вузов. — 2-е изд., стереотип. — СПб.: Питер, 2007. — 48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Каліна Н.Ф. Психотерапія: підручник студ. вишів – К.: «Академвидав», 2010. – 28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Крарвасарский Б.Д. Психотерапия: Учебник для вузов, СПб.: Питер, 2007. – 365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Методы современной психотерапии: Учебное пособие / Составители Л. М. Кроль, Е. А. Пуртова. — М.: «Класс», 2001. — 480 с. (Библиотека психологии и психотерапии, вып. 90) 6. Павлов И.С. Психотерапия в практике: технология терапевтического процесса, М.: Акад.Проект, 2012 – 512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Соловьева С.Л. Психотерапия. Новейший словарь практического психолога. - М.: АСТ, 2005. - 704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ahoma"/>
              </a:rPr>
              <a:t>Допоміжна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. Бек А., Бек, Д. С. Когнитивная терапия: полное руководство. Cognitive Therapy: Basics and Beyond. — М.: «Вильямс», 2006. – 40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ffffff"/>
                </a:solidFill>
                <a:latin typeface="Tahoma"/>
              </a:rPr>
              <a:t>2. Бендлер Р., Гріндер Д. Паттерни гіпнотичних технік Мілтона Еріксона.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Т1 - М.: Прайм-Еврознак, 2005. - 225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3. Березин С.В., Исаев Д.С. Ландшафтная аналитика: опыт трансдисциплинарной психотерапии. – Самара: 2009 г. – 109 стр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4. Блазер А., Хайм Э., Рингер Х., Томмен М. Проблемно-ориентированная психотерапия. Интегративный подход. – М. : Независимая фирма "Класс", 2001 – 272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5. Бьюдженталь Дж. Искусство психотерапевта. 3-е международное издание / Пер. с англ. и общ. ред. М. Р. Мироновой. – СПб.: Питер, 2001. – 304 с: ил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6. Витакер К. Группі как інструмент психологической помощи. – Пер. с англ. В.П. Чурсина. - М.: Независимая фирма Класс, 2000. — 432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7. Власова Т.В. Когнитивно-бихевиоральный подход в психотерапии и консультировании. Хрестоматия.– Владивосток: ГИ МГУ, 2002. – 11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8. Джинотт Х.Дж. Групповая психотерапия с детьми. Теория и практика игровой терапии. – Издательство: Москва: Апрель-Пресс, 2005. - 272 с. (Серия «Детская психология»)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9. Дэйноу Ш. Сам себе психотерапевт (самоучитель по психотерапии). СПб, Питер, 2001. 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://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psylib.org.ua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/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books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/daino01/</a:t>
            </a:r>
            <a:r>
              <a:rPr b="0" lang="ru-RU" sz="1000" spc="-1" strike="noStrike" u="sng">
                <a:solidFill>
                  <a:srgbClr val="00ccff"/>
                </a:solidFill>
                <a:uFillTx/>
                <a:latin typeface="Tahoma"/>
                <a:hlinkClick r:id="rId8"/>
              </a:rPr>
              <a:t>index.htm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0. Комер Р. Патопсихология поведения. Нарушения и патологии психики. 4-е изд. / Рональд Комер — СПб.: Прайм-ЕВРОЗНАК, 2007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1. Кочунас Р. Экзистенциальная терапия в группах. – М., 2008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2. Мэнделл Дж., Дамон Л. Групповая психотерапевтическая работа с детьми, пережившими сексуальное насилие. – М.: Генезис, 2001. - 16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3. Милтон Дж. Психоанализ и когнитивно-поведенческая терапия — конкурирующие парадигмы или общая почва? // Журнал практической психологии и психоанализа. — 2005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4. Рене Ф. Марино. История доктора: Джейкоб Л. Морено - создатель психодрамы, социометрии и групповой психотерапии. – Москва : Класс, 2001. – 224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5. Рудестам К. Групповая психотерапия. – СПб.: Питер Ком, 1999. – 384 с. (Мастера психологии)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6. Старшенбаум Г. Работа психолога над собой: техники внутренней супервизии. – Ростов н/Д: Феникс, 2014. — 270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7. Фурманов И.А., Фурманова Н.В. Основы групповой психотерапии. – Учебное пособие [Текст]. /И. А.Фурманов, Н.В. Фурманова. - Минск "Тесей", 2004 - 256 с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8. Эллис, Альберт. Гуманистическая психотерапия. Рационально-эмоциональный подход. — Сова, Эксмо-Пресс, 2002. 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19. Ялом И. Групповая психотерапия: теория и практика /Пер. с англ.- 2-е изд. - М.: Апрель Пресс. Психотерапия, 2007. - 576 с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1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Інформаційні ресурси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http://www.5port.ru/psychotherapy – література з психотерапії доступна для скачування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укова бібліотека Дніпропетровського національного університету ім.О.Гончара м.Дніпропетровськ, вул. Казакова, 8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Дніпропетровська обласна універсальна наукова бібліотека М.Дніпропетровськ, вул. Ю.Савченка, 10 (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www.libr.dp.u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4. Дніпропетровська центральна міська бібліотека М.Дніпропетровськ, вул. Леніна, 23 (</a:t>
            </a:r>
            <a:r>
              <a:rPr b="0" lang="ru-RU" sz="14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www.library.dp.ua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)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5. Електронна бібліотека Національної бібліотеки України ім..В.І.Вернадського (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nbuv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gov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ua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6.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www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psylib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kiev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ua</a:t>
            </a:r>
            <a:r>
              <a:rPr b="0" lang="uk-UA" sz="1400" spc="-1" strike="noStrike">
                <a:solidFill>
                  <a:srgbClr val="ffffff"/>
                </a:solidFill>
                <a:latin typeface="Tahoma"/>
              </a:rPr>
              <a:t> – он-лайн бібліотек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04T06:35:39Z</dcterms:created>
  <dc:creator>user</dc:creator>
  <dc:description/>
  <dc:language>en-US</dc:language>
  <cp:lastModifiedBy>user</cp:lastModifiedBy>
  <dcterms:modified xsi:type="dcterms:W3CDTF">2020-06-04T10:27:5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