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3325-4841-4F40-9AED-2145CF72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1848-A14D-4B11-9171-33CA12C57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5BA-F938-47F8-97C8-2D30C7E78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2E35-5BE5-46EA-83DE-DEDE43F3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1D1B4-2E5D-492A-8FF2-E16B0BB4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0E0D0-B6FB-4A6A-A182-40C953E7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D064B-0826-4943-A89E-F8F5F8C1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3EBA-37B8-4C7D-8F72-7DE2CD6B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67AE-7955-496B-A1B3-4D5FB932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DD09-05F8-409C-A577-6F29F414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3516-646E-4951-856C-0E384844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E206-2FBB-4668-9482-721CF563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D9BF-13BD-45FA-A68D-13F0FD138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2259-881C-4840-8F5A-47CB14BE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3309E-A8B4-429C-91B1-C65C1B50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1603E-C8BB-4117-9BC9-16EBE622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F430-918F-4E3D-A242-A6309200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C0713-7C9F-4E48-A56F-0860C337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27ECB-21FF-401A-A538-97383F98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5CFE3-AD5A-496F-85E7-5E5305B0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F3A99-2A0D-4607-952D-4BF6897C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88851-80DD-4EF1-BC03-357090BC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062-2E48-4411-80F1-A690DF77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C8BCB-4B7B-48D4-8BB7-5A666B4E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52B4-2622-498F-A635-7F05DB05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532E8-1054-45D7-98AE-BBC77FDA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534B-4482-4DC6-AF06-E22DE018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B7C5D-2F32-46A1-A7B7-9631AD7F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C04FA-2CA1-441A-9F9B-57530C573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E1CFC-0B3D-43B9-9110-9B602AA6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C68E4-6636-4DCA-8422-8AE70D45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75BC6-E4D0-45A7-B4F9-895972C1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8A2AE-23BD-4FD9-BB6A-B85D493F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8D34-213E-4420-9763-5A43270A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8A4FB-E667-41A0-AE45-C455EB7E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C568-A277-453C-80D7-974E58F7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B520B-DC57-467D-96C9-E1194BF2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6D55B-6C48-4748-8053-F003CC2C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6404F-4A11-4712-9410-BC5EF81A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4B223-D7A0-472A-89DC-0D2B8FE9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FBE23-5AF8-46E6-9178-408DE72E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3D4C8-4E3B-4342-861C-66312F46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6BEEF-B607-4CB5-80EB-8FE78112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17DDC-8A14-4AC4-9696-46E6D783E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FB6B-7903-4CBF-84C3-62AFFDF8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0E983-9FDD-48D3-91DF-330AA6EE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800C7-00D6-4871-9FC4-5BF0038F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122314-C7FF-4FE2-B870-72184872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FC443-BADD-4BA4-A816-333685D9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AC0B6-C419-4C9C-B15F-BABEA55C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B02FE-55DC-4A9C-9BE5-677CF2F3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AD3F2-64CE-4169-941B-BC5858DF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42AD0-84CC-4F6A-B919-B89C5FFA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706A1-1E85-44F3-9CCB-77B77917F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E8F03-F0C8-4815-8AD2-71AC3760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FBFE-D026-4BBB-9459-BC6BC09B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97E97-2D1B-4843-B3BE-E1C5EE106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C9A-5866-45AE-81A7-201E7153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B6F1-7700-47CF-A5D3-8C5C0930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566C-8DDA-4980-89FF-0E490DD7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202E-F271-4B9F-B988-942FC07AB72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E1B0-1F45-455E-A867-F92731BB633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B5F0-E79D-4550-BFFB-18955AAB49B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BBFF-C2B9-4563-AE69-BD5786A0406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FD76-6847-4410-A087-8B02FEC50A2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19912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Дисципліна за вільним вибором студент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Trebuchet MS"/>
              </a:rPr>
              <a:t>Спеціальність 227 Фізична терапія, ерготерапія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3" name=""/>
          <p:cNvGraphicFramePr/>
          <p:nvPr/>
        </p:nvGraphicFramePr>
        <p:xfrm>
          <a:off x="285840" y="1714680"/>
          <a:ext cx="7643880" cy="4643280"/>
        </p:xfrm>
        <a:graphic>
          <a:graphicData uri="http://schemas.openxmlformats.org/drawingml/2006/table">
            <a:tbl>
              <a:tblPr/>
              <a:tblGrid>
                <a:gridCol w="2311200"/>
                <a:gridCol w="2994120"/>
                <a:gridCol w="2338560"/>
              </a:tblGrid>
              <a:tr h="788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йменування показникі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лузь знань,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іальність</a:t>
                      </a: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рівень вищої освіт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арактеристика навчальної дисципліни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ількість </a:t>
                      </a:r>
                      <a:br>
                        <a:rPr sz="1500"/>
                      </a:b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едитів – 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алузь зн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хорона здоров’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бірковий компонент освітньої програм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дулів –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пеціальність: 227 Фізична терапія, ерготерап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ік підготовки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4-й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местр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гальна кількість годин – 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екції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ижневих годин для денної форми навчання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удиторних – 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стійної роботи студента – 2 го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упінь вищої освіти– 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калав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ні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 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остійна робота – 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ид контролю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</a:t>
                      </a: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br>
                        <a:rPr sz="1500"/>
                      </a:br>
                      <a:r>
                        <a:rPr b="1" lang="uk-UA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иф.залі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642960"/>
            <a:ext cx="7238880" cy="58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200" spc="-1" strike="noStrike">
                <a:solidFill>
                  <a:srgbClr val="000000"/>
                </a:solidFill>
                <a:latin typeface="Trebuchet MS"/>
              </a:rPr>
              <a:t>Метою</a:t>
            </a: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 навчальної дисципліни «Основи соціальної реабілітації» є формування основ професійної компетентності в області проектування і реалізації - в різних інституційних умовах - технологій соціальної реабілітації різних категорій осіб зі специфічними соціальними потребами і проблемами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Когнітивні вимоги в рамках вивчення модуля характеризуються наступними </a:t>
            </a:r>
            <a:r>
              <a:rPr b="1" i="1" lang="uk-UA" sz="2200" spc="-1" strike="noStrike">
                <a:solidFill>
                  <a:srgbClr val="000000"/>
                </a:solidFill>
                <a:latin typeface="Trebuchet MS"/>
              </a:rPr>
              <a:t>компетенціями</a:t>
            </a:r>
            <a:r>
              <a:rPr b="0" i="1" lang="uk-UA" sz="22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- використання теоретичних і практичних знань для проектування реабілітаційного середовища, для аналізу різних соціально реабілітаційних технологій, для організації соціального партнерства, для побудови системи оцінки власної діяльності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- поповнення професійних знань на основі використання сучасних джерел інформації і участі в інноваційних дослідженнях;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Trebuchet MS"/>
              </a:rPr>
              <a:t>- вибір тієї чи іншої концепції, підходу, технології на основі її критичного осмисленн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"/>
          <p:cNvGraphicFramePr/>
          <p:nvPr/>
        </p:nvGraphicFramePr>
        <p:xfrm>
          <a:off x="357120" y="1000080"/>
          <a:ext cx="8001000" cy="5735520"/>
        </p:xfrm>
        <a:graphic>
          <a:graphicData uri="http://schemas.openxmlformats.org/drawingml/2006/table">
            <a:tbl>
              <a:tblPr/>
              <a:tblGrid>
                <a:gridCol w="495360"/>
                <a:gridCol w="6218280"/>
                <a:gridCol w="1287360"/>
              </a:tblGrid>
              <a:tr h="463320">
                <a:tc>
                  <a:txBody>
                    <a:bodyPr lIns="54360" rIns="54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  </a:t>
                      </a: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зви т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ількість год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 gridSpan="3">
                  <a:txBody>
                    <a:bodyPr lIns="54360" rIns="54360" tIns="0" bIns="0" anchor="ctr">
                      <a:noAutofit/>
                    </a:bodyPr>
                    <a:p>
                      <a:pPr marL="44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ь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marL="44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оретичні основи соціальної реабілі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туп до соціальної реабілі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ливості діяльності соціально-реабілітаційного центр</a:t>
                      </a: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ії соціальної реабілі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ико-соціальна реабілітація інваліді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880">
                <a:tc gridSpan="3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дуль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ії соціальної реабілітації осіб з обмеженими можливостями здоров’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ливості соціальної реабілітації інвалідів з порушеннями функцій опорно-рухового апарат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іально-побутова реабілітація інвалідів з порушеннями слух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іальна реабілітація інвалідів з порушенням зо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ливості соціальної реабілітації інвалідів з психічними порушеннями та інтелектуальною недостатніст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ізична культура і спорт для інвалідів та інших категорій осіб з обмеженими можливостями як напрямок соціальної реабілітаці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ії соціальної роботи з сім’ями, що виховують дітей-інвалідів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 gridSpan="2"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7T18:41:59Z</dcterms:created>
  <dc:creator>V</dc:creator>
  <dc:description/>
  <dc:language>en-US</dc:language>
  <cp:lastModifiedBy>V</cp:lastModifiedBy>
  <dcterms:modified xsi:type="dcterms:W3CDTF">2020-06-07T18:51:25Z</dcterms:modified>
  <cp:revision>3</cp:revision>
  <dc:subject/>
  <dc:title>ОСНОВИ СОЦІАЛЬНОЇ РЕАБІЛІТАЦІЇ</dc:title>
</cp:coreProperties>
</file>