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F7F-F8D3-464B-AC20-AADB0F032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75B0-B12F-43D5-8C19-C2A28CD8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5FC8DB-2BD3-4466-A6E6-AC2AC963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0E5F49-A438-451F-94E2-82E634C9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CED3BD-756E-4F83-8F29-6D7C5587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99C4F2-E50F-40CF-B8CA-B3ADBBC8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4ADC71-4842-488D-8DA7-F63F69F1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B1CDB-527D-4A30-B94B-0FFE9EA8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63962E-785C-4FF3-A2A6-4B4AC318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28F2E6-C8A2-4EA1-83C2-1B927349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EAD40-3997-4B22-8549-3A3D04F4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095432-929C-4E49-B427-85FCEF3C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3A4-0464-4AF4-9D04-4A8B6923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10BAAC-728B-4373-B3F0-737226EF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CB1D03-8030-4B9A-A658-27283D43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FE059-301E-48C5-BB26-A198F15F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8E0170-356C-4BBD-8FD0-F9420A60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10554E-40D5-47A6-A7FB-9E153403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D24450-FB5F-4ADC-8E09-D108D9E6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A3C3F1-0054-43F0-865A-190AC912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0F523C-D0B4-4DC1-B796-BBDB8251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44C9A9-E43A-4B8F-B9CB-8401777A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36CF8-03B4-4487-AA69-66B1F237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1CD6-C760-49EB-BDFF-5CA73B70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75D9EA-AD75-4412-AAC6-70886462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22F0A-CD55-4280-BF35-7C12B8F2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C0C61-E75C-45D0-8C4D-ABBF8705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49051-94D6-4BEE-A20C-84A983D9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0D1C2-6027-47E1-BDAA-941FC5DC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41131-6C3E-4F22-8F10-7C42A90B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6C9496-4B22-4EEE-A23C-E342D1C0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478B6-9C9E-462B-A773-736DF8BD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42F2E-B2EC-4114-80F8-C0ADE497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454E0-1AD7-4976-8F04-86547A52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74A2-43FB-4B6C-BF62-243F2E6F6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95BAB-0586-4E73-9D0B-2D6DF8C5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1D35BA-54C5-4CB7-86F5-13ED98E2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491A6-CABB-4E0A-8C5B-EC391465B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0339FF-15B4-44F3-85CC-7DF6E605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ECB1F8-16E6-41CF-94EA-F1F2809F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50945B-7327-486B-8A2C-0D8C2EF9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C85E39-3FEE-4C08-B807-46B485EE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B6B5F-9CD8-47D9-AC1B-074B4A4C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1D78F4-E7C6-4357-B72E-FF9B86E0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48A003-BEAE-4739-AC12-C7241D80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1BC2-5588-478C-9942-AA6A8AF6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03585A-AE98-4596-9606-60C838E5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AD2E4-20F5-45A5-BBEF-6AE03087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0D84F6-E314-4858-A5B2-38479D1A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1146F7-B4D6-4975-831F-F7B968CA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E96487-67A2-4F1F-B806-501A34B1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43F4-88BC-48D4-A2A5-EFEC0CA3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00EE-710E-4A12-9975-07AAE4E1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A750-6810-4141-A705-D5197B7F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941F-0675-4EAD-9A7B-1817E48C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9203-9E2D-4ABD-A891-C32BAAFD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F96-8D8F-4A60-A04B-C0190FC7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8FD9F-03A3-4324-BC9B-8D3CC265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D2AD-02DA-41B8-9CFF-992E1E8A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CF52-5E5C-49D5-BCB3-68880D01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3EEE-D08A-4032-BC89-E1BA642B0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189D-0C46-4434-B39A-8A2FD251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DFA1D-02C3-4131-B4A4-F09D03E4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C83B1-743F-4093-B72C-95DC138F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C703A-DF75-4B41-9224-7A6584B6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CABE7-F857-4C39-AB82-43223001C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61D0D-EC7F-4DDE-B56A-92A81F10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4B5-28C2-4E8A-9ED7-BADB88A9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4E26D-84BC-4D2E-9D1E-C1648D46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056E2-0800-4278-9880-AC838C3D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4D2B4-CCE6-4D8E-B3C6-FEA1F35D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C7199-C0E1-43C4-AA3B-E8C94E1A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4361F-78C2-44FF-B208-DA24DF44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4C88C-4C61-4803-87B9-9F633C78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B74DA-4E75-4C9D-BAA9-48218908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90F23-240F-4D29-BE0B-F058D734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19523-158C-4C31-980E-9A61777C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1ED50-FD08-4F3A-B37E-B10081FD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61A-0270-4F0E-8B7B-99CD2525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0DF85-A1E8-4B09-A788-00926658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EE528-E8EA-44B6-8625-BEEC0AC0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E12C5-C9CE-4F8B-A1C3-114DDF66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6AD87-E7D7-41DF-8B03-F11E947F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1859F-535B-4928-93CE-78C749E8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F7495-F008-4C1E-9AD7-23B0F128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2096F-0C68-4CD2-A276-4F815FE51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18C95-566E-4678-9A4C-3A9324CF0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4D540-46F1-42D2-A899-974C15EC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D0C6E-B790-4AD8-B4FE-A087E077D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3BDA-BB49-43C2-8DBA-F400C4E6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DD4DC-0DB8-4E3D-BE4A-B342E449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BFCD6-FAB3-4B7D-80AB-F4100B12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42B4E-92B8-4F9E-ACCA-C889D864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FD1FA-464F-4EB0-A3A9-F794995C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72651-7F31-457A-89D1-FEA6438F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AF4DA-8C09-4417-B4DA-F01D64E7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E4EDA-42C9-44B5-B6BE-87057C4F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B4A08-81F9-44F7-BC85-396B0569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690AF-0849-4662-907F-51DA1854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20769-AA5F-4112-9CC6-64B70D24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BA9D-4680-4A1D-B03C-6165E0E1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47C1F-B429-4EE3-8E05-B7FE31EF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4030E-3BBE-4BA4-9A06-5F8BB10FE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90DAF-B625-4CA0-A911-8E69B810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C1780-2C0D-4377-ABCC-CEFCDEC8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68FCC-C3DD-4A21-920C-91CCB474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AFDF2-06EF-48A6-A563-A2915899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657B5-1AC2-49C0-A8CC-4DDE5A5F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FEA78-4B83-402D-BC65-BC254A06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90EBF-9F70-482F-8CBF-7C086CE62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FB067-C72F-4A97-8EBC-D909CACC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C194-578D-487A-9587-56C72C8D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BFA81-63EB-4170-B3D6-238B7698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C1D5D-85E8-4889-83A7-D495F7AF9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7230D-FD0F-45A6-B2CE-68A79DF2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E307D-8180-45BB-AEF5-BEFCF8FBC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9BC71-0EF0-4E0C-8D91-3F255E99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250E7-ED40-453D-824B-314E2A57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089F0-632C-40BE-ABAF-FCBC2E9D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547CD-D4C9-49E5-BDBD-93ADED1D7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E306E-0C49-49EA-A2FB-872603C9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E5222-8D13-4DB4-A39E-C4011D19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1B91-2630-4BB5-A314-211468FA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596CB3-8F65-451A-AA49-E3F93350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4371B-5F5A-484B-8213-16AF7653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BD3B4-C8E9-4532-BDBE-B697D8FB2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78C7C-36FC-4DF2-AFAD-96670D2E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FFBFA-1018-4452-A89B-5838EF395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AD640-D068-40FC-A55D-65C24C33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19D04-BA64-4F43-9BC5-B94C27C4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2DAEE-7FB8-4054-8173-1356C196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A4F34-AE3B-42C8-9A86-A88D4DED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4E26D-290A-40D3-844B-AEC9C50A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1A24-EA26-4981-92D5-6B887887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A3028-D5C5-4ED2-92DF-10B71760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02921-9858-4923-AA41-BEE2BFB0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373DD-C261-402E-8144-2A73879A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F8655-4936-4939-AF91-63BA6966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699B0-CAB2-4C05-8C1A-D649589AB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DBDCF-7F9B-4E62-A29E-141B1EDB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A2D69-98D1-4BDB-9FE5-5B1F5E295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6A042-0938-4E1F-9585-DD482885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8CA12-30A7-403C-AD2D-7457C4F9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33E101-FC68-428E-8450-E1F9370C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13CF-9BEA-4DDB-861F-1F902143E6B6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203040" y="53352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203040" y="152280"/>
            <a:ext cx="117777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203040" y="609480"/>
            <a:ext cx="36576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727280" y="2286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852560" y="324000"/>
            <a:ext cx="56196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828440" y="31284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8AA8-713F-40D2-AB9E-7011E908AD3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7716960" y="640548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401400" y="6409800"/>
            <a:ext cx="4779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44B9-8752-4A92-B108-FACDAFB33CD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9347040" y="0"/>
            <a:ext cx="2845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1219212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952668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9120240" y="292572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9245520" y="3021120"/>
            <a:ext cx="56052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9221400" y="300996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9CAA-DB14-4B9C-A0DD-81D7AD5027DF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11988720" y="324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1219212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208080" y="2419200"/>
            <a:ext cx="11775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5689440" y="211464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5815080" y="220968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5790960" y="21985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68AF-C9E3-447E-BD4B-2D4B237CB23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5814720" y="10270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ED34-99EA-4DCD-B54C-400A2A71A50B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11988720" y="1908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203040" y="2286000"/>
            <a:ext cx="117777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208080" y="142920"/>
            <a:ext cx="11775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203040" y="243828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5689440" y="211464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5815080" y="220968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5790960" y="21985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1EFF-969F-45EE-A726-70DD0ACD2CC7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6084720" y="1576080"/>
            <a:ext cx="111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7721640" y="6409800"/>
            <a:ext cx="4059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D3B3-8C3F-4A3D-A6F5-B11BBF0871F4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609588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121921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203040" y="1371600"/>
            <a:ext cx="117777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95120" y="6391440"/>
            <a:ext cx="1177632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203040" y="127944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406440" y="6409800"/>
            <a:ext cx="4775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5790960" y="10429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99DC-CEAF-43CC-83D6-61FC1B45964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5790960" y="1036440"/>
            <a:ext cx="60948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0CAC-45D6-4316-B08E-0B8FE5BE6DD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1219212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203040" y="15876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5689440" y="6324480"/>
            <a:ext cx="8128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50E5-717E-4FDC-A86B-C4D21F8804E6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203040" y="152280"/>
            <a:ext cx="117777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1219212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203040" y="609480"/>
            <a:ext cx="36576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203040" y="53352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727280" y="2286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852560" y="324000"/>
            <a:ext cx="56196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828440" y="31284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D831-265F-40EF-9B3D-2256E02813C8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401760" y="6409800"/>
            <a:ext cx="4511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millattashlar.ru/index.php/&#1060;&#1072;&#1081;&#1083;:&#1055;&#1072;&#1083;&#1077;&#1086;&#1075;&#1077;&#1086;&#1075;&#1088;&#1072;&#1092;&#1080;&#1103;.jpg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41000" y="1488960"/>
            <a:ext cx="952668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35e40"/>
                </a:solidFill>
                <a:latin typeface="Georgia"/>
              </a:rPr>
              <a:t>ХЕРСОНСЬКИЙ ДЕРЖАВНИЙ УНІВЕРСИТЕТ</a:t>
            </a:r>
            <a:br>
              <a:rPr sz="2400"/>
            </a:br>
            <a:r>
              <a:rPr b="0" i="1" lang="uk-UA" sz="2400" spc="-1" strike="noStrike">
                <a:solidFill>
                  <a:srgbClr val="435e40"/>
                </a:solidFill>
                <a:latin typeface="Georgia"/>
              </a:rPr>
              <a:t>Факультет біології, географії і екології</a:t>
            </a:r>
            <a:br>
              <a:rPr sz="2400"/>
            </a:br>
            <a:r>
              <a:rPr b="0" i="1" lang="uk-UA" sz="2400" spc="-1" strike="noStrike">
                <a:solidFill>
                  <a:srgbClr val="435e40"/>
                </a:solidFill>
                <a:latin typeface="Georgia"/>
              </a:rPr>
              <a:t>Кафедра географії та екології</a:t>
            </a:r>
            <a:br>
              <a:rPr sz="3600"/>
            </a:b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Рисунок 5" descr=""/>
          <p:cNvPicPr/>
          <p:nvPr/>
        </p:nvPicPr>
        <p:blipFill>
          <a:blip r:embed="rId1"/>
          <a:stretch/>
        </p:blipFill>
        <p:spPr>
          <a:xfrm>
            <a:off x="9720360" y="241200"/>
            <a:ext cx="2100240" cy="2130480"/>
          </a:xfrm>
          <a:prstGeom prst="rect">
            <a:avLst/>
          </a:prstGeom>
          <a:ln w="0">
            <a:noFill/>
          </a:ln>
        </p:spPr>
      </p:pic>
      <p:sp>
        <p:nvSpPr>
          <p:cNvPr id="608" name="Прямоугольник 4"/>
          <p:cNvSpPr/>
          <p:nvPr/>
        </p:nvSpPr>
        <p:spPr>
          <a:xfrm>
            <a:off x="1719360" y="3171960"/>
            <a:ext cx="928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Georgia"/>
              </a:rPr>
              <a:t>Дисципліна вільного вибо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lang="uk-UA" sz="3600" spc="-1" strike="noStrike">
                <a:solidFill>
                  <a:srgbClr val="0070c0"/>
                </a:solidFill>
                <a:latin typeface="Georgia"/>
              </a:rPr>
              <a:t>«Палеогеографі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Рисунок 3" descr=""/>
          <p:cNvPicPr/>
          <p:nvPr/>
        </p:nvPicPr>
        <p:blipFill>
          <a:blip r:embed="rId2"/>
          <a:stretch/>
        </p:blipFill>
        <p:spPr>
          <a:xfrm>
            <a:off x="282600" y="222120"/>
            <a:ext cx="21621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237600" y="178920"/>
            <a:ext cx="11182680" cy="11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d16349"/>
                </a:solidFill>
                <a:latin typeface="Georgia"/>
              </a:rPr>
              <a:t>  </a:t>
            </a:r>
            <a:r>
              <a:rPr b="1" i="1" lang="uk-UA" sz="2000" spc="-1" strike="noStrike">
                <a:solidFill>
                  <a:srgbClr val="0070c0"/>
                </a:solidFill>
                <a:latin typeface="Georgia"/>
              </a:rPr>
              <a:t>Об’єктом</a:t>
            </a:r>
            <a:r>
              <a:rPr b="1" lang="uk-UA" sz="20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вивчення є природні умови земної поверхні під час геологічної історії Земл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16349"/>
                </a:solidFill>
                <a:latin typeface="Georgia"/>
              </a:rPr>
              <a:t>      </a:t>
            </a:r>
            <a:r>
              <a:rPr b="1" i="1" lang="ru-RU" sz="2000" spc="-1" strike="noStrike">
                <a:solidFill>
                  <a:srgbClr val="0070c0"/>
                </a:solidFill>
                <a:latin typeface="Georgia"/>
              </a:rPr>
              <a:t>Предметом</a:t>
            </a:r>
            <a:r>
              <a:rPr b="0" lang="ru-RU" sz="2000" spc="-1" strike="noStrike">
                <a:solidFill>
                  <a:srgbClr val="7f7f7f"/>
                </a:solidFill>
                <a:latin typeface="Georgia"/>
              </a:rPr>
              <a:t> </a:t>
            </a: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вивчення є історія розвитку сучасної природи земної поверхні під час геологічної історії Земл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Рисунок 1" descr=""/>
          <p:cNvPicPr/>
          <p:nvPr/>
        </p:nvPicPr>
        <p:blipFill>
          <a:blip r:embed="rId1"/>
          <a:stretch/>
        </p:blipFill>
        <p:spPr>
          <a:xfrm>
            <a:off x="1827360" y="1535040"/>
            <a:ext cx="8767440" cy="4427640"/>
          </a:xfrm>
          <a:prstGeom prst="rect">
            <a:avLst/>
          </a:prstGeom>
          <a:ln w="0">
            <a:noFill/>
          </a:ln>
        </p:spPr>
      </p:pic>
      <p:sp>
        <p:nvSpPr>
          <p:cNvPr id="612" name="Прямоугольник 3"/>
          <p:cNvSpPr/>
          <p:nvPr/>
        </p:nvSpPr>
        <p:spPr>
          <a:xfrm>
            <a:off x="237960" y="5962680"/>
            <a:ext cx="11516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000" spc="-1" strike="noStrike" u="sng">
                <a:solidFill>
                  <a:srgbClr val="00a3d6"/>
                </a:solidFill>
                <a:uFillTx/>
                <a:latin typeface="Arial"/>
                <a:hlinkClick r:id="rId2"/>
              </a:rPr>
              <a:t>http://www.millattashlar.ru/index.php/%D0%A4%D0%B0%D0%B9%D0%BB:%D0%9F%D0%B0%D0%BB%D0%B5%D0%BE%D0%B3%D0%B5%D0%BE%D0%B3%D1%80%D0%B0%D1%84%D0%B8%D1%8F.jpg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401760" y="1527120"/>
            <a:ext cx="11339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70c0"/>
                </a:solidFill>
                <a:latin typeface="Georgia"/>
              </a:rPr>
              <a:t>Задачі курсу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4b5064"/>
                </a:solidFill>
                <a:latin typeface="Georgia"/>
              </a:rPr>
              <a:t>Формування розуміння географії як науки, що вивчає географічну оболонку та засвоєння уявлень про палеогеографію, як складової фізичної географії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4b5064"/>
                </a:solidFill>
                <a:latin typeface="Georgia"/>
              </a:rPr>
              <a:t>Підготовка фахівців, які володіють історичним та діалектичним мисленням, при якому сучасний стан геосфери розглядається як певний етап її еволюції в процесі тривалого та складного  розвитк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4b5064"/>
                </a:solidFill>
                <a:latin typeface="Georgia"/>
              </a:rPr>
              <a:t>Формування уявлень про єдність всіх природних компонентів ландшафтної сфери Земл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TextBox 3"/>
          <p:cNvSpPr/>
          <p:nvPr/>
        </p:nvSpPr>
        <p:spPr>
          <a:xfrm>
            <a:off x="284040" y="388800"/>
            <a:ext cx="11736360" cy="8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70c0"/>
                </a:solidFill>
                <a:latin typeface="Georgia"/>
              </a:rPr>
              <a:t>Мета курсу: </a:t>
            </a:r>
            <a:r>
              <a:rPr b="1" i="1" lang="uk-UA" sz="2400" spc="-1" strike="noStrike">
                <a:solidFill>
                  <a:srgbClr val="4b5064"/>
                </a:solidFill>
                <a:latin typeface="Georgia"/>
              </a:rPr>
              <a:t>сформувати уявлення про походження та еволюцію географічної оболонки Землі та її складових час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8200" y="644040"/>
            <a:ext cx="111427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70c0"/>
                </a:solidFill>
                <a:latin typeface="Georgia"/>
              </a:rPr>
              <a:t>Програмні компетентності, що забезпечуються</a:t>
            </a:r>
            <a:br>
              <a:rPr sz="2400"/>
            </a:br>
            <a:r>
              <a:rPr b="1" i="1" lang="uk-UA" sz="2400" spc="-1" strike="noStrike">
                <a:solidFill>
                  <a:srgbClr val="0070c0"/>
                </a:solidFill>
                <a:latin typeface="Georgia"/>
              </a:rPr>
              <a:t>компонентом освітньої програми з курсу</a:t>
            </a:r>
            <a:br>
              <a:rPr sz="2400"/>
            </a:b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26600" y="1616040"/>
            <a:ext cx="1148724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70c0"/>
                </a:solidFill>
                <a:latin typeface="Georgia"/>
              </a:rPr>
              <a:t>Загальні компетентност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К03. Здатність застосовувати знання у практичних ситуаціях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К04. Знання та розуміння предметної області та розуміння професійної діяльності. 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70c0"/>
                </a:solidFill>
                <a:latin typeface="Georgia"/>
              </a:rPr>
              <a:t>Фахові компетентност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К13. Знання та розуміння теоретичних основ наук про Землю як комплексну природну систему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К15. Здатність здійснювати збір, реєстрацію і аналіз даних за допомогою відповідних методів і технологічних засобів у польових і лабораторних умовах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К17. Здатність до всебічного аналізу складу і будови геосфер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К22. Здатність ідентифікувати та класифікувати відомі і реєструвати нові об’єкти у геосферах, їх властивості та притаманні їм процес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01400" y="286920"/>
            <a:ext cx="11379240" cy="5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70c0"/>
                </a:solidFill>
                <a:latin typeface="Georgia"/>
              </a:rPr>
              <a:t>Програма навчальної дисципліни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55320" y="1609200"/>
            <a:ext cx="11558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Вступ до палеогеографії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Космогонічні основи палеогеографії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Розвиток основних форм поверхні Землі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Розвиток кори вивітрювання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Розвиток атмосфери та кліматичні зміни під час геологічної історії Землі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Розвиток гідросфери та коливання рівня Світового океану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Еволюція біосфери Землі під час геологічної історії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b5064"/>
                </a:solidFill>
                <a:latin typeface="Georgia"/>
              </a:rPr>
              <a:t>Виникнення, еволюція та розселення людин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Box 4"/>
          <p:cNvSpPr/>
          <p:nvPr/>
        </p:nvSpPr>
        <p:spPr>
          <a:xfrm>
            <a:off x="1001880" y="2717640"/>
            <a:ext cx="100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2060"/>
                </a:solidFill>
                <a:latin typeface="Georgia"/>
              </a:rPr>
              <a:t>Дякую за Ваш інтерес до курсу Палеогеографі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1T15:48:04Z</dcterms:created>
  <dc:creator>Дмитрий Зинченко</dc:creator>
  <dc:description/>
  <dc:language>en-US</dc:language>
  <cp:lastModifiedBy>1</cp:lastModifiedBy>
  <dcterms:modified xsi:type="dcterms:W3CDTF">2020-07-29T08:48:51Z</dcterms:modified>
  <cp:revision>53</cp:revision>
  <dc:subject/>
  <dc:title>ХЕРСОНСЬКИЙ ДЕРЖАВНИЙ УНІВЕРСИТЕТ</dc:title>
</cp:coreProperties>
</file>