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E6D4-F125-4B79-8835-0EDAB07C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30B-A7BC-4CA9-BDAF-70AD219B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00513-29E1-45B8-A4B9-1D8E9F00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6A30E6-7BD8-4DD1-B9C3-4EEA8D8F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B38BCD-53F7-4B7B-82D6-E9EC83EF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6A47A-B203-4F7D-8474-7E1FCBCB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33620-11B9-4D06-909B-F2830C08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E19696-AB15-4C43-ADD5-C3BEB38B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68193-1779-4E0D-A409-BB972CC9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CD4CFC-E8BF-4818-9F01-EA3D9750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C225A-2128-4419-AEBB-9D99B551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FD433E-62F6-49D1-AB69-1103E623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3D7-3723-43C2-9135-6B098850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C808C-1402-4AF0-95BF-90DE2FC8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7360BC-1B28-4BE0-9E9E-D3B446A0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68CFA-2B42-4946-AB82-C22A6FDF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674E3-EECC-48CB-BD01-0C40A2B7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601DD-D5BC-4750-886E-07140620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76B574-8106-4516-8277-0DEFE92B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D8F10-4AAB-43A9-B8B7-238F69AE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8C43CC-DEAC-4FD1-82B3-6A39BC75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FB3C1-0BBC-48C6-9380-A900CB6F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86C48-EF62-4AAC-BDA6-BE55CA81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42D-A486-430D-966F-416C6093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A78B5-540D-4F4C-8827-ECF175E9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3FD46-B530-49A0-A880-CEBBC315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B71FC-CDB0-45AC-BDB0-7C8E51C8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F2C33-0C4E-4746-B92D-65F32AB7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D96B1-E30D-4A07-BBEF-3FD33691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ACBA6-C963-4E1A-8842-40EC8870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40B79-849C-468E-9AAE-8956B527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0397A-3E22-4D9E-AE35-4B387C22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72E6F-C6D4-4F8D-A4A6-E1551760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09E78-A93F-43A3-B825-85836074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9404-0A62-4BE9-AE53-F7167B02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5D4A4-77EB-4658-9CA6-656EEEEC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9DCC5-DA9C-4BA0-AF7D-EE65FBE5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24CF3-E28F-49D1-A8D9-604EC06F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310509-11A9-4DB1-88A7-3ECF09E3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FE63B-9FA4-4846-9895-0AB99C32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11C5B3-8B23-45CF-8A4B-5BC1BB54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20B78-ED41-44D8-BA05-2110744C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6D750-A6BE-4831-B45C-BAFB84EC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CA2AFA-C88B-4079-8420-503342EE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A1D11-8CE0-40E4-A84D-5644DAD3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DACF-099D-46E5-9DA3-5AFF0EA0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3D882-E543-4D54-9CF4-87C14D2D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CA4B13-B634-4D3A-8713-121ABC31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56DD3-B450-4DC0-AA41-FD524232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10D207-5E0E-4001-90CB-BBB935F4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DD600B-6C85-427F-A413-D0219BB2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B6E0-6394-47C6-9A50-22D6BABE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CB4A-1EEF-4EFF-A288-850E6015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586D-3D15-430B-9E0D-AE6A65E8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B06F-6D0D-45BD-AF57-81523844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827C-AA00-4CB9-AD0A-BB34D5DB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B03-3079-45D0-8B30-1411FA28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A60F-2961-4732-A537-71B5E4FF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B901-D5A5-44D4-98D9-C2990273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D6C5-B38D-4682-B34B-005D4DCC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911E-EC4C-4828-B7DB-93C5F60D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48E5-D8AB-4CFF-86EE-32894069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38E35-9556-46B1-A30E-EEA68499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A0EEB-CBE2-41AA-B3E2-20568B81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7B931-626A-41DD-B2C2-CD626477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2789D-6873-42C1-8564-D96FF27F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2AE0B-7FB4-40DD-B767-E71A5F99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1EC-286E-458C-9482-DF7C0754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A0EBB-FD32-4716-895C-6CA3209D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A5B86-44B2-471B-BAE6-F91A9F47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F8493-478A-4F44-B071-1A272AE0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37756-798C-4C6B-990A-EC6B5BB3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0E410-449E-4E0E-AC5F-74D78696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71854-29D2-47C3-A8A7-D03904B9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904F2-7BC9-4674-86EE-43D0C43E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70A7F-9CC8-4335-A7C0-34012CB6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48DC2-8529-4CE9-98EC-2E53F055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78F40-B76D-4B99-A698-0B28B55F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E118-00DB-4BD5-8DA1-0FB34876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5A55E-3BB0-4099-953F-BA07A1B5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EF2D9-4F12-42B7-906E-75A60EEE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BB894-27DD-4C48-9BD7-BA15B1D5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9309F-E99D-4B86-B137-079F287E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98E6A-CFD7-4E89-9C1E-CED8BB5B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D88AE-97FD-41C0-9A05-1A1A5ECD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DA833-ED1A-42BB-B2BA-861C85DB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E4D97-A88E-49EA-A750-6DF99D45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886DE-584B-4A78-A4D9-534FDD3F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BDC0C-7F70-44EA-9234-5C6517C4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A7F-E104-49BF-9B78-40822269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FB391-D4E8-43FC-A2F0-3B1C1BAC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CED1C-2179-401B-ACC4-74C69052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2F0AA-881E-4634-BA1F-B564EE3E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8D4B7-6C5C-477A-8BD4-6084E6C1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44AF1-AE37-4B72-9886-AB4F3768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5C371-32B3-4961-B259-C64F3B73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3C3FE-C77D-4B29-AE2A-FF8C4189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772DB-33D1-41AA-B0E7-A8DFB956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55516-B8C6-429C-9A68-4DF4F708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0F032-BEBD-4E22-8D7A-FE2E4D71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40B-79CE-4307-AA5C-A2595F26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BA650-1BD1-4966-B261-78322D7C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79795-96DB-4EED-83EA-F83296DF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53FD6-98E8-437D-AB6D-5D75973D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182A0-A6CA-41E0-B5C6-8A493FBD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ADD8B-2E5A-4294-9199-88AEF71C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D6FC7-859D-4400-A7FB-03E60B89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6E3A6-FDB4-4885-A256-9A9C79B2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0C4DF-94CE-4618-BF09-79766497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E8C4E-39F1-4250-AD59-A1E00370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2457D-BA17-4A21-BE75-2C3B518A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913-D917-4B4E-AE72-C1B0D11B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A2F57-048B-4614-B1D9-CFFA57F8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11444-253E-4E2F-A065-8C9C7A62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43F78-5AFF-4C39-A7A4-439080EE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DEC7F-55A1-4435-920B-A6F8A9EF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EC7B5-0463-4089-8BE0-37C1F443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25B37-10EB-4D19-A28E-57E614C4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C6F59-2C96-4E73-8762-1199367F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F1849-D90D-43AA-AF9D-CCB57980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2F8AD-4C00-4062-A667-5F298500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5CE5B-B98B-4C0B-BC40-D6A5B533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260-CC61-47F1-B5DD-7930C975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5E0CF-EB64-47EA-9E21-630A101B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BD858-5555-491D-BC23-9D69BF63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21951-FA2A-40C1-BE4C-04DEE9E1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6722F-E261-47D6-A6B5-170C107F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88E47-FED7-4092-B375-EFC8C215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DA124-E80D-49D1-A7F7-AA29FED0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79802-8C3B-4AB0-B17C-4DE90109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066F4-4E30-470C-B60A-5FAB95D4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99ED1-46B7-441B-BB3B-7AC65A01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46890-0485-457C-A2AF-B5F8D157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51B-2915-41F6-B8A6-693E23D8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6BE44-097B-4A80-B31E-47E4CBAE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07E45-CD81-4E8B-9237-752481E8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6EA98-43B2-44B7-BAC8-C527EF22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D965A-ED6C-4B98-BF01-8B813A8E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B86E7-0C66-496C-AC33-9907B877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10216-B30C-4810-84C7-5E902040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EFBDE-183E-4F7B-BABE-D5ED00BC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55059-95A4-4AEF-8B07-A2E1CB94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FEA5DE-49F4-411D-A389-3F96B760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7174A-E438-462C-A38B-AB26F3D5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06CA-7461-4E13-8E24-7B0C226D523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203040" y="53352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203040" y="152280"/>
            <a:ext cx="117777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203040" y="609480"/>
            <a:ext cx="36576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727280" y="2286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852560" y="324000"/>
            <a:ext cx="56196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828440" y="31284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48AF-87BB-4AE7-9E13-CAC2AAA39B7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7716960" y="640548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401400" y="6409800"/>
            <a:ext cx="4779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76F9-B622-4B8D-B7EE-642A2796463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9347040" y="0"/>
            <a:ext cx="2845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1219212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952668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9120240" y="292572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9245520" y="3021120"/>
            <a:ext cx="56052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9221400" y="300996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63F2-EEDC-44D4-B8D4-8CF59BF9FBB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11988720" y="324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1219212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208080" y="2419200"/>
            <a:ext cx="11775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5689440" y="211464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5815080" y="220968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5790960" y="21985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B348-ABD0-4B2E-9BFC-E41B9A28753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5814720" y="10270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B46C-975B-48E6-91C7-C5D039DE30B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11988720" y="1908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203040" y="2286000"/>
            <a:ext cx="117777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208080" y="142920"/>
            <a:ext cx="11775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203040" y="243828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5689440" y="211464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5815080" y="220968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5790960" y="21985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F3F8-E9BF-48EB-949C-6D33CE71042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6084720" y="1576080"/>
            <a:ext cx="111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7721640" y="6409800"/>
            <a:ext cx="4059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8AF1-35F7-403E-B3C8-A1380A2B03C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609588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121921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203040" y="1371600"/>
            <a:ext cx="117777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95120" y="6391440"/>
            <a:ext cx="1177632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203040" y="127944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406440" y="6409800"/>
            <a:ext cx="4775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5790960" y="10429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7ECC-AC8F-4439-9934-E72D46F3BCB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5790960" y="1036440"/>
            <a:ext cx="60948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6A1D-B6B9-4981-91A4-7A9FA07902C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1219212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203040" y="15876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5689440" y="6324480"/>
            <a:ext cx="8128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AFD5-50AE-460D-BC89-2B44C42C6A16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203040" y="152280"/>
            <a:ext cx="117777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1219212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203040" y="609480"/>
            <a:ext cx="36576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203040" y="53352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727280" y="2286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852560" y="324000"/>
            <a:ext cx="56196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828440" y="31284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DF8F-6113-4572-8443-4797A94D2E5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401760" y="6409800"/>
            <a:ext cx="4511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illattashlar.ru/index.php/&#1060;&#1072;&#1081;&#1083;:&#1055;&#1072;&#1083;&#1077;&#1086;&#1075;&#1077;&#1086;&#1075;&#1088;&#1072;&#1092;&#1080;&#1103;.jpg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41000" y="1488960"/>
            <a:ext cx="952668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35e40"/>
                </a:solidFill>
                <a:latin typeface="Georgia"/>
              </a:rPr>
              <a:t>ХЕРСОНСЬКИЙ ДЕРЖАВНИЙ УНІВЕРСИТЕТ</a:t>
            </a:r>
            <a:br>
              <a:rPr sz="2400"/>
            </a:br>
            <a:r>
              <a:rPr b="0" i="1" lang="uk-UA" sz="2400" spc="-1" strike="noStrike">
                <a:solidFill>
                  <a:srgbClr val="435e40"/>
                </a:solidFill>
                <a:latin typeface="Georgia"/>
              </a:rPr>
              <a:t>Факультет біології, географії і екології</a:t>
            </a:r>
            <a:br>
              <a:rPr sz="2400"/>
            </a:br>
            <a:r>
              <a:rPr b="0" i="1" lang="uk-UA" sz="2400" spc="-1" strike="noStrike">
                <a:solidFill>
                  <a:srgbClr val="435e40"/>
                </a:solidFill>
                <a:latin typeface="Georgia"/>
              </a:rPr>
              <a:t>Кафедра географії та екології</a:t>
            </a:r>
            <a:br>
              <a:rPr sz="3600"/>
            </a:b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Рисунок 5" descr=""/>
          <p:cNvPicPr/>
          <p:nvPr/>
        </p:nvPicPr>
        <p:blipFill>
          <a:blip r:embed="rId1"/>
          <a:stretch/>
        </p:blipFill>
        <p:spPr>
          <a:xfrm>
            <a:off x="9720360" y="241200"/>
            <a:ext cx="2100240" cy="2130480"/>
          </a:xfrm>
          <a:prstGeom prst="rect">
            <a:avLst/>
          </a:prstGeom>
          <a:ln w="0">
            <a:noFill/>
          </a:ln>
        </p:spPr>
      </p:pic>
      <p:sp>
        <p:nvSpPr>
          <p:cNvPr id="608" name="Прямоугольник 4"/>
          <p:cNvSpPr/>
          <p:nvPr/>
        </p:nvSpPr>
        <p:spPr>
          <a:xfrm>
            <a:off x="1719360" y="3171960"/>
            <a:ext cx="92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Georgia"/>
              </a:rPr>
              <a:t>Дисципліна вільного вибо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lang="uk-UA" sz="3600" spc="-1" strike="noStrike">
                <a:solidFill>
                  <a:srgbClr val="0070c0"/>
                </a:solidFill>
                <a:latin typeface="Georgia"/>
              </a:rPr>
              <a:t>«Палеогеографі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Рисунок 3" descr=""/>
          <p:cNvPicPr/>
          <p:nvPr/>
        </p:nvPicPr>
        <p:blipFill>
          <a:blip r:embed="rId2"/>
          <a:stretch/>
        </p:blipFill>
        <p:spPr>
          <a:xfrm>
            <a:off x="282600" y="22212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237600" y="178920"/>
            <a:ext cx="1118268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d16349"/>
                </a:solidFill>
                <a:latin typeface="Georgia"/>
              </a:rPr>
              <a:t>  </a:t>
            </a:r>
            <a:r>
              <a:rPr b="1" i="1" lang="uk-UA" sz="2000" spc="-1" strike="noStrike">
                <a:solidFill>
                  <a:srgbClr val="0070c0"/>
                </a:solidFill>
                <a:latin typeface="Georgia"/>
              </a:rPr>
              <a:t>Об’єктом</a:t>
            </a:r>
            <a:r>
              <a:rPr b="1" lang="uk-UA" sz="2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вивчення є природні умови земної поверхні під час геологічної історії Земл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16349"/>
                </a:solidFill>
                <a:latin typeface="Georgia"/>
              </a:rPr>
              <a:t>      </a:t>
            </a:r>
            <a:r>
              <a:rPr b="1" i="1" lang="ru-RU" sz="2000" spc="-1" strike="noStrike">
                <a:solidFill>
                  <a:srgbClr val="0070c0"/>
                </a:solidFill>
                <a:latin typeface="Georgia"/>
              </a:rPr>
              <a:t>Предметом</a:t>
            </a: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 </a:t>
            </a: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вивчення є історія розвитку сучасної природи земної поверхні під час геологічної історії Земл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Рисунок 1" descr=""/>
          <p:cNvPicPr/>
          <p:nvPr/>
        </p:nvPicPr>
        <p:blipFill>
          <a:blip r:embed="rId1"/>
          <a:stretch/>
        </p:blipFill>
        <p:spPr>
          <a:xfrm>
            <a:off x="1827360" y="1535040"/>
            <a:ext cx="8767440" cy="4427640"/>
          </a:xfrm>
          <a:prstGeom prst="rect">
            <a:avLst/>
          </a:prstGeom>
          <a:ln w="0">
            <a:noFill/>
          </a:ln>
        </p:spPr>
      </p:pic>
      <p:sp>
        <p:nvSpPr>
          <p:cNvPr id="612" name="Прямоугольник 3"/>
          <p:cNvSpPr/>
          <p:nvPr/>
        </p:nvSpPr>
        <p:spPr>
          <a:xfrm>
            <a:off x="237960" y="5962680"/>
            <a:ext cx="1151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 u="sng">
                <a:solidFill>
                  <a:srgbClr val="00a3d6"/>
                </a:solidFill>
                <a:uFillTx/>
                <a:latin typeface="Arial"/>
                <a:hlinkClick r:id="rId2"/>
              </a:rPr>
              <a:t>http://www.millattashlar.ru/index.php/%D0%A4%D0%B0%D0%B9%D0%BB:%D0%9F%D0%B0%D0%BB%D0%B5%D0%BE%D0%B3%D0%B5%D0%BE%D0%B3%D1%80%D0%B0%D1%84%D0%B8%D1%8F.jpg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401760" y="1527120"/>
            <a:ext cx="11339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70c0"/>
                </a:solidFill>
                <a:latin typeface="Georgia"/>
              </a:rPr>
              <a:t>Задачі курсу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4b5064"/>
                </a:solidFill>
                <a:latin typeface="Georgia"/>
              </a:rPr>
              <a:t>Формування розуміння географії як науки, що вивчає географічну оболонку та засвоєння уявлень про палеогеографію, як складової фізичної географії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4b5064"/>
                </a:solidFill>
                <a:latin typeface="Georgia"/>
              </a:rPr>
              <a:t>Підготовка фахівців, які володіють історичним та діалектичним мисленням, при якому сучасний стан геосфери розглядається як певний етап її еволюції в процесі тривалого та складного  розвитк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4b5064"/>
                </a:solidFill>
                <a:latin typeface="Georgia"/>
              </a:rPr>
              <a:t>Формування уявлень про єдність всіх природних компонентів ландшафтної сфери Земл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TextBox 3"/>
          <p:cNvSpPr/>
          <p:nvPr/>
        </p:nvSpPr>
        <p:spPr>
          <a:xfrm>
            <a:off x="284040" y="388800"/>
            <a:ext cx="1173636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70c0"/>
                </a:solidFill>
                <a:latin typeface="Georgia"/>
              </a:rPr>
              <a:t>Мета курсу: </a:t>
            </a:r>
            <a:r>
              <a:rPr b="1" i="1" lang="uk-UA" sz="2400" spc="-1" strike="noStrike">
                <a:solidFill>
                  <a:srgbClr val="4b5064"/>
                </a:solidFill>
                <a:latin typeface="Georgia"/>
              </a:rPr>
              <a:t>сформувати уявлення про походження та еволюцію географічної оболонки Землі та її складових час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8200" y="644040"/>
            <a:ext cx="111427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70c0"/>
                </a:solidFill>
                <a:latin typeface="Georgia"/>
              </a:rPr>
              <a:t>Програмні компетентності, що забезпечуються</a:t>
            </a:r>
            <a:br>
              <a:rPr sz="2400"/>
            </a:br>
            <a:r>
              <a:rPr b="1" i="1" lang="uk-UA" sz="2400" spc="-1" strike="noStrike">
                <a:solidFill>
                  <a:srgbClr val="0070c0"/>
                </a:solidFill>
                <a:latin typeface="Georgia"/>
              </a:rPr>
              <a:t>компонентом освітньої програми з курсу</a:t>
            </a:r>
            <a:br>
              <a:rPr sz="2400"/>
            </a:b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26600" y="1616040"/>
            <a:ext cx="1148724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70c0"/>
                </a:solidFill>
                <a:latin typeface="Georgia"/>
              </a:rPr>
              <a:t>Загальні компетентност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К03. Здатність застосовувати знання у практичних ситуаціях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К04. Знання та розуміння предметної області та розуміння професійної діяльності.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70c0"/>
                </a:solidFill>
                <a:latin typeface="Georgia"/>
              </a:rPr>
              <a:t>Фахові компетентност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К13. Знання та розуміння теоретичних основ наук про Землю як комплексну природну систему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К15. Здатність здійснювати збір, реєстрацію і аналіз даних за допомогою відповідних методів і технологічних засобів у польових і лабораторних умовах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К17. Здатність до всебічного аналізу складу і будови геосфер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К22. Здатність ідентифікувати та класифікувати відомі і реєструвати нові об’єкти у геосферах, їх властивості та притаманні їм процес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01400" y="286920"/>
            <a:ext cx="11379240" cy="5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70c0"/>
                </a:solidFill>
                <a:latin typeface="Georgia"/>
              </a:rPr>
              <a:t>Програма навчальної дисципліни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55320" y="1609200"/>
            <a:ext cx="11558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Вступ до палеогеографії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Космогонічні основи палеогеографії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Розвиток основних форм поверхні Землі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Розвиток кори вивітрюванн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Розвиток атмосфери та кліматичні зміни під час геологічної історії Землі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Розвиток гідросфери та коливання рівня Світового океан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Еволюція біосфери Землі під час геологічної історії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Виникнення, еволюція та розселення людин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Box 4"/>
          <p:cNvSpPr/>
          <p:nvPr/>
        </p:nvSpPr>
        <p:spPr>
          <a:xfrm>
            <a:off x="1001880" y="2717640"/>
            <a:ext cx="100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Дякую за Ваш інтерес до курсу Палеогеографі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1T15:48:04Z</dcterms:created>
  <dc:creator>Дмитрий Зинченко</dc:creator>
  <dc:description/>
  <dc:language>en-US</dc:language>
  <cp:lastModifiedBy>1</cp:lastModifiedBy>
  <dcterms:modified xsi:type="dcterms:W3CDTF">2020-07-29T08:48:51Z</dcterms:modified>
  <cp:revision>53</cp:revision>
  <dc:subject/>
  <dc:title>ХЕРСОНСЬКИЙ ДЕРЖАВНИЙ УНІВЕРСИТЕТ</dc:title>
</cp:coreProperties>
</file>