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911-6DBF-44A5-A11F-72BC71EB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1526-078D-4A2E-B42B-0D36C8E0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2A4-0EC6-4923-8D95-12F49988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F4E-E700-4810-82B0-CE0B63CE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A776-2731-4713-B092-5A5DCB80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723-1C6D-454E-953C-784907DF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F16-EF36-40F3-8571-FD5669E9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E70-2578-46DF-8C18-4CF1C6EE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FFE3-A49F-4BAD-AFD7-B9C300654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4BF-9EF2-4C7A-9E83-3C57C643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17C8-1BE9-4166-925F-9B4FF8DD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7B4-A8A8-4D1F-AA77-57FC1BF9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32B37-48AE-4D2F-94E6-363C46B31ED2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zxx" sz="3200" spc="-1" strike="noStrike">
                <a:solidFill>
                  <a:srgbClr val="000000"/>
                </a:solidFill>
                <a:latin typeface="Arial"/>
              </a:rPr>
              <a:t>Презентація курс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zxx" sz="3200" spc="-1" strike="noStrike">
                <a:solidFill>
                  <a:srgbClr val="000000"/>
                </a:solidFill>
                <a:latin typeface="Arial"/>
              </a:rPr>
              <a:t>"Практичний курс англійської мови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zxx" sz="3200" spc="-1" strike="noStrike">
                <a:solidFill>
                  <a:srgbClr val="000000"/>
                </a:solidFill>
                <a:latin typeface="Arial"/>
              </a:rPr>
              <a:t>для студентів 2 курсі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xx" sz="2400" spc="-1" strike="noStrike" u="sng">
                <a:solidFill>
                  <a:srgbClr val="000000"/>
                </a:solidFill>
                <a:uFillTx/>
                <a:latin typeface="Times New Roman"/>
              </a:rPr>
              <a:t>Мета навчальної дисципліни</a:t>
            </a:r>
            <a:r>
              <a:rPr b="0" lang="zxx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400" spc="-1" strike="noStrike">
                <a:solidFill>
                  <a:srgbClr val="000000"/>
                </a:solidFill>
                <a:latin typeface="Times New Roman"/>
              </a:rPr>
              <a:t>Практичний курс «Практичний курс англійської мови» має на меті якісне удосконалення вмінь та навичок практичного володіння англійською мовою; розвиток техніки читання та вміння розуміти англійський текст, який вміщує попередньо вивчену граматику та лексику; розвиток навичок письма у межах про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40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xx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грама навчальної дисциплін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В ході курсу розглядаються наступні комунікативні те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Життя та відомі місця великих мі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Проблеми великих мі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Погода та клім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Захист навколишнього середови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Вплив глобальної зміни клімату на здоров’я люди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Одяг та взутт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Дизайн  вбр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Рослинний та тваринній сві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0" algn="ctr">
              <a:lnSpc>
                <a:spcPct val="13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800" spc="-1" strike="noStrike">
                <a:solidFill>
                  <a:srgbClr val="000000"/>
                </a:solidFill>
                <a:latin typeface="Times New Roman"/>
              </a:rPr>
              <a:t>Проблеми українського с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Завдання для студентів пропонуються за підручником Черноватий Л.М., Карабан В. І., Набокова І. Ю. Практичний курс англійської мови: Підручник для студентів другого курсу вищих закладів освіти (філологічні спеціальності та спеціальність «Переклад»). – Вінниця: Нова книга, 2005. – 356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8:32:32Z</dcterms:created>
  <dc:creator/>
  <dc:description/>
  <dc:language>en-US</dc:language>
  <cp:lastModifiedBy/>
  <dcterms:modified xsi:type="dcterms:W3CDTF">2020-06-17T15:28:53Z</dcterms:modified>
  <cp:revision>3</cp:revision>
  <dc:subject/>
  <dc:title/>
</cp:coreProperties>
</file>