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7956-108D-48EB-9C4A-6B1C2464F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E57F-43A2-4D9D-9A34-1338899EB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19C2-DE6F-4691-AA72-F3CBA9531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1CA1-3A8A-4DD4-AC9C-752C89774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6BD2-312A-4DA5-91EE-9FC68B942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27DA-3961-496D-B663-50FCC6BEF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6030-6DE3-4117-911F-D7E19521E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55CD-9AAF-49DA-AFAA-C99BEDF34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E351-EDC1-445F-8386-5ED797888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D9E5-7C69-40CF-BA74-8FA89BF4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1708-7FCD-449C-AFFA-9F013A58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3B94-A662-4399-8D15-801BA52D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EFC1BE-D50B-4347-8868-13628938B3F1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zxx" sz="3200" spc="-1" strike="noStrike">
                <a:solidFill>
                  <a:srgbClr val="000000"/>
                </a:solidFill>
                <a:latin typeface="Arial"/>
              </a:rPr>
              <a:t>Презентація курс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zxx" sz="3200" spc="-1" strike="noStrike">
                <a:solidFill>
                  <a:srgbClr val="000000"/>
                </a:solidFill>
                <a:latin typeface="Arial"/>
              </a:rPr>
              <a:t>"Практичний курс англійської мови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zxx" sz="3200" spc="-1" strike="noStrike">
                <a:solidFill>
                  <a:srgbClr val="000000"/>
                </a:solidFill>
                <a:latin typeface="Arial"/>
              </a:rPr>
              <a:t>для студентів 2 курс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zxx" sz="2400" spc="-1" strike="noStrike" u="sng">
                <a:solidFill>
                  <a:srgbClr val="000000"/>
                </a:solidFill>
                <a:uFillTx/>
                <a:latin typeface="Times New Roman"/>
              </a:rPr>
              <a:t>Мета навчальної дисципліни</a:t>
            </a:r>
            <a:r>
              <a:rPr b="0" lang="zxx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2400" spc="-1" strike="noStrike">
                <a:solidFill>
                  <a:srgbClr val="000000"/>
                </a:solidFill>
                <a:latin typeface="Times New Roman"/>
              </a:rPr>
              <a:t>Практичний курс «Практичний курс англійської мови» має на меті якісне удосконалення вмінь та навичок практичного володіння англійською мовою; розвиток техніки читання та вміння розуміти англійський текст, який вміщує попередньо вивчену граматику та лексику; розвиток навичок письма у межах прогр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40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zxx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рограма навчальної дисциплін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800" spc="-1" strike="noStrike">
                <a:solidFill>
                  <a:srgbClr val="000000"/>
                </a:solidFill>
                <a:latin typeface="Times New Roman"/>
              </a:rPr>
              <a:t>В ході курсу розглядаються наступні комунікативні тем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0" algn="ctr">
              <a:lnSpc>
                <a:spcPct val="13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800" spc="-1" strike="noStrike">
                <a:solidFill>
                  <a:srgbClr val="000000"/>
                </a:solidFill>
                <a:latin typeface="Times New Roman"/>
              </a:rPr>
              <a:t>Життя та відомі місця великих міс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0" algn="ctr">
              <a:lnSpc>
                <a:spcPct val="13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800" spc="-1" strike="noStrike">
                <a:solidFill>
                  <a:srgbClr val="000000"/>
                </a:solidFill>
                <a:latin typeface="Times New Roman"/>
              </a:rPr>
              <a:t>Проблеми великих міс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0" algn="ctr">
              <a:lnSpc>
                <a:spcPct val="13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800" spc="-1" strike="noStrike">
                <a:solidFill>
                  <a:srgbClr val="000000"/>
                </a:solidFill>
                <a:latin typeface="Times New Roman"/>
              </a:rPr>
              <a:t>Погода та кліма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0" algn="ctr">
              <a:lnSpc>
                <a:spcPct val="13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800" spc="-1" strike="noStrike">
                <a:solidFill>
                  <a:srgbClr val="000000"/>
                </a:solidFill>
                <a:latin typeface="Times New Roman"/>
              </a:rPr>
              <a:t>Захист навколишнього середовищ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0" algn="ctr">
              <a:lnSpc>
                <a:spcPct val="13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800" spc="-1" strike="noStrike">
                <a:solidFill>
                  <a:srgbClr val="000000"/>
                </a:solidFill>
                <a:latin typeface="Times New Roman"/>
              </a:rPr>
              <a:t>Вплив глобальної зміни клімату на здоров’я люди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0" algn="ctr">
              <a:lnSpc>
                <a:spcPct val="13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800" spc="-1" strike="noStrike">
                <a:solidFill>
                  <a:srgbClr val="000000"/>
                </a:solidFill>
                <a:latin typeface="Times New Roman"/>
              </a:rPr>
              <a:t>Одяг та взутт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0" algn="ctr">
              <a:lnSpc>
                <a:spcPct val="13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800" spc="-1" strike="noStrike">
                <a:solidFill>
                  <a:srgbClr val="000000"/>
                </a:solidFill>
                <a:latin typeface="Times New Roman"/>
              </a:rPr>
              <a:t>Дизайн  вбран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0" algn="ctr">
              <a:lnSpc>
                <a:spcPct val="13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800" spc="-1" strike="noStrike">
                <a:solidFill>
                  <a:srgbClr val="000000"/>
                </a:solidFill>
                <a:latin typeface="Times New Roman"/>
              </a:rPr>
              <a:t>Рослинний та тваринній сві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0" algn="ctr">
              <a:lnSpc>
                <a:spcPct val="13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800" spc="-1" strike="noStrike">
                <a:solidFill>
                  <a:srgbClr val="000000"/>
                </a:solidFill>
                <a:latin typeface="Times New Roman"/>
              </a:rPr>
              <a:t>Проблеми українського се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Завдання для студентів пропонуються за підручником Черноватий Л.М., Карабан В. І., Набокова І. Ю. Практичний курс англійської мови: Підручник для студентів другого курсу вищих закладів освіти (філологічні спеціальності та спеціальність «Переклад»). – Вінниця: Нова книга, 2005. – 356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8:32:32Z</dcterms:created>
  <dc:creator/>
  <dc:description/>
  <dc:language>en-US</dc:language>
  <cp:lastModifiedBy/>
  <dcterms:modified xsi:type="dcterms:W3CDTF">2020-06-17T15:28:53Z</dcterms:modified>
  <cp:revision>3</cp:revision>
  <dc:subject/>
  <dc:title/>
</cp:coreProperties>
</file>