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E4DE7-F67D-489A-9270-AF4E06E78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99C27-C5EF-4D37-AE13-DE408DFF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AD7AF-7D5D-4086-AB95-A8D5EBAEE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CF54F-6B70-4D9B-BDA7-A6C838A9F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74690-75CE-4C4A-856B-815D90B8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E1F3A-C676-4D85-8347-4AEF2C290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0E23B-7B3E-4C99-B16B-CB4B3B007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728CF-143C-4E32-870A-36E9B2B3F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32B61-03F5-4242-AABA-562C42FD1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5C910-4CFC-41C1-8004-8C58558B2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2AB3-ABE1-4731-B03F-F678732B2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D4341-3710-465E-B1A5-99D0B7DD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50212-E6F2-47F4-B02D-8D13B6394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4B4A8-B989-4262-821E-D6A5F42DA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EDC65-4BB2-4531-AC54-1945B41B7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A2EB6-3FD1-48A9-B48A-858EE3CCB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ADD17-45CF-456D-BCE0-3D474FC9D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5F00B-3242-4F75-81B2-28E97B7C1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5564-CF0F-4736-88DA-02401D5F3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6419-FDCB-42A2-AEB6-161DF9C77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FAA5-4990-415E-8C29-E348DFBF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D0FF-C843-44FC-B128-C6621B9B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7A0E-1DC6-4291-909F-BE3AE465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068C-93E4-493D-80CC-744550968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3EF8-E1BD-4FFB-9D01-F31FB88B65E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8807-111C-412F-B313-1EB0B172EF1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0033"/>
                </a:solidFill>
                <a:latin typeface="Times New Roman"/>
              </a:rPr>
              <a:t>Обласний територіальний центр екстреної медичної допомоги та медицини катастроф</a:t>
            </a:r>
            <a:br>
              <a:rPr sz="2400"/>
            </a:br>
            <a:r>
              <a:rPr b="1" lang="uk-UA" sz="2400" spc="-1" strike="noStrike">
                <a:solidFill>
                  <a:srgbClr val="330033"/>
                </a:solidFill>
                <a:latin typeface="Times New Roman"/>
              </a:rPr>
              <a:t>Херсонської обласної ради</a:t>
            </a:r>
            <a:endParaRPr b="0" lang="en-US" sz="2400" spc="-1" strike="noStrike">
              <a:solidFill>
                <a:srgbClr val="330033"/>
              </a:solidFill>
              <a:latin typeface="Times New Roman"/>
            </a:endParaRPr>
          </a:p>
        </p:txBody>
      </p:sp>
      <p:sp>
        <p:nvSpPr>
          <p:cNvPr id="98" name="PlaceHolder 2"/>
          <p:cNvSpPr>
            <a:spLocks noGrp="1"/>
          </p:cNvSpPr>
          <p:nvPr>
            <p:ph/>
          </p:nvPr>
        </p:nvSpPr>
        <p:spPr>
          <a:xfrm>
            <a:off x="914400" y="3068640"/>
            <a:ext cx="7772400" cy="1728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Arial"/>
              </a:rPr>
              <a:t>      </a:t>
            </a:r>
            <a:r>
              <a:rPr b="1" lang="uk-UA" sz="4000" spc="-1" strike="noStrike">
                <a:solidFill>
                  <a:srgbClr val="ff0000"/>
                </a:solidFill>
                <a:latin typeface="Arial"/>
              </a:rPr>
              <a:t>СИНКОПАЛЬНІ СТАНИ</a:t>
            </a:r>
            <a:endParaRPr b="0" lang="en-US" sz="4000" spc="-1" strike="noStrike">
              <a:solidFill>
                <a:srgbClr val="000000"/>
              </a:solidFill>
              <a:latin typeface="Arial"/>
            </a:endParaRPr>
          </a:p>
        </p:txBody>
      </p:sp>
      <p:sp>
        <p:nvSpPr>
          <p:cNvPr id="99" name="Text Box 4"/>
          <p:cNvSpPr/>
          <p:nvPr/>
        </p:nvSpPr>
        <p:spPr>
          <a:xfrm>
            <a:off x="468360" y="5321160"/>
            <a:ext cx="8002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відува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вчально-тренувальни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дділом                                                                Добровольський Л.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Кашльові синкопе</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никають на тлі сильного кашлю при захворюваннях або без них ( кашель у курців). Причиною є підвищення внутрішньогрудного і внутрішньочеревного тиску, що призводить до зменшення притоку крові до серця і мозк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о такого нападу схильні чоловіки35-40 років, гіперстеніки, заядлі курці, що люблять багато і якісно поїсти і випити алкогол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Прояви кашльового синкопе</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ід час кашлю у хворого синіє обличчя, набухають повіки і обличчя. Свідомість втрачається від декількох секунд до 2-3 хв.</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мічається виділення поту, ціаноз шкіри і слизови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Ортостатичне синкопе</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никає при переході пацієнта із горизонтального стану у вертикальне або після тривалого перебування у вертикальному положенні.</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 основі лежить порушення здатності периферичних судин до вазоконстрикції, що веде до периферичної гіпотензії.</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Основна ознака: генералізована сухість шкіри, тахікардія в спокої, атонія сечового міху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Іритативне синкопе</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никає внаслідок подразнення (іритації) нервових структур. Найчастіше трапляється синокаротидна непритомність, провязана з подразненням рецепторів каротидного синусу, що зумовлює зниження АТ, порушення серцевого ритму, тонусу периферичних і церебральних судин.</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нтингент: гіпертоніки,особливо при поєднанні з атеросклерозом, чоловіки після 50 років. Синкопе виникають при стисненні шиї тугим комірцем, краваткою, при різких нахилах голов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Клініка синокаротидного синкопе</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ередвісники бувають рідко, інколи у вигляді страху, задухи, відчуття стискання горла і грудної клітки.</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трата свідомості триває від 10 до 60 сек.</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адіння тиску, інколи при нормальній частоті серцевих скорочен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Дисциркуляторні синкопальні стани</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Головним симптомом при цих синкопе є падіння з порушенням свідомості ( по суті, мова йде про транзиторні ішемічні атаки).</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Це може бути при ураженні сонних або хребтових артері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иповий приклад: судинна вертебробазилярна недостатність. Виникає після різкого закидання голови або повороту її на бі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Симптоматика судинної ВБН</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ильний головний біль, біль у потилиці, виражена загальна слабкість.</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ід час або після синкопе можуть спостерігатися неврологічні симптоми: дизартрія, птоз, ністагм, атаксія, анізорефлекіс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Можлива “дроп-атака “ (гостре зниження постурального тонусу і падіння хворого але без втрати свідом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 </a:t>
            </a:r>
            <a:r>
              <a:rPr b="1" lang="uk-UA" sz="3800" spc="-1" strike="noStrike">
                <a:solidFill>
                  <a:srgbClr val="ff0000"/>
                </a:solidFill>
                <a:latin typeface="Times New Roman"/>
              </a:rPr>
              <a:t>Психогенне синкопе                       ( істеричне).</a:t>
            </a:r>
            <a:endParaRPr b="0" lang="en-US" sz="38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оявляються сенсорними, моторними, вегетативними порушеннями, можливою втратою свідомості.</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стерична псевдонепртомність – це особлива форма поведінки хворого, як спосіб психологічного самовираження.</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ля істеричної непритомності потрібні дві умови: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ситуація ( конфліктн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глядач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Клінічні прояви</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трата свідомості може тривати від секунд, хвилин, до години.</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ід час втрати свідомості можуть спостерігатися різні судомні стани, інколи екстравагантного, примхливого характеру.</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Хвора людина не дає можливості відкрити очі, але якщо це вдається, то зінниці живо реагують на світло.</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ульс, АТ, шкіра та слизові без змін.</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хід із стану, як правило , швидк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Невідкладна медична допомога при синкопе</a:t>
            </a:r>
            <a:endParaRPr b="0" lang="en-US" sz="38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безпечення прохідності дихальних шляхів.</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ложення хворого. Не поспішати піднімати хворого.</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оступ свіжого повітря.</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ефлекторні чинники: окропити шию та обличчя водою, масаж нігтьових фаланг, стискання мочок вушних раковин, нашатирний спирт.</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 різкому зниженні АТ: мезатон, ефедрин, кофеї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Times New Roman"/>
              </a:rPr>
              <a:t>СИНКОПЕ</a:t>
            </a:r>
            <a:r>
              <a:rPr b="0" lang="uk-UA" sz="3200" spc="-1" strike="noStrike">
                <a:solidFill>
                  <a:srgbClr val="330033"/>
                </a:solidFill>
                <a:latin typeface="Times New Roman"/>
              </a:rPr>
              <a:t> ( гр.- </a:t>
            </a:r>
            <a:r>
              <a:rPr b="0" lang="en-US" sz="3200" spc="-1" strike="noStrike">
                <a:solidFill>
                  <a:srgbClr val="330033"/>
                </a:solidFill>
                <a:latin typeface="Times New Roman"/>
              </a:rPr>
              <a:t>syncope</a:t>
            </a:r>
            <a:r>
              <a:rPr b="0" lang="uk-UA" sz="3200" spc="-1" strike="noStrike">
                <a:solidFill>
                  <a:srgbClr val="330033"/>
                </a:solidFill>
                <a:latin typeface="Times New Roman"/>
              </a:rPr>
              <a:t> – пауза, короткочасний обрив) - </a:t>
            </a:r>
            <a:r>
              <a:rPr b="1" lang="uk-UA" sz="3200" spc="-1" strike="noStrike">
                <a:solidFill>
                  <a:srgbClr val="ff0000"/>
                </a:solidFill>
                <a:latin typeface="Times New Roman"/>
              </a:rPr>
              <a:t>непритомність</a:t>
            </a:r>
            <a:endParaRPr b="0" lang="en-US" sz="3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пад короткочасної втрати свідомості з розладами серцево-судинної і дихальної діяльност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 основі розвитку непритомності лежить короткочасне зниження мозкового кровоток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епритомності часто передують продромальні стани: запамороченняя, пелена перед очима, нечіткість зору, шум у вухах, нудота, парастезії у дистальних відділах кінціво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Times New Roman"/>
              </a:rPr>
              <a:t>“</a:t>
            </a:r>
            <a:r>
              <a:rPr b="1" lang="uk-UA" sz="3200" spc="-1" strike="noStrike">
                <a:solidFill>
                  <a:srgbClr val="ff0000"/>
                </a:solidFill>
                <a:latin typeface="Times New Roman"/>
              </a:rPr>
              <a:t>Кафе-синдром”</a:t>
            </a:r>
            <a:endParaRPr b="0" lang="en-US" sz="3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Спазм голосових зв'язок, м'язів горл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ичини: органічні, механічні, неврологічні, психоемоційний фактор.</a:t>
            </a:r>
            <a:endParaRPr b="0" lang="en-US" sz="2800" spc="-1" strike="noStrike">
              <a:solidFill>
                <a:srgbClr val="000000"/>
              </a:solidFill>
              <a:latin typeface="Arial"/>
            </a:endParaRPr>
          </a:p>
        </p:txBody>
      </p:sp>
      <p:pic>
        <p:nvPicPr>
          <p:cNvPr id="137" name="Picture 4" descr="imgvxyuz-6"/>
          <p:cNvPicPr/>
          <p:nvPr/>
        </p:nvPicPr>
        <p:blipFill>
          <a:blip r:embed="rId1"/>
          <a:stretch/>
        </p:blipFill>
        <p:spPr>
          <a:xfrm>
            <a:off x="1619280" y="3284640"/>
            <a:ext cx="544356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Види синкопальних станів</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ейрогенні, соматогенні(кардіогенні), медикаментозні.</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ейрогенні синкопальні стан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вазодепресивн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ситуаційні ( гіпервентиляційні, ніктуричні, кашльові, при невралгії язикоглоткового нерва, ортостатичні, при фізичному перевантаженн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330033"/>
                </a:solidFill>
                <a:latin typeface="Times New Roman"/>
              </a:rPr>
              <a:t> </a:t>
            </a:r>
            <a:r>
              <a:rPr b="1" lang="uk-UA" sz="4200" spc="-1" strike="noStrike">
                <a:solidFill>
                  <a:srgbClr val="ff0000"/>
                </a:solidFill>
                <a:latin typeface="Times New Roman"/>
              </a:rPr>
              <a:t>Симптоматика</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Швидка втрата свідомості, блідість шкіри і слизових, профузна пітливість, низький АТ, слабкий рідкий або частий пульс.</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Зупинка дихання не спостерігається. М'язовий тонус знижений. Можуть бути короткочасні м язові посмикування в кінцівках, інколи судоми. Нетриманні сечі буває рідко.</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На відміну від епіприпадку, синкопи розвиваються повільніше, а падіння хворого буває повільнішим і хворі , як правило, не отримують трав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Arial"/>
              </a:rPr>
              <a:t>Після непритомності спостерігається сплутаність свідомості, але вона триває не довго.</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Як правило, пацієнт стривожений, наляканий тим, що сталося. Відмічається загальна втомленість, блідіс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00"/>
                </a:solidFill>
                <a:latin typeface="Times New Roman"/>
              </a:rPr>
              <a:t>Вазодепресивна непритомність (нейрокардіогенна, вазовагальна).</a:t>
            </a:r>
            <a:endParaRPr b="0" lang="en-US" sz="2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 основі лежить порушення церебрального механізму вазомоторного контролю. Провокуючі фактори до посилення симпатичних впливів, внаслідок чого настає надмірне розширення периферичних судин скелетних м'язів при недостатності механізмів вазоконстрикції. Знижується загальний периферичний опір, систолічний тиск, що призводить до гострої гіпоксії структур стовбура головного моз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Вазодепресивна непритомність</a:t>
            </a:r>
            <a:r>
              <a:rPr b="0" lang="uk-UA"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10" name="PlaceHolder 2"/>
          <p:cNvSpPr>
            <a:spLocks noGrp="1"/>
          </p:cNvSpPr>
          <p:nvPr>
            <p:ph/>
          </p:nvPr>
        </p:nvSpPr>
        <p:spPr>
          <a:xfrm>
            <a:off x="900000" y="162864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йбільш поширений синкопальний стан і часто трапляється у людей молодого вік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овокуючі фактор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різні емоційні стани ( страх, біль, вид кров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перебування в душному приміщенні, довготривале перебування в положенні стояч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Клінічні прояви вазодепресивного синкопе</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 кілька хвилин до втрати свідомості з'являються продромальні явища ( передвісники): нудота, підвищена пітливість, відчуття жару, серцебиття). Хворий втрачає свідомість і повільно падає (сповзає). Він апатичний, шкіра зеленувато-сірого кольору, холодна. Дихання часте. Пульс, як правило, рідкий (брадикардія), можливе порушення ритму – екстрасистолія). Систолічний тиск падає до 50 мм рт ст. Можуть бути тоніко-клонічні судом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сля відновлення свідомості хворі скаржаться на загальну слабкість, нудоту, дискомфорт в животі, можуть бути пронос, підсилене сечовиділе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Гіпервентиляційне (гіпокапнічне) синкопе</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наслідок гіпервентиляції знижується вміст вуглекислого газу в циркулюючій крові, що призводить до рефлекторного спазму судин головного мозку і гіпоксії мозкової речовини аж до непритомності. Це синкопе супроводжується панічними атаками, психічними, вегетативними і гіпервентиляційними симптомами ( страх, тривога, серцебиття, брак повітря, болі в серці, парестезії).  Слід відмітити, що стан хворого відносно задовільний, що може скласти враження , що це істеричний напа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14T08:12:13Z</dcterms:created>
  <dc:creator>User</dc:creator>
  <dc:description/>
  <dc:language>en-US</dc:language>
  <cp:lastModifiedBy>user</cp:lastModifiedBy>
  <dcterms:modified xsi:type="dcterms:W3CDTF">2020-04-22T06:06:27Z</dcterms:modified>
  <cp:revision>6</cp:revision>
  <dc:subject/>
  <dc:title>Слайд 1</dc:title>
</cp:coreProperties>
</file>