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DA57-C768-43CB-A306-6B58CC96A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56E0-2839-4743-8D1C-B36B5204D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4CA1-22F3-4544-9D2B-CC4B569A8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9452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867456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91448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529452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867456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1AD8-21D1-4D71-9F6D-414D88001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4EAF8-B7DE-4C6F-9E27-B53E2415D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FBAFF-0183-41E5-8A69-840B9F3B2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504A6-6E80-4244-B810-6C63B1708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00D4B-3BCD-4DC1-9B3F-AFD0D835A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2A67B-0A7D-4506-9776-A8B3CBAF3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914480" y="274320"/>
            <a:ext cx="9996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D8DCB-9FB5-4F81-85E9-0202F4C70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422EE-CFB6-46D5-8678-819DDCDA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CB5A-1429-4F66-AE2A-589368B96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E93F3-7EC2-4C66-94C4-5157E0C9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6ED19-70E8-4199-8EAD-9A085236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F4879-1FA2-4456-94F1-0EDCE9748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61189-C081-413A-925E-63BC37F77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29452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867456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91448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529452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867456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D8046-CA9A-4FAF-8807-CBF4F15A8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14BE1-5698-432A-AC9E-8260B7BEE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E8F25-B248-4E00-87F9-4B3E5A3A3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05A95-54BE-4DEE-A215-805161854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95241-9284-4152-BD83-DAD3F4A5A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3387C-594D-4FBE-9310-E22E299EE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9B91-90CA-4091-B407-307135E5C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914480" y="274320"/>
            <a:ext cx="9996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63842-A041-4FCA-A0E9-49C2BF592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42B6D-1785-4C82-A29B-8B056648E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A46C5-8C13-4924-8609-074E9E89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9F09A-8D41-460D-9483-E838534DA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66BDD-3252-4E9D-AD11-38B802DE1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93A6F-49CB-44CF-8B2E-51CFE53FE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29452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867456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91448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529452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867456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28E8F-57A3-4AB7-8603-117DDCDBA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3FB58-8B8E-4EB0-9CD0-A0CAC5D6D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D87C2-8E3D-4ADB-8853-1E09E96A6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AD661-7B80-4FB0-A495-B3FF91287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91D6-CC63-4215-9D9E-4DCE6FD74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CD974-6228-4319-A231-BEA4CE1C3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BC152-DFDC-447A-AB17-6E64A9556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914480" y="274320"/>
            <a:ext cx="9996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BF759-3796-42FA-8114-31B596F31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1D0FE-8ED0-4E95-AAAD-C425D0CE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AB95A-DDA4-4711-B46E-71A96C6AD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E18F1-492D-4886-8A29-D8F340F92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783B6-2EE5-48D3-9DF5-8C612F0D8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B2216-47AB-45A1-96FB-627987F5E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9452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67456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91448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529452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867456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56A86-039B-46F3-ACB9-4AEAC0FF0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DB929-770D-4788-B517-F40C0B6E1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39A3-0A85-4E28-A5BD-6FEC7CD83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3218DF-5425-4927-9166-14F7E3537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7FBD5-2A02-4A2D-B17B-4ACE2A7DF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67466B-1376-4BA9-8CBF-738AA8C9C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8D21F-5E09-4F9E-9F58-2EE0EA03B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914480" y="274320"/>
            <a:ext cx="9996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A4800-DC33-42E1-A339-A4806810C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A61E87-8F95-4EE0-9292-087A4C7A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A1F6BC-4FD4-4E37-A26B-F23E8341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254F3-C00C-40D9-BED2-C73FC761C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5457D4-AECF-40CF-9834-EB0B8243E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8F4A4B-3603-456E-8269-65FA059DB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914480" y="274320"/>
            <a:ext cx="9996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AA25-C6EF-4097-B745-95336610B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29452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67456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91448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529452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867456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42A13C-EEE3-467E-8D4A-3430DCC47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F84D0F-9EBA-4715-B30A-385FCF40D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FD439A-B99C-42A1-AE64-0ED23F153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302A1E-8122-43D6-8563-C3576B4D0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2FCFB8-312D-409C-84F8-9501AEB3B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E800A4-D412-4E78-A117-C1D1E1BE7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914480" y="274320"/>
            <a:ext cx="9996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A67D19-11B5-4450-9F79-416282327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AE80AC-A887-4CF5-B355-22C3CC3B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E7EEC9-BB20-4C1D-A81A-DEA3D107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810C32-850C-4BDA-9BB6-4967ED005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C83C-695D-4690-A5C3-0DF35243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6D55F-0B34-4C0F-A057-5C265513B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46C7F2-7ED9-430B-BB48-293B72B1E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29452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867456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91448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529452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867456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C67007-1E04-4E25-9BA2-338AD63BD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457EFB-E25B-4C2B-B654-C285D6A42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F61480-0B8C-4DC3-97E8-ECB00A2D8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8266A7-E4C7-4FD7-B749-9F09199AC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7A6C1A-6567-4C70-A5B8-F08B564E6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2FB1B7-5A4C-4148-9DB1-E5CB89D83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914480" y="274320"/>
            <a:ext cx="9996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DA0EFC-0C5E-4CFE-9565-AABC61A2B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D293AF-1891-4F05-8E6B-1266ED690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520C-859D-4476-8115-9A3A316A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232474-B0A5-44B8-9347-A73EE1BC6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F6BB87-1DA7-455E-8CAE-4C5085058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593332-5BD8-4372-8DDE-C732F67D0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2B02CB-E0A9-4680-B482-734756507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29452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67456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91448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529452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867456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BAAD98-090F-4516-8ABA-EE7922C8B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ACAC-7F2B-4117-8AFB-EBD2BA10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1087560" y="-816120"/>
            <a:ext cx="218448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225360" y="20520"/>
            <a:ext cx="22687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291960" y="957240"/>
            <a:ext cx="1414440" cy="1328760"/>
            <a:chOff x="291960" y="957240"/>
            <a:chExt cx="1414440" cy="132876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291960" y="957240"/>
              <a:ext cx="141444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463320" y="1215720"/>
              <a:ext cx="106200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351080" y="0"/>
            <a:ext cx="108410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774680" y="630504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7620120" y="6305040"/>
            <a:ext cx="386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11485440" y="6305040"/>
            <a:ext cx="60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4A384-BAB1-4F6A-AD6F-FA90E773095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352520" y="0"/>
            <a:ext cx="98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1087560" y="-816120"/>
            <a:ext cx="218448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225360" y="20520"/>
            <a:ext cx="22687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291960" y="957240"/>
            <a:ext cx="1414440" cy="1328760"/>
            <a:chOff x="291960" y="957240"/>
            <a:chExt cx="1414440" cy="132876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291960" y="957240"/>
              <a:ext cx="141444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463320" y="1215720"/>
              <a:ext cx="106200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351080" y="0"/>
            <a:ext cx="108410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352520" y="0"/>
            <a:ext cx="98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1225440" y="1407960"/>
            <a:ext cx="298440" cy="225720"/>
            <a:chOff x="1225440" y="1407960"/>
            <a:chExt cx="2984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1225440" y="1407960"/>
              <a:ext cx="2984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1270080" y="1444680"/>
              <a:ext cx="19836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542960" y="1344600"/>
            <a:ext cx="8568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774680" y="630504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7620120" y="6305040"/>
            <a:ext cx="386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11485440" y="6305040"/>
            <a:ext cx="60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FCBF3-9F94-4597-873C-7DC0D05B34F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304308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3048120" y="0"/>
            <a:ext cx="101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889360" y="2809800"/>
            <a:ext cx="298440" cy="225360"/>
            <a:chOff x="2889360" y="2809800"/>
            <a:chExt cx="2984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889360" y="2809800"/>
              <a:ext cx="2984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936880" y="2844720"/>
              <a:ext cx="19836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3211560" y="2746440"/>
            <a:ext cx="8424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774680" y="630504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7620120" y="6305040"/>
            <a:ext cx="386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11485440" y="6305040"/>
            <a:ext cx="60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02331-445E-451D-8F63-60FAF03BF4D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4774680" y="630504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7620120" y="6305040"/>
            <a:ext cx="386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11485440" y="6305040"/>
            <a:ext cx="60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4CAB3-BEB9-4E49-B341-3E1D1EFC212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352520" y="0"/>
            <a:ext cx="1083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352520" y="0"/>
            <a:ext cx="98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4774680" y="630504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7620120" y="6305040"/>
            <a:ext cx="386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11485440" y="6305040"/>
            <a:ext cx="60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5FBB3-4E12-4991-ACFE-11B7C125C00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4774680" y="630504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7620120" y="6305040"/>
            <a:ext cx="386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11485440" y="6305040"/>
            <a:ext cx="60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19CCC-B870-4213-B65E-79FF935FEB4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901800" y="969840"/>
            <a:ext cx="6327720" cy="4802400"/>
            <a:chOff x="901800" y="969840"/>
            <a:chExt cx="632772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901800" y="969840"/>
              <a:ext cx="632772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1015920" y="1066680"/>
              <a:ext cx="609624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528120" y="953640"/>
            <a:ext cx="9144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6672240" y="936360"/>
            <a:ext cx="86508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4774680" y="630504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7620120" y="6305040"/>
            <a:ext cx="386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11485440" y="6305040"/>
            <a:ext cx="60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BBBBD-9742-47D2-ADB8-A4E8AB084F4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41000" y="299520"/>
            <a:ext cx="9526680" cy="17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4b2203"/>
                </a:solidFill>
                <a:latin typeface="Corbel"/>
              </a:rPr>
              <a:t>ХЕРСОНСЬКИЙ ДЕРЖАВНИЙ УНІВЕРСИТЕТ</a:t>
            </a:r>
            <a:br>
              <a:rPr sz="2400"/>
            </a:br>
            <a:r>
              <a:rPr b="1" i="1" lang="uk-UA" sz="2400" spc="-1" strike="noStrike">
                <a:solidFill>
                  <a:srgbClr val="4b2203"/>
                </a:solidFill>
                <a:latin typeface="Corbel"/>
              </a:rPr>
              <a:t>Факультет біології, географії і екології</a:t>
            </a:r>
            <a:br>
              <a:rPr sz="2400"/>
            </a:br>
            <a:r>
              <a:rPr b="1" i="1" lang="uk-UA" sz="2400" spc="-1" strike="noStrike">
                <a:solidFill>
                  <a:srgbClr val="4b2203"/>
                </a:solidFill>
                <a:latin typeface="Corbel"/>
              </a:rPr>
              <a:t>Кафедра географії та екології</a:t>
            </a:r>
            <a:br>
              <a:rPr sz="3600"/>
            </a:b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6453360" y="5003280"/>
            <a:ext cx="5341680" cy="15145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0" name="Рисунок 5" descr=""/>
          <p:cNvPicPr/>
          <p:nvPr/>
        </p:nvPicPr>
        <p:blipFill>
          <a:blip r:embed="rId1"/>
          <a:stretch/>
        </p:blipFill>
        <p:spPr>
          <a:xfrm>
            <a:off x="10098000" y="169920"/>
            <a:ext cx="1905120" cy="1933560"/>
          </a:xfrm>
          <a:prstGeom prst="rect">
            <a:avLst/>
          </a:prstGeom>
          <a:ln w="0">
            <a:noFill/>
          </a:ln>
        </p:spPr>
      </p:pic>
      <p:sp>
        <p:nvSpPr>
          <p:cNvPr id="321" name="Прямоугольник 4"/>
          <p:cNvSpPr/>
          <p:nvPr/>
        </p:nvSpPr>
        <p:spPr>
          <a:xfrm>
            <a:off x="1241280" y="2978280"/>
            <a:ext cx="10593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637f26"/>
                </a:solidFill>
                <a:latin typeface="Corbel"/>
              </a:rPr>
              <a:t>Дисципліна вільного вибо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637f26"/>
                </a:solidFill>
                <a:latin typeface="Corbel"/>
              </a:rPr>
              <a:t> </a:t>
            </a:r>
            <a:r>
              <a:rPr b="1" lang="uk-UA" sz="4400" spc="-1" strike="noStrike">
                <a:solidFill>
                  <a:srgbClr val="637f26"/>
                </a:solidFill>
                <a:latin typeface="Corbel"/>
              </a:rPr>
              <a:t>«Сучасні концепції природознавств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7" descr=""/>
          <p:cNvPicPr/>
          <p:nvPr/>
        </p:nvPicPr>
        <p:blipFill>
          <a:blip r:embed="rId2"/>
          <a:stretch/>
        </p:blipFill>
        <p:spPr>
          <a:xfrm>
            <a:off x="157320" y="182520"/>
            <a:ext cx="2154240" cy="21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1528920" y="352440"/>
            <a:ext cx="101232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orbel"/>
              </a:rPr>
              <a:t>Предметом вивчення дисципліни </a:t>
            </a:r>
            <a:r>
              <a:rPr b="1" i="1" lang="uk-UA" sz="2400" spc="-1" strike="noStrike">
                <a:solidFill>
                  <a:srgbClr val="000000"/>
                </a:solidFill>
                <a:latin typeface="Corbel"/>
              </a:rPr>
              <a:t>“Сучасні концепції природознавства“ </a:t>
            </a:r>
            <a:r>
              <a:rPr b="0" i="1" lang="uk-UA" sz="2400" spc="-1" strike="noStrike">
                <a:solidFill>
                  <a:srgbClr val="000000"/>
                </a:solidFill>
                <a:latin typeface="Corbel"/>
              </a:rPr>
              <a:t>є виступає комплекс знань про природу і місце людини у ній. Курс покликаний визначити місце і значення науки і техніки у сучасній культурі людства, познайомити слухачів на рівні загальних уявлень з найбільш важливими концепціями походження Всесвіту, природи, Землі і людини, допомогти їм оволодіти сучасною природничо-науковою картиною світу, ознайомити з останніми досягненнями науки і технік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1410840" y="136440"/>
            <a:ext cx="10541160" cy="628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 u="sng">
                <a:solidFill>
                  <a:srgbClr val="3891a7"/>
                </a:solidFill>
                <a:uFillTx/>
                <a:latin typeface="Corbel"/>
              </a:rPr>
              <a:t>Мета навчальної дисципліни</a:t>
            </a:r>
            <a:r>
              <a:rPr b="1" i="1" lang="uk-UA" sz="2000" spc="-1" strike="noStrike" u="sng">
                <a:solidFill>
                  <a:srgbClr val="3891a7"/>
                </a:solidFill>
                <a:uFillTx/>
                <a:latin typeface="Corbel"/>
              </a:rPr>
              <a:t>:</a:t>
            </a:r>
            <a:r>
              <a:rPr b="1" lang="uk-UA" sz="2000" spc="-1" strike="noStrike" u="sng">
                <a:solidFill>
                  <a:srgbClr val="3891a7"/>
                </a:solidFill>
                <a:uFillTx/>
                <a:latin typeface="Corbe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orbel"/>
              </a:rPr>
              <a:t> формування у слухачів цілісних уявлень про розвиток науки і техніки як історико-культурного феномена; структурування знань про досягнення людської думки в різні періоди історії людства; представлення розвитку науки як зміни картин світу; формування уявлень про сучасну науково-природничу картину світу; ознайомлення на рівні глобальних ідей з сучасними досягненнями у науці і техніці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 u="sng">
                <a:solidFill>
                  <a:srgbClr val="3891a7"/>
                </a:solidFill>
                <a:uFillTx/>
                <a:latin typeface="Corbel"/>
              </a:rPr>
              <a:t>Завдання</a:t>
            </a:r>
            <a:r>
              <a:rPr b="1" i="1" lang="uk-UA" sz="2000" spc="-1" strike="noStrike" u="sng">
                <a:solidFill>
                  <a:srgbClr val="3891a7"/>
                </a:solidFill>
                <a:uFillTx/>
                <a:latin typeface="Corbe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rbel"/>
              </a:rPr>
              <a:t>визначити місце і роль науки та техніки в культурі людств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rbel"/>
              </a:rPr>
              <a:t>познайомити зі структурою науки і її функціями, визначити її відмінність від інших сфер культур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rbel"/>
              </a:rPr>
              <a:t>ознайомити з основними методами та прийомами отримання наукових знань про природу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rbel"/>
              </a:rPr>
              <a:t>розкрити історію розвитку науки і техніки як складну взаємодію акумуляції наукових знань і зміни парадигм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rbel"/>
              </a:rPr>
              <a:t>виділити основні етапи становлення науки і техніки (античність, середньовіччя, новий час, сучасність) і пояснити закономірності і особливості розвитку наукових і технічних знань в конкретних історичних умовах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rbel"/>
              </a:rPr>
              <a:t>познайомити на рівні ідей з основними картинами світу побудованими наукою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rbel"/>
              </a:rPr>
              <a:t>дати основні уявлення про сучасну науково-природничу картину світу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rbel"/>
              </a:rPr>
              <a:t>познайомити з фундаментальними досягненнями у сучасній науці і техніці, які визначать їх розвиток у майбутньому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604680" y="286920"/>
            <a:ext cx="81759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713204"/>
                </a:solidFill>
                <a:latin typeface="Corbel"/>
              </a:rPr>
              <a:t>Програма навчальної дисципліни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384200" y="822240"/>
            <a:ext cx="10693440" cy="575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891a7"/>
                </a:solidFill>
                <a:latin typeface="Corbel"/>
              </a:rPr>
              <a:t>Змістовий модуль</a:t>
            </a:r>
            <a:r>
              <a:rPr b="1" i="1" lang="uk-UA" sz="2400" spc="-1" strike="noStrike">
                <a:solidFill>
                  <a:srgbClr val="3891a7"/>
                </a:solidFill>
                <a:latin typeface="Corbel"/>
              </a:rPr>
              <a:t> 1. Загальні принципи наукового пізнання в природознавстві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orbel"/>
              </a:rPr>
              <a:t>Тема 1. Предмет, мета і задачі курсу «Концепції сучасного природознавства».</a:t>
            </a:r>
            <a:r>
              <a:rPr b="0" lang="uk-UA" sz="2000" spc="-1" strike="noStrike">
                <a:solidFill>
                  <a:srgbClr val="000000"/>
                </a:solidFill>
                <a:latin typeface="Corbel"/>
              </a:rPr>
              <a:t> Необхідність вивчення природознавства. Визначення природознавства. Класифікація наук і її умовність. Проблеми сучасного природознавства і його «криза»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orbel"/>
              </a:rPr>
              <a:t>Тема 2.</a:t>
            </a:r>
            <a:r>
              <a:rPr b="0" lang="uk-UA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Corbel"/>
              </a:rPr>
              <a:t>Природознавство і наука</a:t>
            </a:r>
            <a:r>
              <a:rPr b="0" lang="uk-UA" sz="2000" spc="-1" strike="noStrike">
                <a:solidFill>
                  <a:srgbClr val="000000"/>
                </a:solidFill>
                <a:latin typeface="Corbel"/>
              </a:rPr>
              <a:t>. Характерні риси науки. Наука і природознавство. Протиріччя сучасної науки. Значення науки в епоху НТР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orbel"/>
              </a:rPr>
              <a:t>Тема 3.</a:t>
            </a:r>
            <a:r>
              <a:rPr b="0" lang="uk-UA" sz="2000" spc="-1" strike="noStrike">
                <a:solidFill>
                  <a:srgbClr val="000000"/>
                </a:solidFill>
                <a:latin typeface="Corbel"/>
              </a:rPr>
              <a:t> Ст</a:t>
            </a:r>
            <a:r>
              <a:rPr b="1" lang="uk-UA" sz="2000" spc="-1" strike="noStrike">
                <a:solidFill>
                  <a:srgbClr val="000000"/>
                </a:solidFill>
                <a:latin typeface="Corbel"/>
              </a:rPr>
              <a:t>руктура природничо-наукового пізнання. </a:t>
            </a:r>
            <a:r>
              <a:rPr b="0" lang="uk-UA" sz="2000" spc="-1" strike="noStrike">
                <a:solidFill>
                  <a:srgbClr val="000000"/>
                </a:solidFill>
                <a:latin typeface="Corbel"/>
              </a:rPr>
              <a:t>Рівні природничо-наукового пізнання. Забезпечення об'єктивності наукового знання. Структура наукового пізнання. Співвідношення емпіричного і теоретичного рівнів дослідження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Corbel"/>
              </a:rPr>
              <a:t>Тема 4. Методи і динаміка природничо-наукового пізнання.</a:t>
            </a:r>
            <a:r>
              <a:rPr b="0" lang="uk-UA" sz="2000" spc="-1" strike="noStrike">
                <a:solidFill>
                  <a:srgbClr val="000000"/>
                </a:solidFill>
                <a:latin typeface="Corbel"/>
              </a:rPr>
              <a:t> Методи наукового пізнання.  Застосування математичних методів у природознавстві.  Внутрішня логіка і динаміка розвитку природознавства.  Природничо-наукова картина світу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orbel"/>
              </a:rPr>
              <a:t>Тема 5. Сучасні концепції астрономії.</a:t>
            </a:r>
            <a:r>
              <a:rPr b="0" lang="uk-UA" sz="2000" spc="-1" strike="noStrike">
                <a:solidFill>
                  <a:srgbClr val="000000"/>
                </a:solidFill>
                <a:latin typeface="Corbel"/>
              </a:rPr>
              <a:t>  Науки про Всесвіт і його походження.  Концепція розширюваного Всесвіту  Концепції про еволюцію і будову галактик.  Концепції про будову й еволюцію зірок. Концепції про походження Сонячної системи. Астрономія і космонавтика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6400" y="262080"/>
            <a:ext cx="10474200" cy="65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3891a7"/>
                </a:solidFill>
                <a:latin typeface="Corbel"/>
              </a:rPr>
              <a:t>Змістовий модуль 2. Концепції природознавства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orbel"/>
              </a:rPr>
              <a:t>Тема 6. Теоретичне значення і сучасні концепції фізики.</a:t>
            </a:r>
            <a:r>
              <a:rPr b="0" lang="uk-UA" sz="2000" spc="-1" strike="noStrike">
                <a:solidFill>
                  <a:srgbClr val="000000"/>
                </a:solidFill>
                <a:latin typeface="Corbel"/>
              </a:rPr>
              <a:t>  Фізика і принцип редукціонізму. Теорія відносності.  Простір і час, речовина й енергія в теорії відносності. Квантова механіка.  Нескінченність мікросвіту.  Основні фізичні взаємодії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orbel"/>
              </a:rPr>
              <a:t>Тема 7. Екологія і природокористування. Екологія і її основні принципи. </a:t>
            </a:r>
            <a:r>
              <a:rPr b="0" lang="uk-UA" sz="2000" spc="-1" strike="noStrike">
                <a:solidFill>
                  <a:srgbClr val="000000"/>
                </a:solidFill>
                <a:latin typeface="Corbel"/>
              </a:rPr>
              <a:t>Особливості сучасної екосистемології. Синтетична теорія еволюції. Концепція коеволюції. Концепція «Живої Землі» чи Гея-Гіпотеза.  Людина в Природі та проблема природокористування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orbel"/>
              </a:rPr>
              <a:t>Тема 8. Концепція</a:t>
            </a:r>
            <a:r>
              <a:rPr b="0" lang="uk-UA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Corbel"/>
              </a:rPr>
              <a:t>біосфери-ноосфери В.І.Вернадського і її сучасна модифікація.</a:t>
            </a:r>
            <a:r>
              <a:rPr b="0" lang="uk-UA" sz="2000" spc="-1" strike="noStrike">
                <a:solidFill>
                  <a:srgbClr val="000000"/>
                </a:solidFill>
                <a:latin typeface="Corbel"/>
              </a:rPr>
              <a:t> Головні положення теорії біосфериноосфери Вернадського. Емпіричні узагальнення Вернадського.  Роль географічного простору в розвитку біосфери. Сучасна інтерпретація теорії біосфери-ноосфери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orbel"/>
              </a:rPr>
              <a:t>Тема 9. Концепції розвитку складних систем: кібернетика і синергетика. </a:t>
            </a:r>
            <a:r>
              <a:rPr b="0" lang="uk-UA" sz="2000" spc="-1" strike="noStrike">
                <a:solidFill>
                  <a:srgbClr val="000000"/>
                </a:solidFill>
                <a:latin typeface="Corbel"/>
              </a:rPr>
              <a:t>Поняття складної системи і її основні властивості.  Кібернетика, ЕОМ і моделювання.  Уявлення про нерівноважні системи.  Еволюція з позиції нерівноважних систем.  Синергетика та гіпотеза народження матерії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orbel"/>
              </a:rPr>
              <a:t>Тема 10. Наукові картини світу</a:t>
            </a:r>
            <a:r>
              <a:rPr b="0" lang="uk-UA" sz="2000" spc="-1" strike="noStrike">
                <a:solidFill>
                  <a:srgbClr val="000000"/>
                </a:solidFill>
                <a:latin typeface="Corbel"/>
              </a:rPr>
              <a:t>. Уявлення про наукову картину світу.  Стисла історія формування наукової картини світу.  Світоглядна роль еволюції наукових картин світу.  Сучасна наукова картина світу. Проблема фінальності наукового пізнання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21T15:48:04Z</dcterms:created>
  <dc:creator>Дмитрий Зинченко</dc:creator>
  <dc:description/>
  <dc:language>en-US</dc:language>
  <cp:lastModifiedBy>Рома_Юля</cp:lastModifiedBy>
  <dcterms:modified xsi:type="dcterms:W3CDTF">2020-07-29T21:28:52Z</dcterms:modified>
  <cp:revision>55</cp:revision>
  <dc:subject/>
  <dc:title>ХЕРСОНСЬКИЙ ДЕРЖАВНИЙ УНІВЕРСИТЕТ</dc:title>
</cp:coreProperties>
</file>