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120B-85A0-496C-8C0F-F24B91A8C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DFF8-B869-4FCF-BD90-A496A6AA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2568-DF65-40C4-A230-7CDF5454E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66C9-7FAC-4D41-BFA2-82B35654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B9C1-9F1B-48D1-88AF-2127B2A7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F507-23A0-4E6A-A21F-0A6D9A65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AF6F-2172-4ADE-8E60-DA17DDDA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B2D6-9362-475F-A65E-A6B0E1E9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701E-A77C-4180-901F-B29D78DB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F99DE-BE76-4012-B65C-F7FFE76E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F870-F491-4FC2-BE76-8D0A6304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FB69-3730-417E-A5C0-3EA496E7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C24F-136E-423E-9979-EEB4BE03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6B63-E8CC-4BE9-BEE9-4E2A4ED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BDD9-E409-4D90-A6AD-54D6AD2D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AC0D-DB36-494F-A5D5-1BDF8577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A468-2823-4621-BAD4-B90FCB60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42967-6BA5-479A-85FF-8B2A6942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A04E6-279D-4090-8C44-D6A3D5D1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1D427-9881-48F2-BE5B-A459C303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7C593-CE37-4B03-91AA-C516BFBE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065CE-E23F-4F5B-AFBF-01E82C34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FF1-318A-46FC-910C-0EAD64BA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57F39-2BE0-4F88-9E19-B008D7F6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149A-6C15-4DAB-9C25-8E5763B1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4E971-1416-4D3F-A88A-45A78411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F5637-615D-41E8-BF57-A9E460C1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3ABEC-7C65-49FD-92AE-A6E40CA5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6D62B-3BE8-4612-96EC-CDC8F8F1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0F56-FD82-4ECE-BF61-CC18C0B6D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CC2DB-5CE5-4A99-B6D3-E5333BA55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C2B53-A709-45AD-B67B-E2981D64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E2D5-BD50-443C-9B22-D45B550C2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AA53-B57A-41E1-A448-2CB8CABA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EDC5B-9CAA-48AD-A358-7024E38B7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8DEB-4BC7-48C5-97CC-8DCB0C7EE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07FD8-77A6-4D72-ADE1-1536C758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11CA7-DA04-44DA-9520-06F097C2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99DA2-0B34-4C12-BA92-566FF0A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4BC85-E187-46C6-92A9-F968DDB9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49822-393E-47A5-B308-8AECAC03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9FB9-4703-4F34-BC0D-F3CC8E5E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EA92F-C824-49F7-9644-0A77D19F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B2105-8945-44C4-A276-B10B533C7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8DB4-4370-4C92-AD8A-FB1DCD1B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36140-DA46-4777-BC33-62083F30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FF79E-94F6-4857-875B-6B948BB9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E1022-78D0-48A8-914F-A3F7C445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58D85-DCE1-413D-944A-2334D12C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7DDAC-D743-4C40-A16F-A6214EF0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CD8EF-8EB6-4BCA-9FE1-9888A651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2CDB2-EA3C-40B3-9113-A0BD277D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211E3-9046-461A-AEE0-8486267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18A78-5290-4B76-89B1-E5F0CF88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D6B3B-E256-4ED8-A55D-C3B4C367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A542-BB25-45DE-AA4E-0B77D481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FA5A1-8CA7-46FC-A2F4-A36EBAFFF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BB0E-110E-4F13-BBA3-519A2FE9C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7DC1-9DE5-4F6A-9743-56406F4F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25F8C-B0CD-47A9-A750-9539C6C36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99D27-2639-4115-A62A-8DF56B35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A4D69-B4E2-43F8-A85C-F9378060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D58DF-6735-4426-995F-2DCC06CB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E86C8-9428-4AD0-AFE3-86724D8E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91512-19AF-4A47-8FB2-010188D6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719E6-D042-4A98-A611-BA5802D9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D867-AABD-470E-98B0-AA68CDBA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B958F-8EAA-4DDF-9B19-8AD14106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AA6DF-A79B-4D77-A455-D7B6563F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DD595-5F43-4BEE-83F0-3784775D3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FAA23-ADC2-4134-AC5C-47828EE2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8D0D7-22FD-449E-BCC3-D12ADD30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991D9-C0BE-437A-A82A-1442E0C4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16C2-4315-4292-B7CC-2D651B9C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DB420-6A5A-4EDF-89AB-3B815DB5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914480" y="274320"/>
            <a:ext cx="9996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B7BDB6-9674-43AE-BFEC-5A1A8D2D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166A6-DD65-442B-81FA-175CBBE3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CD52-6E3D-40CB-80ED-FA5ECAE3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4902C-BA9F-4B02-8405-25B03CC0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B41C9A-6D2E-46EE-AE40-61198FBB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DE146-F98B-47B7-A81F-D3BA3823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036920" y="39549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BF3BC-E671-406F-AE68-64AEEE2B7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9452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674560" y="14475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91448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529452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674560" y="3954960"/>
            <a:ext cx="3218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775D1-D791-445E-8412-5B2A6D88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1448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36920" y="1447560"/>
            <a:ext cx="4878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14480" y="3954960"/>
            <a:ext cx="9996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0A8C-5453-4C1C-8F28-7E273E9B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1087560" y="-816120"/>
            <a:ext cx="218448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E23C-A87A-437F-9994-1B6A497A2DB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1087560" y="-816120"/>
            <a:ext cx="218448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225360" y="20520"/>
            <a:ext cx="22687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291960" y="957240"/>
            <a:ext cx="1414440" cy="1328760"/>
            <a:chOff x="291960" y="957240"/>
            <a:chExt cx="1414440" cy="132876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291960" y="957240"/>
              <a:ext cx="14144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463320" y="1215720"/>
              <a:ext cx="106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351080" y="0"/>
            <a:ext cx="10841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1225440" y="1407960"/>
            <a:ext cx="298440" cy="225720"/>
            <a:chOff x="1225440" y="1407960"/>
            <a:chExt cx="2984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1225440" y="1407960"/>
              <a:ext cx="2984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1270080" y="1444680"/>
              <a:ext cx="19836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542960" y="1344600"/>
            <a:ext cx="8568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FCB0-26E2-4395-B5DF-7656EF7860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304308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3048120" y="0"/>
            <a:ext cx="101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889360" y="2809800"/>
            <a:ext cx="298440" cy="225360"/>
            <a:chOff x="2889360" y="2809800"/>
            <a:chExt cx="2984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889360" y="2809800"/>
              <a:ext cx="2984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936880" y="2844720"/>
              <a:ext cx="19836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3211560" y="2746440"/>
            <a:ext cx="8424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0B07-AA26-4924-BCD1-FE07517D6BF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C82B-A17C-40DD-9BF8-643DD73A1F7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352520" y="0"/>
            <a:ext cx="1083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352520" y="0"/>
            <a:ext cx="98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89E9-EDD8-4B54-9655-19A21195A0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19FC-46B0-4867-B544-7ED0E3B94EA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901800" y="969840"/>
            <a:ext cx="6327720" cy="4802400"/>
            <a:chOff x="901800" y="969840"/>
            <a:chExt cx="632772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901800" y="969840"/>
              <a:ext cx="632772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015920" y="1066680"/>
              <a:ext cx="609624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528120" y="953640"/>
            <a:ext cx="9144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6672240" y="936360"/>
            <a:ext cx="86508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914480" y="1447560"/>
            <a:ext cx="9996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4774680" y="630504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7620120" y="6305040"/>
            <a:ext cx="3860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11485440" y="6305040"/>
            <a:ext cx="609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E285-AD22-498A-95DD-AFC54002A93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41000" y="299520"/>
            <a:ext cx="9526680" cy="17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4b2203"/>
                </a:solidFill>
                <a:latin typeface="Corbel"/>
              </a:rPr>
              <a:t>ХЕРСОНСЬКИЙ ДЕРЖАВНИЙ УНІВЕРСИТЕТ</a:t>
            </a:r>
            <a:br>
              <a:rPr sz="2400"/>
            </a:br>
            <a:r>
              <a:rPr b="1" i="1" lang="uk-UA" sz="2400" spc="-1" strike="noStrike">
                <a:solidFill>
                  <a:srgbClr val="4b2203"/>
                </a:solidFill>
                <a:latin typeface="Corbel"/>
              </a:rPr>
              <a:t>Факультет біології, географії і екології</a:t>
            </a:r>
            <a:br>
              <a:rPr sz="2400"/>
            </a:br>
            <a:r>
              <a:rPr b="1" i="1" lang="uk-UA" sz="2400" spc="-1" strike="noStrike">
                <a:solidFill>
                  <a:srgbClr val="4b2203"/>
                </a:solidFill>
                <a:latin typeface="Corbel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6453360" y="5003280"/>
            <a:ext cx="5341680" cy="15145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Рисунок 5" descr=""/>
          <p:cNvPicPr/>
          <p:nvPr/>
        </p:nvPicPr>
        <p:blipFill>
          <a:blip r:embed="rId1"/>
          <a:stretch/>
        </p:blipFill>
        <p:spPr>
          <a:xfrm>
            <a:off x="10098000" y="169920"/>
            <a:ext cx="1905120" cy="1933560"/>
          </a:xfrm>
          <a:prstGeom prst="rect">
            <a:avLst/>
          </a:prstGeom>
          <a:ln w="0">
            <a:noFill/>
          </a:ln>
        </p:spPr>
      </p:pic>
      <p:sp>
        <p:nvSpPr>
          <p:cNvPr id="321" name="Прямоугольник 4"/>
          <p:cNvSpPr/>
          <p:nvPr/>
        </p:nvSpPr>
        <p:spPr>
          <a:xfrm>
            <a:off x="1241280" y="2978280"/>
            <a:ext cx="10593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37f26"/>
                </a:solidFill>
                <a:latin typeface="Corbel"/>
              </a:rPr>
              <a:t>Дисципліна вільного вибор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637f26"/>
                </a:solidFill>
                <a:latin typeface="Corbel"/>
              </a:rPr>
              <a:t> </a:t>
            </a:r>
            <a:r>
              <a:rPr b="1" lang="uk-UA" sz="4400" spc="-1" strike="noStrike">
                <a:solidFill>
                  <a:srgbClr val="637f26"/>
                </a:solidFill>
                <a:latin typeface="Corbel"/>
              </a:rPr>
              <a:t>«Сучасні концепції природознавств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7" descr=""/>
          <p:cNvPicPr/>
          <p:nvPr/>
        </p:nvPicPr>
        <p:blipFill>
          <a:blip r:embed="rId2"/>
          <a:stretch/>
        </p:blipFill>
        <p:spPr>
          <a:xfrm>
            <a:off x="157320" y="182520"/>
            <a:ext cx="215424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528920" y="352440"/>
            <a:ext cx="10123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Corbe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orbel"/>
              </a:rPr>
              <a:t>Предметом вивчення дисципліни </a:t>
            </a:r>
            <a:r>
              <a:rPr b="1" i="1" lang="uk-UA" sz="2400" spc="-1" strike="noStrike">
                <a:solidFill>
                  <a:srgbClr val="000000"/>
                </a:solidFill>
                <a:latin typeface="Corbel"/>
              </a:rPr>
              <a:t>“Сучасні концепції природознавства“ </a:t>
            </a:r>
            <a:r>
              <a:rPr b="0" i="1" lang="uk-UA" sz="2400" spc="-1" strike="noStrike">
                <a:solidFill>
                  <a:srgbClr val="000000"/>
                </a:solidFill>
                <a:latin typeface="Corbel"/>
              </a:rPr>
              <a:t>є виступає комплекс знань про природу і місце людини у ній. Курс покликаний визначити місце і значення науки і техніки у сучасній культурі людства, познайомити слухачів на рівні загальних уявлень з найбільш важливими концепціями походження Всесвіту, природи, Землі і людини, допомогти їм оволодіти сучасною природничо-науковою картиною світу, ознайомити з останніми досягненнями науки і технік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410840" y="136440"/>
            <a:ext cx="10541160" cy="628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 u="sng">
                <a:solidFill>
                  <a:srgbClr val="3891a7"/>
                </a:solidFill>
                <a:uFillTx/>
                <a:latin typeface="Corbel"/>
              </a:rPr>
              <a:t>Мета навчальної дисципліни</a:t>
            </a:r>
            <a:r>
              <a:rPr b="1" i="1" lang="uk-UA" sz="2000" spc="-1" strike="noStrike" u="sng">
                <a:solidFill>
                  <a:srgbClr val="3891a7"/>
                </a:solidFill>
                <a:uFillTx/>
                <a:latin typeface="Corbel"/>
              </a:rPr>
              <a:t>:</a:t>
            </a:r>
            <a:r>
              <a:rPr b="1" lang="uk-UA" sz="2000" spc="-1" strike="noStrike" u="sng">
                <a:solidFill>
                  <a:srgbClr val="3891a7"/>
                </a:solidFill>
                <a:uFillTx/>
                <a:latin typeface="Corbel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формування у слухачів цілісних уявлень про розвиток науки і техніки як історико-культурного феномена; структурування знань про досягнення людської думки в різні періоди історії людства; представлення розвитку науки як зміни картин світу; формування уявлень про сучасну науково-природничу картину світу; ознайомлення на рівні глобальних ідей з сучасними досягненнями у науці і техніці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 u="sng">
                <a:solidFill>
                  <a:srgbClr val="3891a7"/>
                </a:solidFill>
                <a:uFillTx/>
                <a:latin typeface="Corbel"/>
              </a:rPr>
              <a:t>Завдання</a:t>
            </a:r>
            <a:r>
              <a:rPr b="1" i="1" lang="uk-UA" sz="2000" spc="-1" strike="noStrike" u="sng">
                <a:solidFill>
                  <a:srgbClr val="3891a7"/>
                </a:solidFill>
                <a:uFillTx/>
                <a:latin typeface="Corbe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визначити місце і роль науки та техніки в культурі людств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ознайомити зі структурою науки і її функціями, визначити її відмінність від інших сфер культур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ознайомити з основними методами та прийомами отримання наукових знань про природ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розкрити історію розвитку науки і техніки як складну взаємодію акумуляції наукових знань і зміни парадигм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виділити основні етапи становлення науки і техніки (античність, середньовіччя, новий час, сучасність) і пояснити закономірності і особливості розвитку наукових і технічних знань в конкретних історичних умовах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ознайомити на рівні ідей з основними картинами світу побудованими наукою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дати основні уявлення про сучасну науково-природничу картину світ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ознайомити з фундаментальними досягненнями у сучасній науці і техніці, які визначать їх розвиток у майбутньому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604680" y="286920"/>
            <a:ext cx="817596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713204"/>
                </a:solidFill>
                <a:latin typeface="Corbel"/>
              </a:rPr>
              <a:t>Програма навчальної дисципліни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384200" y="822240"/>
            <a:ext cx="10693440" cy="57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891a7"/>
                </a:solidFill>
                <a:latin typeface="Corbel"/>
              </a:rPr>
              <a:t>Змістовий модуль</a:t>
            </a:r>
            <a:r>
              <a:rPr b="1" i="1" lang="uk-UA" sz="2400" spc="-1" strike="noStrike">
                <a:solidFill>
                  <a:srgbClr val="3891a7"/>
                </a:solidFill>
                <a:latin typeface="Corbel"/>
              </a:rPr>
              <a:t> 1. Загальні принципи наукового пізнання в природознавстві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1. Предмет, мета і задачі курсу «Концепції сучасного природознавства»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Необхідність вивчення природознавства. Визначення природознавства. Класифікація наук і її умовність. Проблеми сучасного природознавства і його «криза»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2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Природознавство і наука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. Характерні риси науки. Наука і природознавство. Протиріччя сучасної науки. Значення науки в епоху НТР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3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Ст</a:t>
            </a: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руктура природничо-наукового пізнання.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Рівні природничо-наукового пізнання. Забезпечення об'єктивності наукового знання. Структура наукового пізнання. Співвідношення емпіричного і теоретичного рівнів дослідженн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4. Методи і динаміка природничо-наукового пізнання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Методи наукового пізнання.  Застосування математичних методів у природознавстві.  Внутрішня логіка і динаміка розвитку природознавства.  Природничо-наукова картина світу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5. Сучасні концепції астрономії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 Науки про Всесвіт і його походження.  Концепція розширюваного Всесвіту  Концепції про еволюцію і будову галактик.  Концепції про будову й еволюцію зірок. Концепції про походження Сонячної системи. Астрономія і космонавтика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14480" y="274320"/>
            <a:ext cx="999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6400" y="262080"/>
            <a:ext cx="10474200" cy="65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3891a7"/>
                </a:solidFill>
                <a:latin typeface="Corbel"/>
              </a:rPr>
              <a:t>Змістовий модуль 2. Концепції природознавства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6. Теоретичне значення і сучасні концепції фізики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 Фізика і принцип редукціонізму. Теорія відносності.  Простір і час, речовина й енергія в теорії відносності. Квантова механіка.  Нескінченність мікросвіту.  Основні фізичні взаємодії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7. Екологія і природокористування. Екологія і її основні принципи.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Особливості сучасної екосистемології. Синтетична теорія еволюції. Концепція коеволюції. Концепція «Живої Землі» чи Гея-Гіпотеза.  Людина в Природі та проблема природокористування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8. Концепція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біосфери-ноосфери В.І.Вернадського і її сучасна модифікація.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 Головні положення теорії біосфериноосфери Вернадського. Емпіричні узагальнення Вернадського.  Роль географічного простору в розвитку біосфери. Сучасна інтерпретація теорії біосфери-ноосфери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9. Концепції розвитку складних систем: кібернетика і синергетика. 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Поняття складної системи і її основні властивості.  Кібернетика, ЕОМ і моделювання.  Уявлення про нерівноважні системи.  Еволюція з позиції нерівноважних систем.  Синергетика та гіпотеза народження матерії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rbel"/>
              </a:rPr>
              <a:t>Тема 10. Наукові картини світу</a:t>
            </a:r>
            <a:r>
              <a:rPr b="0" lang="uk-UA" sz="2000" spc="-1" strike="noStrike">
                <a:solidFill>
                  <a:srgbClr val="000000"/>
                </a:solidFill>
                <a:latin typeface="Corbel"/>
              </a:rPr>
              <a:t>. Уявлення про наукову картину світу.  Стисла історія формування наукової картини світу.  Світоглядна роль еволюції наукових картин світу.  Сучасна наукова картина світу. Проблема фінальності наукового пізнання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Рома_Юля</cp:lastModifiedBy>
  <dcterms:modified xsi:type="dcterms:W3CDTF">2020-07-29T21:28:52Z</dcterms:modified>
  <cp:revision>55</cp:revision>
  <dc:subject/>
  <dc:title>ХЕРСОНСЬКИЙ ДЕРЖАВНИЙ УНІВЕРСИТЕТ</dc:title>
</cp:coreProperties>
</file>