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7EF-4ED4-4F29-B60D-DD025B74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B5A-C633-4B07-8E92-BE20AAB7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962F2-A30D-4DDC-8D8C-F5CBC557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BD2A3-6B7E-4C1A-AFAF-848458AB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F75B6-B8F8-4DD3-BC11-09B64717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EBC8D-C85B-4AC2-B4C1-0090F601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CA2CE-C5B4-4453-B0B7-ACD2EE6E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18FF9-D934-433A-B307-2C2518C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57F34-325F-4233-97F2-9B170CF3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9588B-A436-4F0B-92F4-61988349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ABC83-44A2-41AB-A510-CF351A42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32FCE-01DC-4B80-9881-FB4D119B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C21-4A86-4338-A1C3-BE6ABF98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EB8C3-B5AD-4385-AF85-53DF2C12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EA276-A69B-4FED-B28D-8A4A229A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53300-E402-40C7-BD31-6BCB8972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8EF09-52CB-4D6C-9D84-25ED465D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56860-B56D-402C-82BB-FD7ACFBF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1B45D-78C8-4E04-BDFF-9A44B285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15A97-BE35-4AD4-B528-3DCE8D1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6053E-130E-4464-A875-4B3BB181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A85FA-C792-4FF7-9D45-8A9D281B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4CEC9-E7D7-4ACC-8C0D-90E8E5CA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196-3CA7-4DB1-910F-4FACB3C6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2FB9F-6190-4A5D-82FF-B006D80F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7FA2C-FC99-4A14-AF45-AF49E14D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F47E3-3B3A-45DD-A711-B8E09ED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76328-0FEE-4F15-B137-6E40A782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154B9-33F8-4052-AF80-540224C6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2450C-F758-4C02-A3D2-B2B539A8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ED0F9-CAC3-48D8-8C77-744D49B8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37CDB-725A-47AC-AF92-C960BEE4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E8172-06C3-4BEF-A8F4-6F1F900C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DFC03-9136-4425-8693-7EC60EB0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FF91-8A9A-4B02-8524-FB557A42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7AA1C-10C1-4404-B9E8-35B94950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DE094-0517-4E0B-8A1C-34CF6135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8EF8C-DAC6-4DED-A613-F8F063BA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30BB6-C08C-48D9-BBEC-E9F13518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073A0-2727-43EA-990E-D5CF6293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EF13C-BB64-4C4F-96F3-4612B279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734D5-5A49-484B-8F20-116687DD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1182D-C815-47D1-85B3-F497B662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ACBEB-0B79-4E4F-AF5B-56EEBA5F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D6B11-E163-415C-8521-1A31CE10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605E-B390-4374-A886-A950531F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7A856-8F9B-4860-82E0-921DDC6F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BD7F2-C45D-4CCE-BB06-1B88FA56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8F3D0-7DD9-4FDC-A00A-BA187F61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7C8C5-EBC4-46B7-BE18-856CFACE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17653-FECD-4E98-8252-0F093D9F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B83B-C4BC-41BC-8B2B-E377A4A6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C4EC-22B6-4816-922F-76C4609A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4280-2FC6-4B80-B4B9-7267763B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89B6-F7B6-402E-BDC6-4D3291D4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A88F-38E0-4A3C-BDA6-38530C7E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2BF-2CD6-4FF4-A83A-7C29F738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F897-76AD-4AB6-9C49-E85D3D65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ED30-4310-4610-A7E2-DD72357E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AF13-B992-4233-8057-4E8302F8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9671-FA71-4F4A-9436-A99F1215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8530-B1C7-4D07-BAD0-92412CBA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D013-5F4C-462E-919A-C9C88350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540EC-A1C4-47CC-8D42-0CA173C1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FBF7B-C6C6-4203-B2F6-EB5D83A2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88CB-58B6-475C-912D-90E46E0E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71A5-B880-497F-81C0-4266F81F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F5D-5CE8-4E8F-BB4C-702B4C55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E02A-E71B-4F51-98AD-7EE49573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568F-0C72-4CC2-934F-AA35B2DD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2AED-3CDC-41B3-80CE-504BDA04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F9C7-D2FB-4ED2-B532-2BF1C5D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2128-52E5-4EA1-8026-4A94BF19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A4CE-D77D-4D46-9771-4B35188B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DB5B-C694-49F4-8DFD-2A1D4F0B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10C7-CD88-4445-9B08-7CA55B4F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A807-3A87-4B78-A3E8-3420458F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56A77-145D-4F63-AFCC-76294493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04E-97CA-41E9-9007-577A02E2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99E41-4343-4C98-ACB3-2F05DFC4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A75B1-153D-4E1D-A8A9-A7002689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23BA1-7DC5-48CB-87EE-038461B7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49D3-53A9-4E64-9DBC-26CD1516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B6F2-69B5-4AC8-9F09-3E661BB3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7883-751F-46A3-A8DD-5886CBFB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07C5-BFBB-409B-8B5C-44BD5A4B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BD5B-0695-4363-BAFC-B102A726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75B8-9A8F-407B-8D15-A4761195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91E1F-13A3-4D74-9484-C64820F3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944-1CA5-4700-8A73-9C99D16D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5CA7-0B2E-4AEF-AC0D-E6E6C6F9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3225D-66F3-4DC3-BF68-15245B75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C1988-6CF6-4319-9A2D-8478CFB6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FB36F-E0A0-4F7B-B3D5-37EE035F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68C96-6BEC-4A5F-8E01-C0A21329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9BDB8-0C98-4EE7-9719-43284520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0A779-0AB8-42B8-8F48-01E4C779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32489-D72A-474E-AE3B-53087AE5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E10A-72EF-43D2-9452-25536F57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79619-C9C2-4975-8576-7C88B2B0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A56-FDFC-4F64-9F2A-25AB6327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4AF3D-EAF7-4A91-872F-02DCD4A7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88275-0199-4B05-9975-C3BDF571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9ED22-200A-4ECB-99BA-EDE31559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DAC2E-1FF5-417C-84D7-D7C81FCC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D9CF1-4577-43EC-9F30-60C60DB4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5DD08-D654-42C0-95AB-C3065618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7B27-B13B-4FE8-A331-570F4B49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29099-A186-45D1-85B2-2C1CA0D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A4F2C-B705-4BEA-B73D-5C211E4A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1191-DDE8-407D-AD06-C8273EEF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050-4481-44D2-BCDB-A87DB0D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1BE97-E276-49EA-B635-8C4B3345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28524-B546-4267-88D5-FF954D9F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1D31-F88A-46D4-B7AE-8BAEF6D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94B6D-38B3-4BD9-A1A9-81222446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BF85A-83F6-4828-A9AD-C5217E6F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90BEB-9C50-4EE8-BBC7-AF2BB24C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268DF-D8B3-4337-92BE-5F68FC9A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43F7F-9FCD-48C8-B0F6-FD55F455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8F0F-6BC5-44B5-8ADF-706F8F37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2F8DE-8442-473C-9723-4D1099DA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4C3-9A44-44C9-9D06-ABE3BD61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FB2F8-553A-4C1E-A01A-4DC8DF67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58CFD-14DB-4514-B753-7C78B62E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77177-4071-427A-906F-BF033199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A06CA-6892-4C3F-A135-3344EE36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8A907-EF24-489A-9339-CBF5DF63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4BD6F-4147-43C1-9689-4C86F90E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52CD6-625B-4865-9075-D115BCDB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C5226-0A6A-444F-B407-C17B0F1E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508BB-286B-4369-940B-23839589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18006-9025-4613-B1A8-8F0C64C6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3AF-A46E-430F-ACFC-CE365E9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0FF31-C4A2-42DE-8BAB-37F57D7D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88CE3-CA17-4608-8E1E-A01F114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B7277-8734-44AE-9327-6FE85831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FCAE5-9DC8-4B27-BC7D-3A5B2C72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9627F-CB6E-4306-921C-1B9AFD6C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FD25F-A878-4FF8-9544-55E23049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87409-A922-4C31-B0AD-7267F2D9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BC472-C7B6-4570-89BA-E45451DD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D8E9C-A3A8-4337-A9FD-602A87B1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78FB1-7CCC-4FEA-9920-E15BE1BB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CD1B-B6E9-445F-966E-97BBEA6051F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203040" y="152280"/>
            <a:ext cx="117777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EF7C-3A75-4119-910F-0480F28DE15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7716960" y="640548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401400" y="6409800"/>
            <a:ext cx="4779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C15F-7B70-49D9-8D6C-52987138085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9347040" y="0"/>
            <a:ext cx="2845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952668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9120240" y="292572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9245520" y="3021120"/>
            <a:ext cx="56052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9221400" y="300996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D12D-C0CB-4557-BDB4-AEF786B80C5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11988720" y="324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121921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208080" y="2419200"/>
            <a:ext cx="11775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3BFF-3641-46F4-822F-21F34A70015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814720" y="10270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40B1-9E71-42F5-888D-48957B26861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11988720" y="1908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203040" y="2286000"/>
            <a:ext cx="11777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208080" y="142920"/>
            <a:ext cx="11775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203040" y="243828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F3E7-CAB9-4F6E-8D13-CE8745E71FC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6084720" y="1576080"/>
            <a:ext cx="111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7721640" y="6409800"/>
            <a:ext cx="4059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14AB-AD7F-4CE5-95D5-3C6950451CB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609588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2192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203040" y="1371600"/>
            <a:ext cx="117777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95120" y="6391440"/>
            <a:ext cx="1177632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203040" y="127944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06440" y="6409800"/>
            <a:ext cx="4775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5790960" y="10429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DD8D-C186-4F3E-A3E9-0D8263DE000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5790960" y="1036440"/>
            <a:ext cx="60948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0D39-9959-483D-9770-CA566D92EB8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203040" y="15876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5689440" y="6324480"/>
            <a:ext cx="8128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3DE9-5377-4596-A9E2-53A6B633E57C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203040" y="152280"/>
            <a:ext cx="117777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12192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7DB1-5A69-49D8-8118-C25EC7848C4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401760" y="6409800"/>
            <a:ext cx="4511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41000" y="1488960"/>
            <a:ext cx="9526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35e40"/>
                </a:solidFill>
                <a:latin typeface="Georgia"/>
              </a:rPr>
              <a:t>ХЕРСОНСЬКИЙ ДЕРЖАВНИЙ УНІВЕРСИТЕТ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Факультет біології, географії і екології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Кафедра географії та екології</a:t>
            </a:r>
            <a:br>
              <a:rPr sz="36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Рисунок 5" descr=""/>
          <p:cNvPicPr/>
          <p:nvPr/>
        </p:nvPicPr>
        <p:blipFill>
          <a:blip r:embed="rId1"/>
          <a:stretch/>
        </p:blipFill>
        <p:spPr>
          <a:xfrm>
            <a:off x="9675720" y="219240"/>
            <a:ext cx="2140200" cy="217152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1584360" y="2962440"/>
            <a:ext cx="92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16349"/>
                </a:solidFill>
                <a:latin typeface="Georgia"/>
              </a:rPr>
              <a:t>Дисципліна вільного виб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1" lang="uk-UA" sz="3600" spc="-1" strike="noStrike">
                <a:solidFill>
                  <a:srgbClr val="d16349"/>
                </a:solidFill>
                <a:latin typeface="Georgia"/>
              </a:rPr>
              <a:t>«</a:t>
            </a:r>
            <a:r>
              <a:rPr b="1" lang="ru-RU" sz="3600" spc="-1" strike="noStrike">
                <a:solidFill>
                  <a:srgbClr val="d16349"/>
                </a:solidFill>
                <a:latin typeface="Georgia"/>
              </a:rPr>
              <a:t>Природа Херсонської області та її охорона</a:t>
            </a:r>
            <a:r>
              <a:rPr b="1" lang="uk-UA" sz="3600" spc="-1" strike="noStrike">
                <a:solidFill>
                  <a:srgbClr val="d16349"/>
                </a:solidFill>
                <a:latin typeface="Georgi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2"/>
          <a:stretch/>
        </p:blipFill>
        <p:spPr>
          <a:xfrm>
            <a:off x="414360" y="219240"/>
            <a:ext cx="21207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261960" y="436320"/>
            <a:ext cx="843444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d16349"/>
                </a:solidFill>
                <a:latin typeface="Georgia"/>
              </a:rPr>
              <a:t>Об’єктом</a:t>
            </a: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ивчення є природа Херсонської області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d16349"/>
                </a:solidFill>
                <a:latin typeface="Georgia"/>
              </a:rPr>
              <a:t>Предмет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ивчення є особливості використання та охорони компонент природи Херсонської області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6485040" y="40097160"/>
            <a:ext cx="2236680" cy="40161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" descr=""/>
          <p:cNvPicPr/>
          <p:nvPr/>
        </p:nvPicPr>
        <p:blipFill>
          <a:blip r:embed="rId2"/>
          <a:stretch/>
        </p:blipFill>
        <p:spPr>
          <a:xfrm>
            <a:off x="244440" y="1398600"/>
            <a:ext cx="278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14280" y="122400"/>
            <a:ext cx="1061712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d16349"/>
                </a:solidFill>
                <a:latin typeface="Georgia"/>
              </a:rPr>
              <a:t>Мета навчальної дисципліни: </a:t>
            </a: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ознайомлення та набуття знань щодо основних компонент природи Херсонської області та набуття практичних навичок щодо їх охорони та відновленн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d16349"/>
                </a:solidFill>
                <a:latin typeface="Georgia"/>
              </a:rPr>
              <a:t>Завдання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48c61"/>
                </a:solidFill>
                <a:latin typeface="Georgia"/>
              </a:rPr>
              <a:t>Теоретичні: </a:t>
            </a: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вивчити та закріпити знання про основні компоненти природи Херсонської області, сформувати уявлення про методи їх оцінки, ознайомлення із нормативно-правовою базою у сфері використання та раціонального використання ресурсів Херсонської області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48c61"/>
                </a:solidFill>
                <a:latin typeface="Georgia"/>
              </a:rPr>
              <a:t>Практичні: </a:t>
            </a: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навчитись аналізувати та оцінювати стан компонент природи, прогнозувати їх зміни під дією різних природних та антропогенних місцевих факторів, запроваджувати заходи з охорони та відновленн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-360" y="326520"/>
            <a:ext cx="1192860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d16349"/>
                </a:solidFill>
                <a:latin typeface="Georgia"/>
              </a:rPr>
              <a:t>Програмні компетентності та програмні результати, що забезпечуються компонентом освітньої програми з курсу</a:t>
            </a:r>
            <a:br>
              <a:rPr sz="2600"/>
            </a:b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26600" y="1514520"/>
            <a:ext cx="1148724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35e40"/>
                </a:solidFill>
                <a:latin typeface="Georgia"/>
              </a:rPr>
              <a:t>Фахові компетентності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датність до використання основних принципів та складових екологічного управлінн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48c61"/>
                </a:solidFill>
                <a:latin typeface="Georgia"/>
              </a:rPr>
              <a:t>Програмні результати навчанн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емонструвати розуміння основних принципів управління природоохоронними діями та/або екологічними проект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Розв'язувати проблеми у  сфері захисту навколишнього середовища  із застосуванням загальноприйнятих та/або стандартних підходів та міжнародного і вітчизняного досвід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Брати участь у розробці та реалізації проектів, направлених на оптимальне управління та поводження з виробничими та муніципальними відход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48c61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5320" y="1555920"/>
            <a:ext cx="117219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d16349"/>
                </a:solidFill>
                <a:latin typeface="Georgia"/>
              </a:rPr>
              <a:t>Головні компоненти природи Херсонської області та шляхи їх охорон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Географічне положення  та фізико – географічне районування Херсонської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Історія вивчення природи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Геологічна історія і геологічна будова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Рельєф Херсонської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Корисні копалини Херсонської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Клімат та кліматичні зміни в степовій Херсонщині. Політика та заходи у сфері скорочення антропогенних викидів у атмосферне повітря та адаптації до зміни клімат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оря і берегова смуга області та їх екологічний стан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оди суходолу – поверхневі і підземні області: сучасна якість, заходи із покращення стану водних ресурсі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Ґрунтовий покрив Херсонської області, продуктивність та раціональне природокористуванн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Біологічне різноманіття (рослинний і тваринний світ): охорона, використання та відтворенн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риродно-заповідний фонд Херсонської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1T15:48:04Z</dcterms:created>
  <dc:creator>Дмитрий Зинченко</dc:creator>
  <dc:description/>
  <dc:language>en-US</dc:language>
  <cp:lastModifiedBy>11</cp:lastModifiedBy>
  <dcterms:modified xsi:type="dcterms:W3CDTF">2020-07-29T17:20:49Z</dcterms:modified>
  <cp:revision>42</cp:revision>
  <dc:subject/>
  <dc:title>ХЕРСОНСЬКИЙ ДЕРЖАВНИЙ УНІВЕРСИТЕТ</dc:title>
</cp:coreProperties>
</file>