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6F62-D7BB-4307-9DB9-B8A52832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99CC-666A-43F7-92F5-BE257B4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1C346D-A13E-4E39-974B-C2684D7E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BFBDB-D6DE-464E-8A5C-EB44E077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370423-9D1E-4E70-B47E-F5F11DF0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0E33FF-FB6B-4723-BB25-21A2628A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811CA-5D5A-431F-A7A1-E21AF3E4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75AF30-99E9-42E1-A8D4-FE823F6F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0171F-5D92-465E-9582-A01357CC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43B4E-D543-46FF-99FF-48A5AAAB1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B7CD1-D020-4138-AC4A-B6C6C178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83812D-B6BD-48A8-A445-092FB5E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11B1-7099-4420-B7D6-FB6F858B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9F283F-691A-42EB-9054-87B7D3DC0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757FB9-86CA-4630-8308-0456BA2AE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DC2AA5-492B-4F7E-B7D4-586925E2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FA75C-5538-4679-8048-9732EA07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62851-7F4F-4376-9916-731B84BD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A293BA-BF08-4971-9FE6-070017B8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12CAD9-841B-4C32-B53A-EEF976C1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4E73E3-C007-4A68-9539-4FF9C35F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C91CAE-7ECB-4D26-ABA7-122001C0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C57C86-46CC-4746-B646-EB4DF04D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2AA-7445-49FA-90FE-69C544BF4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F30760-AFC7-4A74-AEBF-F03D9A45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18483-AE58-464D-912D-38E2BF7F6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5119F8-A2AD-4AAE-A0D3-FE32E439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E497B-60D5-40AE-9EFC-C1D5E7E7D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6F8020-832F-4B1A-A3E7-A317B304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43E7F-F24A-4AEB-BB8C-4BB354C68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F879A-90CB-47EA-8B31-178C7C7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3ECB0-1D63-4E15-8FA6-184872FE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63D92E-DDA0-4C61-9558-E56C0388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05592-8EF3-46AF-B3A7-0B1C07F9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032C-920D-41BA-B7E0-037026196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BEFD67-0810-46F6-9634-44105D0EA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F41C4C-0998-4021-BE18-0CCC1536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32478-D8F6-4836-815A-8E37DBA8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3E9979-A921-4EF2-B18F-2984B9B1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5B6061-A72D-4E88-AA84-DD27CB508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B923C-5B15-4433-9BB0-4CA78CE0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62B0E2-5AF1-4B4A-B0E1-A97910EE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9C5C4-F667-4CA5-9154-A5B8781A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62CF2-7BD2-4B32-AAEE-BBB49E1A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98E694-4273-477A-AC45-C78F6ED6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9798-52B4-4B22-8317-70A205C6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95DE42-C416-42E8-AAA1-B37E0008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C6006-101A-47D0-9550-2273AAC97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E7EEAC-9A3B-4084-A782-6171DF94C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C85020-9CD7-4E9C-98C4-6503AD5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D3DE8-424E-43AC-9438-714D1C8B9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2EE7-44FF-4710-91A9-AEDF6D95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24BC-1D44-4068-8ADD-8B6FE6C2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C65C-6EBA-4854-91F9-81B78EAA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7E38-AFD4-4F5F-A69B-F146730E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C00B8-1423-4298-B24B-E5CDD4AE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9EF2-859D-4A58-9F9D-6FA19191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192E-D5AB-4F2D-9850-3EEE0E61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A565-EC74-4635-BD92-5B5A0E4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D692-866A-458A-8BA9-EB1C4CF7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4EFF-F4AB-4619-84DF-D57C05251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4929-5DD2-4062-A148-7529156F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98891-63A7-4182-A17A-94277624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019AE-883A-4827-A84C-0484F5288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22422-2BA9-4FB8-A8B2-14F1FA394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773F4-BA77-4BD4-B5DE-3D5F97B14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920E-B445-494C-A913-169AD6B2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432-DB72-477C-9F0B-1F9D825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5E819-88F2-4DB4-88CA-DEFC7CB9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B26C3-9B7E-443C-ACEB-1BC90A41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8858D-130E-412B-9C00-8B469F41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1E99-11C3-4D1F-AC9C-3AED0AF4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5A71C-DA7D-4C7E-9EDF-8B12AA17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B9EC-79B9-456D-855E-942A2FB9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EF78-F1C3-463F-B700-44D0FF63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0E437-F624-453C-9DD8-D7986AD9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9F4E-8699-441A-B8A7-2B38681B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5B333-774F-4F97-A777-2FF594D0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EF4-A7A3-45B3-9995-E68465BD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112CA-BE31-45F2-BEED-900DCE7A3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77DDC-BFAC-4CFF-9187-ED32420B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84AA3-CCD8-4EA0-99AB-B1F8857D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D823-D495-45B7-8D56-68E2A01A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2E762-5CBB-4C9A-9FE6-275F1BA2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B225F-FF18-4F7D-B3BD-1DB8939B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37517-E5FE-469E-825C-FC9D203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1F7C-E567-402A-8B6D-AD78380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1AADE-90EA-40EA-ACAB-32E321F5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37E22-E91E-4E0A-9D79-0C45829EC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7EAC-1935-4FD7-8345-5C7E1C63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5CB79-CD97-4CAB-ADE1-4D4704C6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9031D-B1C4-4CD5-B8BE-C2D52C8B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ADCB-5E53-466F-9F29-BEC18C60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20DB7-592A-42F5-AB6D-19F11941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37B73-3C79-47E2-B74D-3698FEA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2F12D-8021-44C1-9F4A-B2E6F4C5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3D7F5-927B-4D97-8F81-4DFEF223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B998F-0399-482F-AE74-2D777514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7C61E-C704-4D88-8C7F-021370A0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CF1EF-CA92-49F0-9AD9-19860434E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883B-680D-4D0D-8A62-B6B0A75B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9A171-E9F9-49CC-9402-4B8636DB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A80AB-B39B-464A-8F98-AEC6F4E3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B8D35-AFB4-46E4-B1C8-DF8DE7F6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5B801-4B8B-47B9-9FFD-FA17B20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5070-A79F-4325-BB89-7A9A230E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FDD1A-F2E4-48D6-B9B5-359EBA0E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32B3E-8C2A-4739-BA7D-83E72968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FCA4-4A7D-4E05-9E4D-C6D78949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EE495-6C73-482A-880D-C104C77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2E610-1C88-4B3B-BE7D-B8230E7D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064-1917-4EE5-866E-DB56518A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AAA3-A2EC-496E-B757-34D96A73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DDCC-5FDE-4B9C-9261-DFFDCF54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4FEC-6164-4DA1-A0DF-276C0F731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660BF-10CF-49B6-8167-40127B174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4E23FC-1993-4B70-A855-5F020A5BC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0CECA-BE67-4EDC-87E5-81109462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C135-D014-40DF-9867-C07676BC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97DE59-763F-41EF-9880-9F770F54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5AACB-3A9C-4FB0-B9A4-352B7FD8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FA0EFD-0B61-46B9-A4B7-9195C728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B52C-3970-4538-940F-43EA2F7F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4D4AA1-3CCF-49A3-838C-E3C838D1D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C9D88-4CB0-4193-AB07-F31D4689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F67AD-9179-459B-AA1E-280C83AC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D0B9A9-A8CF-4325-944D-D01A55627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C9552-2EC4-44DA-969E-8108D1ADE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7F2E4-D33D-4B67-84EE-36FAE70B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D7B6B-66DE-4713-8DE1-14BCBACE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DBC31-989B-4962-B1F1-D027D38E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83106-F218-4512-B9DC-B2227264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679BA-90BE-4559-A38D-D1175DF2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1067-4FB8-464F-90B7-474966E0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76772-6D55-4626-A623-0D2FE843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E858A-5902-4AF8-A56C-60913F9B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0AE4B-BECD-49F8-A209-86C12147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773F8-1F6B-406C-AA1C-42619B6B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A285B-00FF-4AD7-A2D6-4639E39F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FD2C7-F1B8-4061-84AE-152B50D6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162A3-3166-4A65-A0ED-B7486AB77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192296-8C48-4D2B-A89D-A70581D4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FFEEA4-CFB0-4570-ACFE-9441F6BD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B6CF25-9135-426B-99D9-8A55BD17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7C6E6-88E1-4AE6-8872-2E0F474A5BA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4DCF-A6EC-439C-AE42-5D95CCC11FD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97EF-2054-4E50-BA52-B45EEDAECC3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545C-11EB-40F4-8C81-0AB3CC64654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C74-D7B4-432F-8FF0-73108A82DCB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35E2-6759-4EF6-883E-19EF7DE66C0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6EA2-4F39-4109-9E89-78F115BE533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F81-E227-4813-A27B-18407AE3FA5A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F994-02F5-4857-8EE9-A424EB28249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5C5D-7B64-445D-B978-86B097C49C1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D5A-F1D1-4CE8-926E-8F18D24D9232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1944-CBFD-440C-908D-40E8DC6C287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75720" y="219240"/>
            <a:ext cx="2140200" cy="217152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584360" y="2962440"/>
            <a:ext cx="92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«</a:t>
            </a:r>
            <a:r>
              <a:rPr b="1" lang="ru-RU" sz="3600" spc="-1" strike="noStrike">
                <a:solidFill>
                  <a:srgbClr val="d16349"/>
                </a:solidFill>
                <a:latin typeface="Georgia"/>
              </a:rPr>
              <a:t>Природа Херсонської області та її охорона</a:t>
            </a:r>
            <a:r>
              <a:rPr b="1" lang="uk-UA" sz="3600" spc="-1" strike="noStrike">
                <a:solidFill>
                  <a:srgbClr val="d16349"/>
                </a:solidFill>
                <a:latin typeface="Georgi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2"/>
          <a:stretch/>
        </p:blipFill>
        <p:spPr>
          <a:xfrm>
            <a:off x="414360" y="219240"/>
            <a:ext cx="21207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261960" y="436320"/>
            <a:ext cx="8434440" cy="551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d16349"/>
                </a:solidFill>
                <a:latin typeface="Georgia"/>
              </a:rPr>
              <a:t>Об’єктом</a:t>
            </a:r>
            <a:r>
              <a:rPr b="1" lang="uk-UA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вчення є природа Херсонської області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d16349"/>
                </a:solidFill>
                <a:latin typeface="Georgia"/>
              </a:rPr>
              <a:t>Предмето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Georgia"/>
              </a:rPr>
              <a:t>вивчення є особливості використання та охорони компонент природи Херсонської області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1"/>
          <a:stretch/>
        </p:blipFill>
        <p:spPr>
          <a:xfrm>
            <a:off x="6485040" y="40097160"/>
            <a:ext cx="2236680" cy="401616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5" descr=""/>
          <p:cNvPicPr/>
          <p:nvPr/>
        </p:nvPicPr>
        <p:blipFill>
          <a:blip r:embed="rId2"/>
          <a:stretch/>
        </p:blipFill>
        <p:spPr>
          <a:xfrm>
            <a:off x="244440" y="1398600"/>
            <a:ext cx="2787840" cy="50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314280" y="122400"/>
            <a:ext cx="10617120" cy="582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Мета навчальної дисципліни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ознайомлення та набуття знань щодо основних компонент природи Херсонської області та набуття практичних навичок щодо їх охорони та відновленн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Завдання: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48c61"/>
                </a:solidFill>
                <a:latin typeface="Georgia"/>
              </a:rPr>
              <a:t>Теоретичні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вивчити та закріпити знання про основні компоненти природи Херсонської області, сформувати уявлення про методи їх оцінки, ознайомлення із нормативно-правовою базою у сфері використання та раціонального використання ресурсів Херсонської області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buClr>
                <a:srgbClr val="d1634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48c61"/>
                </a:solidFill>
                <a:latin typeface="Georgia"/>
              </a:rPr>
              <a:t>Практичні: </a:t>
            </a:r>
            <a:r>
              <a:rPr b="0" lang="uk-UA" sz="2200" spc="-1" strike="noStrike">
                <a:solidFill>
                  <a:srgbClr val="000000"/>
                </a:solidFill>
                <a:latin typeface="Georgia"/>
              </a:rPr>
              <a:t>навчитись аналізувати та оцінювати стан компонент природи, прогнозувати їх зміни під дією різних природних та антропогенних місцевих факторів, запроваджувати заходи з охорони та відновленн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-360" y="326520"/>
            <a:ext cx="11928600" cy="107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d16349"/>
                </a:solidFill>
                <a:latin typeface="Georgia"/>
              </a:rPr>
              <a:t>Програмні компетентності та програмні результати, що забезпечуються компонентом освітньої програми з курсу</a:t>
            </a:r>
            <a:br>
              <a:rPr sz="2600"/>
            </a:br>
            <a:endParaRPr b="0" lang="en-US" sz="2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26600" y="1514520"/>
            <a:ext cx="11487240" cy="47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435e40"/>
                </a:solidFill>
                <a:latin typeface="Georgia"/>
              </a:rPr>
              <a:t>Фахові компетентності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Здатність до використання основних принципів та складових екологічного управлінн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48c61"/>
                </a:solidFill>
                <a:latin typeface="Georgia"/>
              </a:rPr>
              <a:t>Програмні результати навчання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Демонструвати розуміння основних принципів управління природоохоронними діями та/або екологічними проект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озв'язувати проблеми у  сфері захисту навколишнього середовища  із застосуванням загальноприйнятих та/або стандартних підходів та міжнародного і вітчизняного досвіду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Брати участь у розробці та реалізації проектів, направлених на оптимальне управління та поводження з виробничими та муніципальними відход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648c61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55320" y="1555920"/>
            <a:ext cx="11721960" cy="50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16349"/>
                </a:solidFill>
                <a:latin typeface="Georgia"/>
              </a:rPr>
              <a:t>Головні компоненти природи Херсонської області та шляхи їх охорон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Географічне положення  та фізико – географічне районування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Історія вивчення природи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Геологічна історія і геологічна будова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Рельєф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Корисні копалини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Клімат та кліматичні зміни в степовій Херсонщині. Політика та заходи у сфері скорочення антропогенних викидів у атмосферне повітря та адаптації до зміни клімат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Моря і берегова смуга області та їх екологічний стан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Води суходолу – поверхневі і підземні області: сучасна якість, заходи із покращення стану водних ресурсів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Ґрунтовий покрив Херсонської області, продуктивність та раціональне природокористуван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Біологічне різноманіття (рослинний і тваринний світ): охорона, використання та відтворення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Georgia"/>
              </a:rPr>
              <a:t>Природно-заповідний фонд Херсонської обла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1</cp:lastModifiedBy>
  <dcterms:modified xsi:type="dcterms:W3CDTF">2020-07-29T17:20:49Z</dcterms:modified>
  <cp:revision>42</cp:revision>
  <dc:subject/>
  <dc:title>ХЕРСОНСЬКИЙ ДЕРЖАВНИЙ УНІВЕРСИТЕТ</dc:title>
</cp:coreProperties>
</file>