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165B0-B0FA-4E18-9231-78E48F238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0DAC2-ACA4-42A9-9714-144CE9D27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E21F63C-E456-4EFA-B029-44ED9A3F950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8E41095C-C753-4ACB-81FC-EA7B323A93F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4959585-3F20-4986-96AD-39905421C3D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33A2CE1-4FD2-42B6-A2C1-B893A609A6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AB0888F-4721-4AD6-8CAE-E439FCDAB12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414939A-EA66-4850-8F2B-127A22C4C99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30093C8-924C-4197-9D9A-A40E6240BC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80FD5363-FB46-45DA-A673-B7B7FBC4019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45C076B-A964-44E9-92DE-ABCC1094E83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F3E7167-0A77-49C7-87F8-CB43045B180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64A09-3468-4242-A921-9E993DAB3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9963384-13A5-4A78-91AF-044E3CB683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43AD14C-0EB0-4EEB-8847-76509572BD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B2ECAE2-7088-4E93-A3AB-71967077B8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17165E2-129E-4B66-9DF8-93C633DD89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757C50A-30D5-46B8-B716-B4518A395F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7CB3F5D-5785-4449-A22A-ABF1F13EF2B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43AB1B5-0D1A-4903-A45C-01BC038160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DE60926-E46B-4383-9AEC-9C6E99943D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D0A10DC-E79D-49AD-8441-45FC43EFF5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0BDD32F-8AE4-425D-962B-19BE62C0BD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946BF-FC17-47AC-8E3E-01B6A3697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9B4A20D-4935-4AB0-800F-7AA1BF60A88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F9C348-C40A-4B61-B64A-CE432A7B8C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7A85589-240B-40D6-ADBE-12670F4D6B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14A6F08-2111-4F86-86DD-CA8D784558B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A186D67-C135-4B02-B867-D3B30840704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F89765-488F-4ECA-A56A-599DA8EB57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CF75C4-FFF3-4335-8028-929DAD2899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638804-7799-4EBC-93A7-28DB330B14A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0705565-3137-4D9C-AEDE-86A70031AE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0AA9E6E-4B89-413C-8FDB-0BDBC69466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DC973B-85DB-48B6-853C-0EF281A9C4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20B5248-AFE7-452B-94D2-E9D701B473B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2A51200-95E7-46A8-BCDE-29CF08B3B3A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7E7278-E1E4-4A6A-9B83-86431EC0ED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F78244A6-FB40-4E6C-8B86-779221BE3F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964B4F3-2C28-400A-89A0-09D8F813B7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914C3B66-000D-47FD-8288-B7540D2E19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1FD9561-2472-4941-AC2A-13FEC67B07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7E0981F-71CF-4ECD-9DFC-DD89CA2619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B4B2F1CF-A4DF-4DD8-9C05-D6719E72E9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730EF4A-A4BC-4171-B998-35D4772973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1EFF0-0014-4275-AE49-3BFC9B902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4491982-9FAB-4335-A0B7-0C06BE0708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F3FAC92-79AE-4773-86D4-D239CEE432E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4B776A8-8E8A-4C2F-B64B-4D7966D5C4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7006374-60FA-4659-ADD4-45F463D243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9162556-D4DA-4848-8D5F-BFA1BC2C73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8C7AB-EDB8-4F31-A589-9FEB4F88C0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83F18-395C-4FFC-BDB3-7E9919983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F4426-8A14-4F4E-ADFF-461D187E8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7C665-E699-4B0D-BC82-2E2A33E172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7954BA-8C41-44DC-8DF5-A15E94BF4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3BA54-7A39-4F1B-87A7-4B5EF4124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3E2C5-F1D0-4F3B-B396-312BC8870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3D9F7-9734-4F7C-8B42-D43AAAAD1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B33DE-43ED-4342-B7DD-CA6959B97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32E6FC-5B8D-46BE-9685-D749882B8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C58D49-2389-4428-8B4D-B357BD7078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B54571E-39BE-4028-A7AB-30AD05AEE1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667A14-7C8F-4F7F-B094-2DF500CB99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19D65-5EFB-4247-A8F8-5ED9130D6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0DB696-1415-40D7-9091-3B0E86473D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5EFD9-0710-453B-8077-A94EB5C3F0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44500-9F40-49B8-A068-E2FF89518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A39171-9329-443D-A040-0FDB85082D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5088A-B9B7-4932-9E0B-A26F2190E1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83D4AC-FC94-49CB-B99D-575FED2A0B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63D84-47B0-463F-88FC-BBCF34194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86548E-9BEF-404C-BEC6-0466D2AB65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743517-699C-4C14-A8D4-C8A1289C8F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6D7C7A-8B6F-4572-AA1E-C597B1509A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9A330F16-A89E-452B-A567-7476A87519D9}"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39DC409-B1E2-44E2-86AF-02357848D7D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4065343-642F-4FAE-B282-104094F4AE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6FD26-04B6-4A95-A8DE-300CDC68A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D12C9FD-61BB-4A6C-AF87-3B5A23B4864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E2FA7DEB-6100-4614-B74E-352D10DAABC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4043649-6F25-4274-9E98-E5696117D7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72CB9C3-356A-41A1-A788-D7BB96454E0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857BF3A-05A8-4DCD-B1C9-29B12FC9E00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CF4104-AECD-42C3-837A-08A71BB7520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6D7FE07-EB87-4046-90AD-12AB010919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A837B32-4F7D-4B2A-958A-EA0543B8EA4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B6A6B8E-DBFE-41CC-9E8D-3D4A0F1D10B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5B3D79-2A12-4E5E-98A4-4844E0D372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980ED-1E12-484A-B607-40DA2697C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DF5939-FBE2-44B2-B04A-2508F73B4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CB1482-A16A-47B8-BE99-4E7DCF00BD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03CDF-CE5C-42B9-81C2-099D09507A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C9EB93-E7F6-444D-ACB0-5B12B5F19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FAEACF-09B6-497F-A18E-A725F2DEB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700D23-C1AF-4808-AC9A-EA816B1736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E1615C-8DB4-45FE-9F31-C8B476995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69B4B-E635-4CC2-A135-5D0B8A9498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825B8E-A6B4-4F63-98E9-B5F4A08D00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81D17F-8C53-4C99-8293-E84C8F7DC8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8071-E538-44DB-A793-27CB247E6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0C14CF-5619-49C4-A0F8-C0C5A70888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4E8EE4-4222-43A0-BC98-D2EC1FB9CA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E5DAF2-F807-4EB5-8AA3-71E022F4C6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C4D600-1B5D-408B-8A4B-D5F43405A8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0A9377-BBE0-411E-BE18-68F04FAD51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164C4E-0F82-43D9-BC38-A72AA73100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8AEEC7-9748-433C-A668-FCB0EC369F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66A1D7-2B5A-4A97-92CA-7CB5F3BAB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AD35F9-D296-4FE5-A1B4-767BD55220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D26F57-D5E3-44B9-BEA2-7DBAF6D00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B93CF-5E8F-47DC-83FF-A7D2438D9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C06BE1-A9F3-4E5B-8975-67F571D3B0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156589B-EA12-458A-8C20-61A77E9B6B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CB9645-514A-42A1-B4B6-16EAAC8B82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0153CC-1EB7-4207-8455-903773C131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D9B82F-F396-4001-AEB6-2AF612B76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768DDF-A76C-40BB-BA4D-3F9D98A291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D4F8C7-085A-48E8-A972-A47BC91DC8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F94DAC-E0B1-410A-938B-C156FF6D35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AC961C-09D7-49A8-B719-8A94B17617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AF390E-50C9-4AAA-993A-B8EB08BCF4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E81E2-D548-4649-82A4-9A600E122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ADA57B-80A8-4F78-889A-B14FACFA19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52B0B6-57E9-4D16-A48E-A623B4048D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9D40AFE-F267-4717-B33B-4698B60F3D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FDB25E-A3AD-4C17-82CC-79B66A69C5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C2F8CB-C4B8-41C0-8F84-1B9AD2CA35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DBD810-1F61-47E7-8582-5D5356D57B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B679C0-1834-43ED-A3E5-22EDC9B3FD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DE4E5F-605C-4347-B202-A6683857FE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791812-7B08-4FE0-9D70-904B4698BB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3F9F64-FD93-4086-910C-7451BF7E77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D4A4D-F397-41A8-B6A9-2DDCFC275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01400" y="228600"/>
            <a:ext cx="1137924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9AF73D-B49C-400D-85D9-128F04BAA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623232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09271D-472F-4522-B4D9-AF80B2B825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401400" y="1523520"/>
            <a:ext cx="555300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FBCF7C-9CDC-430B-B22D-F7B96FE4D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963189-1D21-4467-B9A1-FEC33BD1B9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401400" y="152352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01400" y="3925800"/>
            <a:ext cx="113792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1E7FF7-F410-442C-8A6F-7F4469F223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40140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6232320" y="152352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40140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6232320" y="3925800"/>
            <a:ext cx="555300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344437-71EF-48DB-A138-F6E957A124F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40140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424872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8096040" y="152352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40140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424872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8096040" y="3925800"/>
            <a:ext cx="36637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618B5A-5CD5-4917-BEEC-51B9DE2B69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78B55694-816D-4478-9425-EBF2B437411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401400" y="1523520"/>
            <a:ext cx="1137924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3FC45AC-9A6C-41D1-B6E9-3AB5F6C2F5F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401400" y="1523520"/>
            <a:ext cx="113792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7C95673-3BC6-4CB1-9243-CE097155A4E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5790960" y="103968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CEA8-8E0D-4CD4-BFF5-557391054FF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Прямая соединительная линия 15"/>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Прямоугольник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Прямоугольник 21"/>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Прямоугольник 23"/>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Прямоугольник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Прямоугольник 20"/>
          <p:cNvSpPr/>
          <p:nvPr/>
        </p:nvSpPr>
        <p:spPr>
          <a:xfrm>
            <a:off x="203040" y="152280"/>
            <a:ext cx="117777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Прямоугольник 21"/>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Прямоугольник 23"/>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Овал 24"/>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Овал 25"/>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Прямоугольник 26"/>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828440" y="31284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F76A6-0DA8-49E7-B95B-00EBCD72331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7716960" y="6405480"/>
            <a:ext cx="406080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401400" y="6409800"/>
            <a:ext cx="47797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5790960" y="103968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AC21-18A1-420E-B757-6BDCC2EFBBD3}"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Прямоугольник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Прямоугольник 20"/>
          <p:cNvSpPr/>
          <p:nvPr/>
        </p:nvSpPr>
        <p:spPr>
          <a:xfrm>
            <a:off x="9347040" y="0"/>
            <a:ext cx="28450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Прямоугольник 21"/>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Прямоугольник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Прямоугольник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Прямоугольник 20"/>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Прямая соединительная линия 21"/>
          <p:cNvSpPr/>
          <p:nvPr/>
        </p:nvSpPr>
        <p:spPr>
          <a:xfrm>
            <a:off x="952668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Овал 23"/>
          <p:cNvSpPr/>
          <p:nvPr/>
        </p:nvSpPr>
        <p:spPr>
          <a:xfrm>
            <a:off x="9120240" y="292572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Овал 24"/>
          <p:cNvSpPr/>
          <p:nvPr/>
        </p:nvSpPr>
        <p:spPr>
          <a:xfrm>
            <a:off x="9245520" y="3021120"/>
            <a:ext cx="56052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9221400" y="300996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FDB16-BE75-4D06-A21B-B28AC1790661}"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Прямоугольник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оугольник 20"/>
          <p:cNvSpPr/>
          <p:nvPr/>
        </p:nvSpPr>
        <p:spPr>
          <a:xfrm>
            <a:off x="11988720" y="324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Прямоугольник 21"/>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Прямоугольник 23"/>
          <p:cNvSpPr/>
          <p:nvPr/>
        </p:nvSpPr>
        <p:spPr>
          <a:xfrm>
            <a:off x="0" y="0"/>
            <a:ext cx="1219212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Прямая соединительная линия 20"/>
          <p:cNvSpPr/>
          <p:nvPr/>
        </p:nvSpPr>
        <p:spPr>
          <a:xfrm>
            <a:off x="208080" y="2419200"/>
            <a:ext cx="11775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Прямоугольник 21"/>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Овал 23"/>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4"/>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5790960" y="219852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22B7-2DE8-48FF-9028-5B8E0D28E4D2}"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5814720" y="102708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DC109-5413-42E4-BE53-FFE787A95FE0}"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Прямоугольник 19"/>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ик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21"/>
          <p:cNvSpPr/>
          <p:nvPr/>
        </p:nvSpPr>
        <p:spPr>
          <a:xfrm>
            <a:off x="0" y="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23"/>
          <p:cNvSpPr/>
          <p:nvPr/>
        </p:nvSpPr>
        <p:spPr>
          <a:xfrm>
            <a:off x="11988720" y="1908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24"/>
          <p:cNvSpPr/>
          <p:nvPr/>
        </p:nvSpPr>
        <p:spPr>
          <a:xfrm>
            <a:off x="203040" y="2286000"/>
            <a:ext cx="117777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оугольник 25"/>
          <p:cNvSpPr/>
          <p:nvPr/>
        </p:nvSpPr>
        <p:spPr>
          <a:xfrm>
            <a:off x="208080" y="142920"/>
            <a:ext cx="11775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Прямоугольник 21"/>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Прямоугольник 23"/>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Прямая соединительная линия 24"/>
          <p:cNvSpPr/>
          <p:nvPr/>
        </p:nvSpPr>
        <p:spPr>
          <a:xfrm>
            <a:off x="203040" y="243828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Овал 25"/>
          <p:cNvSpPr/>
          <p:nvPr/>
        </p:nvSpPr>
        <p:spPr>
          <a:xfrm>
            <a:off x="5689440" y="211464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Овал 26"/>
          <p:cNvSpPr/>
          <p:nvPr/>
        </p:nvSpPr>
        <p:spPr>
          <a:xfrm>
            <a:off x="5815080" y="220968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5790960" y="219852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6B90-67EF-4907-A080-F132065FF7AE}"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Прямая соединительная линия 19"/>
          <p:cNvSpPr/>
          <p:nvPr/>
        </p:nvSpPr>
        <p:spPr>
          <a:xfrm flipV="1">
            <a:off x="6084720" y="1576080"/>
            <a:ext cx="111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7721640" y="6409800"/>
            <a:ext cx="405936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5790960" y="103968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961E-8A8F-4C03-AA4A-7945F57A3D1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Прямая соединительная линия 19"/>
          <p:cNvSpPr/>
          <p:nvPr/>
        </p:nvSpPr>
        <p:spPr>
          <a:xfrm flipV="1">
            <a:off x="609588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Прямоугольник 20"/>
          <p:cNvSpPr/>
          <p:nvPr/>
        </p:nvSpPr>
        <p:spPr>
          <a:xfrm>
            <a:off x="0" y="0"/>
            <a:ext cx="1219212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Прямоугольник 21"/>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Прямоугольник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Прямоугольник 24"/>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Прямоугольник 20"/>
          <p:cNvSpPr/>
          <p:nvPr/>
        </p:nvSpPr>
        <p:spPr>
          <a:xfrm>
            <a:off x="203040" y="1371600"/>
            <a:ext cx="117777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Прямоугольник 21"/>
          <p:cNvSpPr/>
          <p:nvPr/>
        </p:nvSpPr>
        <p:spPr>
          <a:xfrm>
            <a:off x="195120" y="6391440"/>
            <a:ext cx="1177632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23"/>
          <p:cNvSpPr/>
          <p:nvPr/>
        </p:nvSpPr>
        <p:spPr>
          <a:xfrm>
            <a:off x="203040" y="127944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Прямоугольник 24"/>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Овал 25"/>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Овал 26"/>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406440" y="6409800"/>
            <a:ext cx="477504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5790960" y="104292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0500-BAD3-4E0E-943E-91DDA483B7AB}"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Прямоугольник 16"/>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Прямоугольник 15"/>
          <p:cNvSpPr/>
          <p:nvPr/>
        </p:nvSpPr>
        <p:spPr>
          <a:xfrm>
            <a:off x="0" y="0"/>
            <a:ext cx="1219212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7"/>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8"/>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Прямоугольник 8"/>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Прямоугольник 7"/>
          <p:cNvSpPr/>
          <p:nvPr/>
        </p:nvSpPr>
        <p:spPr>
          <a:xfrm>
            <a:off x="203040" y="15552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Прямая соединительная линия 9"/>
          <p:cNvSpPr/>
          <p:nvPr/>
        </p:nvSpPr>
        <p:spPr>
          <a:xfrm>
            <a:off x="203040" y="1276200"/>
            <a:ext cx="117777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Овал 11"/>
          <p:cNvSpPr/>
          <p:nvPr/>
        </p:nvSpPr>
        <p:spPr>
          <a:xfrm>
            <a:off x="5689440" y="9558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Овал 14"/>
          <p:cNvSpPr/>
          <p:nvPr/>
        </p:nvSpPr>
        <p:spPr>
          <a:xfrm>
            <a:off x="5815080" y="1050840"/>
            <a:ext cx="56196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5790960" y="1036440"/>
            <a:ext cx="60948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732C-4BD0-4131-9002-DF1BF1380165}"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Прямоугольник 19"/>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Прямоугольник 20"/>
          <p:cNvSpPr/>
          <p:nvPr/>
        </p:nvSpPr>
        <p:spPr>
          <a:xfrm>
            <a:off x="0" y="0"/>
            <a:ext cx="1219212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Прямоугольник 21"/>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Прямоугольник 23"/>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Прямоугольник 19"/>
          <p:cNvSpPr/>
          <p:nvPr/>
        </p:nvSpPr>
        <p:spPr>
          <a:xfrm>
            <a:off x="195120" y="6391440"/>
            <a:ext cx="1177776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Прямоугольник 20"/>
          <p:cNvSpPr/>
          <p:nvPr/>
        </p:nvSpPr>
        <p:spPr>
          <a:xfrm>
            <a:off x="203040" y="15876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406440" y="6409800"/>
            <a:ext cx="477504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5689440" y="6324480"/>
            <a:ext cx="8128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6442-59F3-4B74-A505-057730D7B43D}" type="slidenum">
              <a:rPr b="0" lang="ru-R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Прямоугольник 15"/>
          <p:cNvSpPr/>
          <p:nvPr/>
        </p:nvSpPr>
        <p:spPr>
          <a:xfrm>
            <a:off x="203040" y="152280"/>
            <a:ext cx="117777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Прямоугольник 20"/>
          <p:cNvSpPr/>
          <p:nvPr/>
        </p:nvSpPr>
        <p:spPr>
          <a:xfrm>
            <a:off x="0" y="6705720"/>
            <a:ext cx="121921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Прямоугольник 21"/>
          <p:cNvSpPr/>
          <p:nvPr/>
        </p:nvSpPr>
        <p:spPr>
          <a:xfrm>
            <a:off x="11988720" y="0"/>
            <a:ext cx="2034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Прямоугольник 23"/>
          <p:cNvSpPr/>
          <p:nvPr/>
        </p:nvSpPr>
        <p:spPr>
          <a:xfrm>
            <a:off x="0" y="0"/>
            <a:ext cx="1219212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Прямоугольник 24"/>
          <p:cNvSpPr/>
          <p:nvPr/>
        </p:nvSpPr>
        <p:spPr>
          <a:xfrm>
            <a:off x="0" y="0"/>
            <a:ext cx="20304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Прямоугольник 20"/>
          <p:cNvSpPr/>
          <p:nvPr/>
        </p:nvSpPr>
        <p:spPr>
          <a:xfrm>
            <a:off x="203040" y="609480"/>
            <a:ext cx="36576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Прямоугольник 21"/>
          <p:cNvSpPr/>
          <p:nvPr/>
        </p:nvSpPr>
        <p:spPr>
          <a:xfrm>
            <a:off x="203040" y="152280"/>
            <a:ext cx="117777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Прямая соединительная линия 23"/>
          <p:cNvSpPr/>
          <p:nvPr/>
        </p:nvSpPr>
        <p:spPr>
          <a:xfrm>
            <a:off x="203040" y="533520"/>
            <a:ext cx="117777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Овал 24"/>
          <p:cNvSpPr/>
          <p:nvPr/>
        </p:nvSpPr>
        <p:spPr>
          <a:xfrm>
            <a:off x="1727280" y="228600"/>
            <a:ext cx="8128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Овал 25"/>
          <p:cNvSpPr/>
          <p:nvPr/>
        </p:nvSpPr>
        <p:spPr>
          <a:xfrm>
            <a:off x="1852560" y="324000"/>
            <a:ext cx="56196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Прямоугольник 26"/>
          <p:cNvSpPr/>
          <p:nvPr/>
        </p:nvSpPr>
        <p:spPr>
          <a:xfrm>
            <a:off x="198360" y="6388200"/>
            <a:ext cx="1177776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401400" y="228600"/>
            <a:ext cx="1137924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401400" y="1523520"/>
            <a:ext cx="1137924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828440" y="312840"/>
            <a:ext cx="60948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C0DF-F821-4D49-81AE-1B629A1D2919}" type="slidenum">
              <a:rPr b="0" lang="ru-R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7721640" y="6405480"/>
            <a:ext cx="405936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401760" y="6409800"/>
            <a:ext cx="4511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341000" y="1488960"/>
            <a:ext cx="9526680" cy="60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435e40"/>
                </a:solidFill>
                <a:latin typeface="Georgia"/>
              </a:rPr>
              <a:t>ХЕРСОНСЬКИЙ ДЕРЖАВНИЙ УНІВЕРСИТЕТ</a:t>
            </a:r>
            <a:br>
              <a:rPr sz="2400"/>
            </a:br>
            <a:r>
              <a:rPr b="0" i="1" lang="uk-UA" sz="2400" spc="-1" strike="noStrike">
                <a:solidFill>
                  <a:srgbClr val="435e40"/>
                </a:solidFill>
                <a:latin typeface="Georgia"/>
              </a:rPr>
              <a:t>Факультет біології, географії і екології</a:t>
            </a:r>
            <a:br>
              <a:rPr sz="2400"/>
            </a:br>
            <a:r>
              <a:rPr b="0" i="1" lang="uk-UA" sz="2400" spc="-1" strike="noStrike">
                <a:solidFill>
                  <a:srgbClr val="435e40"/>
                </a:solidFill>
                <a:latin typeface="Georgia"/>
              </a:rPr>
              <a:t>Кафедра географії та екології</a:t>
            </a:r>
            <a:br>
              <a:rPr sz="3600"/>
            </a:br>
            <a:endParaRPr b="0" lang="en-US" sz="2400" spc="-1" strike="noStrike">
              <a:solidFill>
                <a:srgbClr val="7b9899"/>
              </a:solidFill>
              <a:latin typeface="Georgia"/>
            </a:endParaRPr>
          </a:p>
        </p:txBody>
      </p:sp>
      <p:pic>
        <p:nvPicPr>
          <p:cNvPr id="607" name="Рисунок 5" descr=""/>
          <p:cNvPicPr/>
          <p:nvPr/>
        </p:nvPicPr>
        <p:blipFill>
          <a:blip r:embed="rId1"/>
          <a:stretch/>
        </p:blipFill>
        <p:spPr>
          <a:xfrm>
            <a:off x="9677520" y="219240"/>
            <a:ext cx="2097000" cy="2128680"/>
          </a:xfrm>
          <a:prstGeom prst="rect">
            <a:avLst/>
          </a:prstGeom>
          <a:ln w="0">
            <a:noFill/>
          </a:ln>
        </p:spPr>
      </p:pic>
      <p:sp>
        <p:nvSpPr>
          <p:cNvPr id="608" name="Прямоугольник 4"/>
          <p:cNvSpPr/>
          <p:nvPr/>
        </p:nvSpPr>
        <p:spPr>
          <a:xfrm>
            <a:off x="1584360" y="2743200"/>
            <a:ext cx="92836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d16349"/>
                </a:solidFill>
                <a:latin typeface="Georgia"/>
              </a:rPr>
              <a:t>Дисципліна вільного вибору</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600" spc="-1" strike="noStrike">
                <a:solidFill>
                  <a:srgbClr val="d16349"/>
                </a:solidFill>
                <a:latin typeface="Georgia"/>
              </a:rPr>
              <a:t> </a:t>
            </a:r>
            <a:r>
              <a:rPr b="1" lang="uk-UA" sz="3600" spc="-1" strike="noStrike">
                <a:solidFill>
                  <a:srgbClr val="d16349"/>
                </a:solidFill>
                <a:latin typeface="Georgia"/>
              </a:rPr>
              <a:t>«</a:t>
            </a:r>
            <a:r>
              <a:rPr b="1" lang="ru-RU" sz="3600" spc="-1" strike="noStrike">
                <a:solidFill>
                  <a:srgbClr val="d16349"/>
                </a:solidFill>
                <a:latin typeface="Georgia"/>
              </a:rPr>
              <a:t>Теорія і практика формування екологічної культури</a:t>
            </a:r>
            <a:r>
              <a:rPr b="1" lang="uk-UA" sz="3600" spc="-1" strike="noStrike">
                <a:solidFill>
                  <a:srgbClr val="d16349"/>
                </a:solidFill>
                <a:latin typeface="Georgia"/>
              </a:rPr>
              <a:t>»</a:t>
            </a:r>
            <a:endParaRPr b="0" lang="en-US" sz="3600" spc="-1" strike="noStrike">
              <a:solidFill>
                <a:srgbClr val="000000"/>
              </a:solidFill>
              <a:latin typeface="Arial"/>
            </a:endParaRPr>
          </a:p>
        </p:txBody>
      </p:sp>
      <p:pic>
        <p:nvPicPr>
          <p:cNvPr id="609" name="Picture 9" descr=""/>
          <p:cNvPicPr/>
          <p:nvPr/>
        </p:nvPicPr>
        <p:blipFill>
          <a:blip r:embed="rId2"/>
          <a:stretch/>
        </p:blipFill>
        <p:spPr>
          <a:xfrm>
            <a:off x="414360" y="219240"/>
            <a:ext cx="2120760" cy="212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599760" y="2098800"/>
            <a:ext cx="7070760" cy="3906720"/>
          </a:xfrm>
          <a:prstGeom prst="rect">
            <a:avLst/>
          </a:prstGeom>
          <a:noFill/>
          <a:ln w="0">
            <a:noFill/>
          </a:ln>
        </p:spPr>
        <p:txBody>
          <a:bodyPr anchor="t">
            <a:norm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d16349"/>
                </a:solidFill>
                <a:latin typeface="Georgia"/>
              </a:rPr>
              <a:t>      </a:t>
            </a:r>
            <a:r>
              <a:rPr b="1" i="1" lang="ru-RU" sz="2800" spc="-1" strike="noStrike">
                <a:solidFill>
                  <a:srgbClr val="d16349"/>
                </a:solidFill>
                <a:latin typeface="Georgia"/>
              </a:rPr>
              <a:t>Предметом</a:t>
            </a:r>
            <a:r>
              <a:rPr b="0" lang="ru-RU" sz="2800" spc="-1" strike="noStrike">
                <a:solidFill>
                  <a:srgbClr val="000000"/>
                </a:solidFill>
                <a:latin typeface="Georgia"/>
              </a:rPr>
              <a:t> </a:t>
            </a:r>
            <a:r>
              <a:rPr b="0" lang="uk-UA" sz="2800" spc="-1" strike="noStrike">
                <a:solidFill>
                  <a:srgbClr val="000000"/>
                </a:solidFill>
                <a:latin typeface="Georgia"/>
              </a:rPr>
              <a:t>вивчення є вплив людини на компоненти природи, особливості збереження культурного екологічного середовища,  екологічна освіта та мислення учнів тощо.</a:t>
            </a:r>
            <a:endParaRPr b="0" lang="en-US" sz="2800" spc="-1" strike="noStrike">
              <a:solidFill>
                <a:srgbClr val="000000"/>
              </a:solidFill>
              <a:latin typeface="Georgia"/>
            </a:endParaRPr>
          </a:p>
        </p:txBody>
      </p:sp>
      <p:pic>
        <p:nvPicPr>
          <p:cNvPr id="611" name="Picture 5" descr="http://pclub.dn.ua/wp-content/uploads/2017/12/%D0%B5%D0%BA%D0%BE.png"/>
          <p:cNvPicPr/>
          <p:nvPr/>
        </p:nvPicPr>
        <p:blipFill>
          <a:blip r:embed="rId1"/>
          <a:stretch/>
        </p:blipFill>
        <p:spPr>
          <a:xfrm>
            <a:off x="8058240" y="2098800"/>
            <a:ext cx="3438360" cy="3438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01400" y="228600"/>
            <a:ext cx="1137924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300" spc="-1" strike="noStrike">
                <a:solidFill>
                  <a:srgbClr val="d16349"/>
                </a:solidFill>
                <a:latin typeface="Georgia"/>
              </a:rPr>
              <a:t>Модель формування екологічної культури</a:t>
            </a:r>
            <a:endParaRPr b="0" lang="en-US" sz="3300" spc="-1" strike="noStrike">
              <a:solidFill>
                <a:srgbClr val="7b9899"/>
              </a:solidFill>
              <a:latin typeface="Georgia"/>
            </a:endParaRPr>
          </a:p>
        </p:txBody>
      </p:sp>
      <p:sp>
        <p:nvSpPr>
          <p:cNvPr id="613" name=""/>
          <p:cNvSpPr txBox="1"/>
          <p:nvPr/>
        </p:nvSpPr>
        <p:spPr>
          <a:xfrm>
            <a:off x="579600" y="1780920"/>
            <a:ext cx="2279520" cy="4352760"/>
          </a:xfrm>
          <a:prstGeom prst="rect">
            <a:avLst/>
          </a:prstGeom>
          <a:noFill/>
          <a:ln w="0">
            <a:noFill/>
          </a:ln>
        </p:spPr>
        <p:txBody>
          <a:bodyPr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rPr>
              <a:t>Екологічна грамотність</a:t>
            </a:r>
            <a:endParaRPr b="0" lang="en-US" sz="12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
        <p:nvSpPr>
          <p:cNvPr id="614" name="Скругленный прямоугольник 3"/>
          <p:cNvSpPr/>
          <p:nvPr/>
        </p:nvSpPr>
        <p:spPr>
          <a:xfrm>
            <a:off x="490680" y="1596960"/>
            <a:ext cx="2457360" cy="4721400"/>
          </a:xfrm>
          <a:custGeom>
            <a:avLst/>
            <a:gdLst>
              <a:gd name="textAreaLeft" fmla="*/ 119880 w 2457360"/>
              <a:gd name="textAreaRight" fmla="*/ 2337480 w 2457360"/>
              <a:gd name="textAreaTop" fmla="*/ 119880 h 4721400"/>
              <a:gd name="textAreaBottom" fmla="*/ 4601520 h 4721400"/>
            </a:gdLst>
            <a:ahLst/>
            <a:rect l="textAreaLeft" t="textAreaTop" r="textAreaRight" b="textAreaBottom"/>
            <a:pathLst>
              <a:path w="21600" h="41498">
                <a:moveTo>
                  <a:pt x="3600" y="0"/>
                </a:moveTo>
                <a:arcTo wR="3600" hR="3600" stAng="16200000" swAng="-5400000"/>
                <a:lnTo>
                  <a:pt x="0" y="37898"/>
                </a:lnTo>
                <a:arcTo wR="3600" hR="3600" stAng="10800000" swAng="-5400000"/>
                <a:lnTo>
                  <a:pt x="18000" y="41498"/>
                </a:lnTo>
                <a:arcTo wR="3600" hR="3600" stAng="5400000" swAng="-5400000"/>
                <a:lnTo>
                  <a:pt x="21600" y="3600"/>
                </a:lnTo>
                <a:arcTo wR="3600" hR="3600" stAng="0" swAng="-5400000"/>
                <a:close/>
              </a:path>
            </a:pathLst>
          </a:custGeom>
          <a:solidFill>
            <a:srgbClr val="00b0f0">
              <a:alpha val="27000"/>
            </a:srgbClr>
          </a:solidFill>
          <a:ln w="11520">
            <a:solidFill>
              <a:srgbClr val="00b0f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Скругленный прямоугольник 4"/>
          <p:cNvSpPr/>
          <p:nvPr/>
        </p:nvSpPr>
        <p:spPr>
          <a:xfrm>
            <a:off x="3441600" y="1596960"/>
            <a:ext cx="2455920" cy="4721400"/>
          </a:xfrm>
          <a:custGeom>
            <a:avLst/>
            <a:gdLst>
              <a:gd name="textAreaLeft" fmla="*/ 119880 w 2455920"/>
              <a:gd name="textAreaRight" fmla="*/ 2336040 w 2455920"/>
              <a:gd name="textAreaTop" fmla="*/ 119880 h 4721400"/>
              <a:gd name="textAreaBottom" fmla="*/ 4601520 h 4721400"/>
            </a:gdLst>
            <a:ahLst/>
            <a:rect l="textAreaLeft" t="textAreaTop" r="textAreaRight" b="textAreaBottom"/>
            <a:pathLst>
              <a:path w="21600" h="41522">
                <a:moveTo>
                  <a:pt x="3600" y="0"/>
                </a:moveTo>
                <a:arcTo wR="3600" hR="3600" stAng="16200000" swAng="-5400000"/>
                <a:lnTo>
                  <a:pt x="0" y="37922"/>
                </a:lnTo>
                <a:arcTo wR="3600" hR="3600" stAng="10800000" swAng="-5400000"/>
                <a:lnTo>
                  <a:pt x="18000" y="41522"/>
                </a:lnTo>
                <a:arcTo wR="3600" hR="3600" stAng="5400000" swAng="-5400000"/>
                <a:lnTo>
                  <a:pt x="21600" y="3600"/>
                </a:lnTo>
                <a:arcTo wR="3600" hR="3600" stAng="0" swAng="-5400000"/>
                <a:close/>
              </a:path>
            </a:pathLst>
          </a:custGeom>
          <a:solidFill>
            <a:srgbClr val="00b0f0">
              <a:alpha val="27000"/>
            </a:srgbClr>
          </a:solidFill>
          <a:ln w="11520">
            <a:solidFill>
              <a:srgbClr val="00b0f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Скругленный прямоугольник 6"/>
          <p:cNvSpPr/>
          <p:nvPr/>
        </p:nvSpPr>
        <p:spPr>
          <a:xfrm>
            <a:off x="6378480" y="1596960"/>
            <a:ext cx="2455920" cy="4721400"/>
          </a:xfrm>
          <a:custGeom>
            <a:avLst/>
            <a:gdLst>
              <a:gd name="textAreaLeft" fmla="*/ 119880 w 2455920"/>
              <a:gd name="textAreaRight" fmla="*/ 2336040 w 2455920"/>
              <a:gd name="textAreaTop" fmla="*/ 119880 h 4721400"/>
              <a:gd name="textAreaBottom" fmla="*/ 4601520 h 4721400"/>
            </a:gdLst>
            <a:ahLst/>
            <a:rect l="textAreaLeft" t="textAreaTop" r="textAreaRight" b="textAreaBottom"/>
            <a:pathLst>
              <a:path w="21600" h="41522">
                <a:moveTo>
                  <a:pt x="3600" y="0"/>
                </a:moveTo>
                <a:arcTo wR="3600" hR="3600" stAng="16200000" swAng="-5400000"/>
                <a:lnTo>
                  <a:pt x="0" y="37922"/>
                </a:lnTo>
                <a:arcTo wR="3600" hR="3600" stAng="10800000" swAng="-5400000"/>
                <a:lnTo>
                  <a:pt x="18000" y="41522"/>
                </a:lnTo>
                <a:arcTo wR="3600" hR="3600" stAng="5400000" swAng="-5400000"/>
                <a:lnTo>
                  <a:pt x="21600" y="3600"/>
                </a:lnTo>
                <a:arcTo wR="3600" hR="3600" stAng="0" swAng="-5400000"/>
                <a:close/>
              </a:path>
            </a:pathLst>
          </a:custGeom>
          <a:solidFill>
            <a:srgbClr val="00b0f0">
              <a:alpha val="27000"/>
            </a:srgbClr>
          </a:solidFill>
          <a:ln w="11520">
            <a:solidFill>
              <a:srgbClr val="00b0f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Скругленный прямоугольник 7"/>
          <p:cNvSpPr/>
          <p:nvPr/>
        </p:nvSpPr>
        <p:spPr>
          <a:xfrm>
            <a:off x="9354960" y="1596960"/>
            <a:ext cx="2457720" cy="4721400"/>
          </a:xfrm>
          <a:custGeom>
            <a:avLst/>
            <a:gdLst>
              <a:gd name="textAreaLeft" fmla="*/ 119880 w 2457720"/>
              <a:gd name="textAreaRight" fmla="*/ 2337840 w 2457720"/>
              <a:gd name="textAreaTop" fmla="*/ 119880 h 4721400"/>
              <a:gd name="textAreaBottom" fmla="*/ 4601520 h 4721400"/>
            </a:gdLst>
            <a:ahLst/>
            <a:rect l="textAreaLeft" t="textAreaTop" r="textAreaRight" b="textAreaBottom"/>
            <a:pathLst>
              <a:path w="21600" h="41492">
                <a:moveTo>
                  <a:pt x="3600" y="0"/>
                </a:moveTo>
                <a:arcTo wR="3600" hR="3600" stAng="16200000" swAng="-5400000"/>
                <a:lnTo>
                  <a:pt x="0" y="37892"/>
                </a:lnTo>
                <a:arcTo wR="3600" hR="3600" stAng="10800000" swAng="-5400000"/>
                <a:lnTo>
                  <a:pt x="18000" y="41492"/>
                </a:lnTo>
                <a:arcTo wR="3600" hR="3600" stAng="5400000" swAng="-5400000"/>
                <a:lnTo>
                  <a:pt x="21600" y="3600"/>
                </a:lnTo>
                <a:arcTo wR="3600" hR="3600" stAng="0" swAng="-5400000"/>
                <a:close/>
              </a:path>
            </a:pathLst>
          </a:custGeom>
          <a:solidFill>
            <a:srgbClr val="00b0f0">
              <a:alpha val="27000"/>
            </a:srgbClr>
          </a:solidFill>
          <a:ln w="11520">
            <a:solidFill>
              <a:srgbClr val="00b0f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Стрелка вправо 8"/>
          <p:cNvSpPr/>
          <p:nvPr/>
        </p:nvSpPr>
        <p:spPr>
          <a:xfrm>
            <a:off x="2948040" y="3343320"/>
            <a:ext cx="655560" cy="614160"/>
          </a:xfrm>
          <a:prstGeom prst="righ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Стрелка вправо 9"/>
          <p:cNvSpPr/>
          <p:nvPr/>
        </p:nvSpPr>
        <p:spPr>
          <a:xfrm>
            <a:off x="5764320" y="3343320"/>
            <a:ext cx="654120" cy="614160"/>
          </a:xfrm>
          <a:prstGeom prst="rightArrow">
            <a:avLst>
              <a:gd name="adj1" fmla="val 50000"/>
              <a:gd name="adj2" fmla="val 50023"/>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Стрелка вправо 10"/>
          <p:cNvSpPr/>
          <p:nvPr/>
        </p:nvSpPr>
        <p:spPr>
          <a:xfrm>
            <a:off x="8834400" y="3343320"/>
            <a:ext cx="655560" cy="614160"/>
          </a:xfrm>
          <a:prstGeom prst="rightArrow">
            <a:avLst>
              <a:gd name="adj1" fmla="val 50000"/>
              <a:gd name="adj2" fmla="val 50010"/>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Объект 2"/>
          <p:cNvSpPr/>
          <p:nvPr/>
        </p:nvSpPr>
        <p:spPr>
          <a:xfrm>
            <a:off x="3538440" y="1781280"/>
            <a:ext cx="2279880" cy="43527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ea typeface="Arial"/>
              </a:rPr>
              <a:t>Екологічна  освіченість</a:t>
            </a:r>
            <a:endParaRPr b="0" lang="en-US" sz="1200" spc="-1" strike="noStrike">
              <a:solidFill>
                <a:srgbClr val="000000"/>
              </a:solidFill>
              <a:latin typeface="Arial"/>
            </a:endParaRPr>
          </a:p>
        </p:txBody>
      </p:sp>
      <p:sp>
        <p:nvSpPr>
          <p:cNvPr id="622" name="Объект 2"/>
          <p:cNvSpPr/>
          <p:nvPr/>
        </p:nvSpPr>
        <p:spPr>
          <a:xfrm>
            <a:off x="6308640" y="1811160"/>
            <a:ext cx="2595600" cy="4353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ea typeface="Arial"/>
              </a:rPr>
              <a:t>Екологічна  компетентність</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Объект 2"/>
          <p:cNvSpPr/>
          <p:nvPr/>
        </p:nvSpPr>
        <p:spPr>
          <a:xfrm>
            <a:off x="9443880" y="1781280"/>
            <a:ext cx="2279880" cy="4352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ea typeface="Arial"/>
              </a:rPr>
              <a:t>Екологічна   культура</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Georgia"/>
                <a:ea typeface="Arial"/>
              </a:rPr>
              <a:t> </a:t>
            </a:r>
            <a:endParaRPr b="0" lang="en-US" sz="1200" spc="-1" strike="noStrike">
              <a:solidFill>
                <a:srgbClr val="000000"/>
              </a:solidFill>
              <a:latin typeface="Arial"/>
            </a:endParaRPr>
          </a:p>
        </p:txBody>
      </p:sp>
      <p:sp>
        <p:nvSpPr>
          <p:cNvPr id="624" name="Овал 15"/>
          <p:cNvSpPr/>
          <p:nvPr/>
        </p:nvSpPr>
        <p:spPr>
          <a:xfrm>
            <a:off x="579600" y="2333520"/>
            <a:ext cx="2279520" cy="151452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Знання, установки, усвідомлення екологічних проблем</a:t>
            </a:r>
            <a:endParaRPr b="0" lang="en-US" sz="1200" spc="-1" strike="noStrike">
              <a:solidFill>
                <a:srgbClr val="000000"/>
              </a:solidFill>
              <a:latin typeface="Arial"/>
            </a:endParaRPr>
          </a:p>
        </p:txBody>
      </p:sp>
      <p:sp>
        <p:nvSpPr>
          <p:cNvPr id="625" name="Овал 16"/>
          <p:cNvSpPr/>
          <p:nvPr/>
        </p:nvSpPr>
        <p:spPr>
          <a:xfrm>
            <a:off x="579600" y="4405320"/>
            <a:ext cx="2279520" cy="170352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Ігрова діяльність, інтерактивні лекції, демонстраційні експерименти</a:t>
            </a:r>
            <a:endParaRPr b="0" lang="en-US" sz="1200" spc="-1" strike="noStrike">
              <a:solidFill>
                <a:srgbClr val="000000"/>
              </a:solidFill>
              <a:latin typeface="Arial"/>
            </a:endParaRPr>
          </a:p>
        </p:txBody>
      </p:sp>
      <p:sp>
        <p:nvSpPr>
          <p:cNvPr id="626" name="Овал 17"/>
          <p:cNvSpPr/>
          <p:nvPr/>
        </p:nvSpPr>
        <p:spPr>
          <a:xfrm>
            <a:off x="3538440" y="2333520"/>
            <a:ext cx="2279880" cy="151452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Системність знань, вміння їх застосовувати й транслювати</a:t>
            </a:r>
            <a:endParaRPr b="0" lang="en-US" sz="1200" spc="-1" strike="noStrike">
              <a:solidFill>
                <a:srgbClr val="000000"/>
              </a:solidFill>
              <a:latin typeface="Arial"/>
            </a:endParaRPr>
          </a:p>
        </p:txBody>
      </p:sp>
      <p:sp>
        <p:nvSpPr>
          <p:cNvPr id="627" name="Овал 18"/>
          <p:cNvSpPr/>
          <p:nvPr/>
        </p:nvSpPr>
        <p:spPr>
          <a:xfrm>
            <a:off x="6467400" y="2211480"/>
            <a:ext cx="2278080" cy="163656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Особистісне ставлення до життєвого середовища. Готовність відповідати за власні наслідки екодіяльності</a:t>
            </a:r>
            <a:endParaRPr b="0" lang="en-US" sz="1200" spc="-1" strike="noStrike">
              <a:solidFill>
                <a:srgbClr val="000000"/>
              </a:solidFill>
              <a:latin typeface="Arial"/>
            </a:endParaRPr>
          </a:p>
        </p:txBody>
      </p:sp>
      <p:sp>
        <p:nvSpPr>
          <p:cNvPr id="628" name="Овал 19"/>
          <p:cNvSpPr/>
          <p:nvPr/>
        </p:nvSpPr>
        <p:spPr>
          <a:xfrm>
            <a:off x="9489960" y="2408400"/>
            <a:ext cx="2278080" cy="151596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Еколого-орієнтовна свідомість та діяльність</a:t>
            </a:r>
            <a:endParaRPr b="0" lang="en-US" sz="1200" spc="-1" strike="noStrike">
              <a:solidFill>
                <a:srgbClr val="000000"/>
              </a:solidFill>
              <a:latin typeface="Arial"/>
            </a:endParaRPr>
          </a:p>
        </p:txBody>
      </p:sp>
      <p:sp>
        <p:nvSpPr>
          <p:cNvPr id="629" name="Овал 20"/>
          <p:cNvSpPr/>
          <p:nvPr/>
        </p:nvSpPr>
        <p:spPr>
          <a:xfrm>
            <a:off x="3575160" y="4405320"/>
            <a:ext cx="2279520" cy="170352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Творча   та проектно-ігрова діяльність</a:t>
            </a:r>
            <a:endParaRPr b="0" lang="en-US" sz="1200" spc="-1" strike="noStrike">
              <a:solidFill>
                <a:srgbClr val="000000"/>
              </a:solidFill>
              <a:latin typeface="Arial"/>
            </a:endParaRPr>
          </a:p>
        </p:txBody>
      </p:sp>
      <p:sp>
        <p:nvSpPr>
          <p:cNvPr id="630" name="Овал 21"/>
          <p:cNvSpPr/>
          <p:nvPr/>
        </p:nvSpPr>
        <p:spPr>
          <a:xfrm>
            <a:off x="6467400" y="4459320"/>
            <a:ext cx="2278080" cy="170496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Екологічна діяльність</a:t>
            </a:r>
            <a:endParaRPr b="0" lang="en-US" sz="1200" spc="-1" strike="noStrike">
              <a:solidFill>
                <a:srgbClr val="000000"/>
              </a:solidFill>
              <a:latin typeface="Arial"/>
            </a:endParaRPr>
          </a:p>
        </p:txBody>
      </p:sp>
      <p:sp>
        <p:nvSpPr>
          <p:cNvPr id="631" name="Овал 22"/>
          <p:cNvSpPr/>
          <p:nvPr/>
        </p:nvSpPr>
        <p:spPr>
          <a:xfrm>
            <a:off x="9443880" y="4459320"/>
            <a:ext cx="2279880" cy="1704960"/>
          </a:xfrm>
          <a:prstGeom prst="ellipse">
            <a:avLst/>
          </a:prstGeom>
          <a:solidFill>
            <a:srgbClr val="d16349">
              <a:alpha val="35000"/>
            </a:srgbClr>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Georgia"/>
              </a:rPr>
              <a:t>Втілення проектів та творчих задумів, волонтерська екологічна діяльність</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614520" y="286920"/>
            <a:ext cx="11337840" cy="57546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d16349"/>
                </a:solidFill>
                <a:latin typeface="Georgia"/>
              </a:rPr>
              <a:t>Мета навчальної дисципліни:</a:t>
            </a:r>
            <a:r>
              <a:rPr b="1" lang="uk-UA" sz="2200" spc="-1" strike="noStrike">
                <a:solidFill>
                  <a:srgbClr val="d16349"/>
                </a:solidFill>
                <a:latin typeface="Georgia"/>
              </a:rPr>
              <a:t> </a:t>
            </a:r>
            <a:r>
              <a:rPr b="0" lang="uk-UA" sz="2200" spc="-1" strike="noStrike">
                <a:solidFill>
                  <a:srgbClr val="000000"/>
                </a:solidFill>
                <a:latin typeface="Georgia"/>
              </a:rPr>
              <a:t>ознайомлення та набуття студентами знань щодо засад екологічної культури з точки зору різних світоглядів та вимірів.</a:t>
            </a:r>
            <a:endParaRPr b="0" lang="en-US" sz="22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200" spc="-1" strike="noStrike">
                <a:solidFill>
                  <a:srgbClr val="d16349"/>
                </a:solidFill>
                <a:latin typeface="Georgia"/>
              </a:rPr>
              <a:t>Завдання:</a:t>
            </a:r>
            <a:endParaRPr b="0" lang="en-US" sz="2200" spc="-1" strike="noStrike">
              <a:solidFill>
                <a:srgbClr val="000000"/>
              </a:solidFill>
              <a:latin typeface="Georgia"/>
            </a:endParaRPr>
          </a:p>
          <a:p>
            <a:pPr>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648c61"/>
                </a:solidFill>
                <a:latin typeface="Georgia"/>
              </a:rPr>
              <a:t>Теоретичні: </a:t>
            </a:r>
            <a:r>
              <a:rPr b="0" lang="uk-UA" sz="2200" spc="-1" strike="noStrike">
                <a:solidFill>
                  <a:srgbClr val="000000"/>
                </a:solidFill>
                <a:latin typeface="Georgia"/>
              </a:rPr>
              <a:t>вивчити за закріпити знання про головні підходи та концепції у галузі екологічної культури, основні виміри екологічної культури, її основні шляхи формування та проблеми, суть природних та антропогенних криз та шляхи виходу з них.</a:t>
            </a:r>
            <a:endParaRPr b="0" lang="en-US" sz="2200" spc="-1" strike="noStrike">
              <a:solidFill>
                <a:srgbClr val="000000"/>
              </a:solidFill>
              <a:latin typeface="Georgia"/>
            </a:endParaRPr>
          </a:p>
          <a:p>
            <a:pPr>
              <a:spcBef>
                <a:spcPts val="55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648c61"/>
                </a:solidFill>
                <a:latin typeface="Georgia"/>
              </a:rPr>
              <a:t>Практичні: </a:t>
            </a:r>
            <a:r>
              <a:rPr b="0" lang="uk-UA" sz="2200" spc="-1" strike="noStrike">
                <a:solidFill>
                  <a:srgbClr val="000000"/>
                </a:solidFill>
                <a:latin typeface="Georgia"/>
              </a:rPr>
              <a:t>навчитись співставляти окремі компоненти екологічної культури, аналізувати теорії та підходи щодо проблем екологічної культури та шляхів її формування, вміти застосовувати отримані навички на практиці, аналізувати підходи до використання та загального ставлення людей до компонент природи в різноінтервальні проміжки часу.</a:t>
            </a:r>
            <a:endParaRPr b="0" lang="en-US" sz="2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360" y="860400"/>
            <a:ext cx="12192120" cy="55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300" spc="-1" strike="noStrike">
                <a:solidFill>
                  <a:srgbClr val="d16349"/>
                </a:solidFill>
                <a:latin typeface="Georgia"/>
              </a:rPr>
              <a:t>Компетентності та результати навчання, що забезпечуються</a:t>
            </a:r>
            <a:br>
              <a:rPr sz="2300"/>
            </a:br>
            <a:r>
              <a:rPr b="1" i="1" lang="uk-UA" sz="2300" spc="-1" strike="noStrike">
                <a:solidFill>
                  <a:srgbClr val="d16349"/>
                </a:solidFill>
                <a:latin typeface="Georgia"/>
              </a:rPr>
              <a:t>компонентом освітньої програми з курсу</a:t>
            </a:r>
            <a:br>
              <a:rPr sz="2300"/>
            </a:br>
            <a:endParaRPr b="0" lang="en-US" sz="2300" spc="-1" strike="noStrike">
              <a:solidFill>
                <a:srgbClr val="7b9899"/>
              </a:solidFill>
              <a:latin typeface="Georgia"/>
            </a:endParaRPr>
          </a:p>
        </p:txBody>
      </p:sp>
      <p:sp>
        <p:nvSpPr>
          <p:cNvPr id="634" name=""/>
          <p:cNvSpPr txBox="1"/>
          <p:nvPr/>
        </p:nvSpPr>
        <p:spPr>
          <a:xfrm>
            <a:off x="426600" y="1616040"/>
            <a:ext cx="11487240" cy="4689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648c61"/>
                </a:solidFill>
                <a:latin typeface="Georgia"/>
              </a:rPr>
              <a:t>Загальні компетентності</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до адаптації та дії в новій ситуації</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спілкуватися з представниками інших професійних груп різного рівня</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діяти соціально відповідально та свідомо</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працювати в команді</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датність оцінювати та забезпечувати якість виконуваних робіт</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435e40"/>
                </a:solidFill>
                <a:latin typeface="Georgia"/>
              </a:rPr>
              <a:t>Програмні результати навчання</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Уміти проводити пошук інформації з використанням відповідних джерел для прийняття обґрунтованих рішень</a:t>
            </a:r>
            <a:endParaRPr b="0" lang="en-US" sz="2000" spc="-1" strike="noStrike">
              <a:solidFill>
                <a:srgbClr val="000000"/>
              </a:solidFill>
              <a:latin typeface="Georgia"/>
            </a:endParaRPr>
          </a:p>
          <a:p>
            <a:pPr>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Georgia"/>
              </a:rPr>
              <a:t>Уміти формувати ефективні комунікаційні стратегії з метою донесення ідей, проблем, рішень та власного досвіду в сфері екології</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01400" y="286920"/>
            <a:ext cx="1137924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400" spc="-1" strike="noStrike">
                <a:solidFill>
                  <a:srgbClr val="648c61"/>
                </a:solidFill>
                <a:latin typeface="Georgia"/>
              </a:rPr>
              <a:t>Програма навчальної дисципліни</a:t>
            </a:r>
            <a:endParaRPr b="0" lang="en-US" sz="2400" spc="-1" strike="noStrike">
              <a:solidFill>
                <a:srgbClr val="7b9899"/>
              </a:solidFill>
              <a:latin typeface="Georgia"/>
            </a:endParaRPr>
          </a:p>
        </p:txBody>
      </p:sp>
      <p:sp>
        <p:nvSpPr>
          <p:cNvPr id="636" name=""/>
          <p:cNvSpPr txBox="1"/>
          <p:nvPr/>
        </p:nvSpPr>
        <p:spPr>
          <a:xfrm>
            <a:off x="355320" y="1609200"/>
            <a:ext cx="11721960" cy="4969080"/>
          </a:xfrm>
          <a:prstGeom prst="rect">
            <a:avLst/>
          </a:prstGeom>
          <a:noFill/>
          <a:ln w="0">
            <a:noFill/>
          </a:ln>
        </p:spPr>
        <p:txBody>
          <a:bodyPr anchor="t">
            <a:norm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d16349"/>
                </a:solidFill>
                <a:latin typeface="Georgia"/>
              </a:rPr>
              <a:t>Основи формування екологічної культур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Вступ. Екологічна культура як діяльність. Феномен екологічних криз у предметі сучасної екології. Діяльність людини та екологічні криз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Екологічна етика як елемент екокультур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Екологічна свідомість як елемент екокультур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Екологічне мислення як елемент екокультур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Роль партій та громадських рухів, ЗМІ у формування екологічної свідомості та розв'язані проблем екологічої безпек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000" spc="-1" strike="noStrike">
                <a:solidFill>
                  <a:srgbClr val="d16349"/>
                </a:solidFill>
                <a:latin typeface="Georgia"/>
              </a:rPr>
              <a:t>Екологічна освіта як складова екологічної культури. </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Основи екоосвіти. Процеси навчання</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Зміст екологічної освіти</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Методи та форми навчання екології</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Georgia"/>
              </a:rPr>
              <a:t>Діагностика навчальних досягнень учнів з екології</a:t>
            </a: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nSpc>
                <a:spcPct val="90000"/>
              </a:lnSpc>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6-21T15:48:04Z</dcterms:created>
  <dc:creator>Дмитрий Зинченко</dc:creator>
  <dc:description/>
  <dc:language>en-US</dc:language>
  <cp:lastModifiedBy>11</cp:lastModifiedBy>
  <dcterms:modified xsi:type="dcterms:W3CDTF">2020-07-29T17:21:25Z</dcterms:modified>
  <cp:revision>38</cp:revision>
  <dc:subject/>
  <dc:title>ХЕРСОНСЬКИЙ ДЕРЖАВНИЙ УНІВЕРСИТЕТ</dc:title>
</cp:coreProperties>
</file>