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922A4-903D-424E-87B0-E80CB5D9F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9193E-1BB8-476C-9F2C-0B55414AF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283ACF4-A072-4A2B-AB5C-49A062524EB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7E883CD-FFB0-4A3D-8D83-FBBF06C8BEA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0CB8047-ED1F-40FA-A3F3-199B2AFA8CF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D601693-921C-4967-903A-B904467EACC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69276E3-C3BF-49D7-B74C-0AB547858A6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498596D-21AC-4332-BDD5-B7DFFC986CC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BFC1621-1FD2-4825-80A4-7FEA1E0EC3A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C33E0E1-35DA-4DA3-B0C1-B6768351EA9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B70925D-0C4C-40D0-B3FA-C9B09ED4D2D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97C1D08-C970-4B62-84C1-1EBAF916B3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70F31-4574-4D3D-8EB5-B370091AF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8A5EE00-5893-4C55-A171-6AEF40EA54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34BF299-A838-49E8-99B1-8E2355FE01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F347458-D809-43DE-A389-A00793BCF0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C6D0312-EC3E-48E4-B7DE-87803BD1B1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388AD0D-C5A9-4138-83B6-55E5F98B4F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6B47567-30E3-4B0D-8387-8239060A2F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D2A7AC7-9603-42EB-B72E-0249D0935D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D980517-B8FB-4BFA-B06C-30C263AD2F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C2676AD-4700-4674-884F-C5B9FE15D9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87305B8-C522-4C7D-B57C-3ADC71A409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59232-C4FD-4C5D-8673-6E5B76D39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76E29D5-30DD-4764-873C-2E2DB40C96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2F0F4A2-DCB6-4BCA-B120-1DD3240113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3D1CE4-470F-4E89-AD93-91D6D959F0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9C8531-2DFF-471B-8BBF-99D1455F14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B75DE9-3E0B-410A-B33D-EBFBAE0C8D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75049F-4803-409C-9D11-F41A1883D6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BD7B22-0559-429C-8687-DE81554E00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853195-4BD8-473E-A799-1B8BCD9740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A07C89-3ED1-433D-BBB4-CD489B9398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F9D038-A6B5-4527-88B6-8FA4D7575D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8D8A05-31B3-42FB-923B-F870F1042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CD00F9-8CDD-4A9D-9B47-E145574BCF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CB43DBD-102F-471C-AF0A-5877FFB490E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5EED406-8692-4135-AC3E-E00CC50B88C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427679C-F573-4AC8-B400-AFCA6AF73C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D575ACE-3627-4905-8EE0-E91BAB2F23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C148C10-7050-4C20-9849-0D0227EA90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94FFC5F-FD0D-4711-821C-8A070073F4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F31973C-B4B2-4FD5-AFBC-930B8C1429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FA6374A-D4D0-4289-801A-6F8BBC351B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2FE6148-B1F2-4CA2-91F5-0E3D037441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208C4-31D4-444F-974D-987B188F5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1502CDB-E5D1-48F4-BC57-E99F3AF7BE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249402C-ED01-43EA-AD58-E1A5D2CE41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AC1C26A-F60B-472D-A3B9-9C90B71779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82358A4-C213-47A6-8DDA-357BEDD354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41F2481-A362-4BE1-AA37-69E1036FB2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AD939-265B-4018-B9D4-A8D92DFC0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62791-FD58-49B5-9340-3479F0A57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9EBF0-F8F9-4394-B52E-3DE583719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4B4F5-F2A2-4E00-884B-06F2C60D9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741BE-8447-4B6A-85E2-CA9F52B32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3B42D-750A-41BD-A3AB-9CB6D412E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3FD9E-079E-42E5-A274-BCFC82A1F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529AC-823F-4116-91BE-56A808E9C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337B3-25DB-4F94-95D2-2E61EA07C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04163D-CFB6-45ED-83CA-7170DCB1DF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99E1D-8C15-4D46-A712-CAFE23978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49A40F-7EFD-4F0A-8AC0-983E0AEB44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86137D-DE93-4E64-8950-6DB954796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F14EB3-0400-47EE-AE51-F0E347884E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59AAD7-E614-483B-AECC-5F104FEB82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FA916D-39AC-42FB-8A1C-A27B9057DB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5CF3E-B07F-4E3D-AA00-75A4F8BF1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C8148C-E858-41C2-9410-D091237FA9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5D0966-F63B-44FC-9DD2-95B26F9B03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70B2B-AB2F-493F-A94F-D452E517B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4B931-C6F3-4E60-8473-A970E8784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CD1CA5-077A-4A74-A3EF-BA0EE380A4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B1E6BC-46D4-4930-A616-CC6978D7D4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304337-DC73-4BD8-B87A-A45DFC6243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3C07D4B-6BC0-49BA-81E0-27262A62798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DBC5B95-6408-455C-A660-C21EBFE8B00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854BCE4-C15D-47B9-8F1C-0DD215B3BD5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9AF95-3700-4B9D-9A75-3667731AD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64EFA1E-4E86-4465-AD1C-29256BB07F9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453C849-17C5-4A79-A61C-B1DDB369D5A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6A00DD1-E1A9-4766-8319-DEA6888E1B2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25A5764-7171-444A-AB43-B57D95CF0E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3D8989D-0F9D-4D9B-BD59-5129DBA306F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373F64A-2EFD-44A5-9669-617DEE66A2E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72B246B-7D32-4F24-BBC7-FF5EB29CF9A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8C27C45-CE6A-4F83-B057-893B9D7C438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AF23D62-4680-43C0-A2C7-1B3483CB6D3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854B19-BFAA-424F-9551-4983B343CB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69D90-23F5-4F62-A39F-CEBC228FF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CBBC0A-53A0-4602-ACB2-315D0FD799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D3EA59-41AF-4660-A01A-47C8B0D751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1F5D87-01F6-4F0D-BA4F-F1A6626289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D964B2-FE91-447A-9D1D-E6B9E8377C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EB25CB-9750-4233-96C1-151E303A78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021712-C887-4904-8732-AB782D782E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8B8FEF-8A77-4363-BC2B-2E19A77191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97847B-E70A-47FE-9FE5-46BEF25287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EC62DE-DEAB-4D94-B595-26F88821E6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90A185-AE4D-4D3E-9EC7-22D33A3151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D61A3-805B-4D03-B68A-7F13DB8B3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0C1615-4D0C-48E6-B092-5DFBA32123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E34A7F-5B54-483E-922A-48487AB6F5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47351A-2B93-4E50-9DA7-C064BBEB5E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343419-65D2-4F9F-A9AD-FC85C01ED4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8A9255-8E9C-4597-83A1-79B7A2C7CB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DA3B4A-5E5E-492E-9726-39D17E1E25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663BAC-F037-44F3-A48E-8446E37780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25B9E2-638C-4FE6-A011-26D9910873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E1165-D151-48C0-8613-F1C698BE17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328C14-9715-40CB-A7F6-B1FD71DC24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C0147-A657-43E3-8423-E1453F7F0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E3CF57-C26A-40E8-833E-56C7108C92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2C634B-424A-4517-8BF9-0E4AF92126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25CEDA-1488-4C8D-814E-95713A2041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942485-4E78-4DD6-8C25-12593AAD28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188DDB-D64D-4880-8516-6BE3C4CC44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CE8E48-AD11-4FE0-87B5-DC5E6B3070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B43FFF-513E-47C1-B7D1-F009864970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8F6D71-7AB1-4CE0-B70F-B358C7E0B9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6C4403-F7F6-40E9-90EA-DA2C0B32F2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25E71D-FD3F-43F7-B539-C495B0B6F1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E8B64-AC67-4711-924F-C44F72EBE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B52119-4E12-4865-B1D0-C7440C5FD7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DA0654-0F19-435C-BA46-759F5FCD37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451E97-26DA-4286-8A82-9689FF6F5D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A0DF53-7D4A-425E-A418-F8C2DED8EA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24F565-41DC-4089-BC33-D5CF3F2FF3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FEE2E7-97E3-49D4-A447-D67A9A0529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C19B6D-8845-428F-A6ED-B0DD63DD59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9EDDB6-4C4A-43BC-8ACC-88B419A627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D0C195-014E-4478-89D3-CD33129A86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CD400A-77D5-4E64-B387-16DE81DFAE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BF277-F929-4C81-9529-3899D23BD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00C7B3-4F64-4563-BCA8-A6FE40EA91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B7115E-EE53-4004-9909-EEC623FCE9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185DF5-E0C1-4F0E-BDFC-BEAB296361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A55531-E023-47FC-BD61-2F438D33CB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0A9BC2-B4DE-4641-A9BB-FCA7027F49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E8BAC4-14B3-4499-B323-473A779496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6F5EE4-26C7-4A23-8BB9-AF80F4E1A3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498723D-76E1-4782-8C77-1FF7C43DF8D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A0CBC03-8909-4264-B47A-D1AAF7F6E65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21270A2-FA41-4706-8E28-13F0BF41001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5790960" y="103968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63AF-EDC0-4242-AD98-44BA48FA7362}"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5"/>
          <p:cNvSpPr/>
          <p:nvPr/>
        </p:nvSpPr>
        <p:spPr>
          <a:xfrm>
            <a:off x="203040" y="53352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0"/>
          <p:cNvSpPr/>
          <p:nvPr/>
        </p:nvSpPr>
        <p:spPr>
          <a:xfrm>
            <a:off x="203040" y="152280"/>
            <a:ext cx="117777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1"/>
          <p:cNvSpPr/>
          <p:nvPr/>
        </p:nvSpPr>
        <p:spPr>
          <a:xfrm>
            <a:off x="203040" y="609480"/>
            <a:ext cx="36576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3"/>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4"/>
          <p:cNvSpPr/>
          <p:nvPr/>
        </p:nvSpPr>
        <p:spPr>
          <a:xfrm>
            <a:off x="1727280" y="2286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5"/>
          <p:cNvSpPr/>
          <p:nvPr/>
        </p:nvSpPr>
        <p:spPr>
          <a:xfrm>
            <a:off x="1852560" y="324000"/>
            <a:ext cx="56196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26"/>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828440" y="31284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6228-D3D6-4350-B934-0FD15F910CF6}"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7716960" y="6405480"/>
            <a:ext cx="4060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401400" y="6409800"/>
            <a:ext cx="47797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5790960" y="103968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CD91-D34B-4C99-91EF-0CDFCAF6B256}"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9347040" y="0"/>
            <a:ext cx="28450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1219212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19"/>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0"/>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1"/>
          <p:cNvSpPr/>
          <p:nvPr/>
        </p:nvSpPr>
        <p:spPr>
          <a:xfrm>
            <a:off x="952668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3"/>
          <p:cNvSpPr/>
          <p:nvPr/>
        </p:nvSpPr>
        <p:spPr>
          <a:xfrm>
            <a:off x="9120240" y="292572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4"/>
          <p:cNvSpPr/>
          <p:nvPr/>
        </p:nvSpPr>
        <p:spPr>
          <a:xfrm>
            <a:off x="9245520" y="3021120"/>
            <a:ext cx="56052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9221400" y="300996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AFA93-74C5-48BC-BEDF-840C82548651}"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11988720" y="324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1219212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9"/>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0"/>
          <p:cNvSpPr/>
          <p:nvPr/>
        </p:nvSpPr>
        <p:spPr>
          <a:xfrm>
            <a:off x="208080" y="2419200"/>
            <a:ext cx="11775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1"/>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3"/>
          <p:cNvSpPr/>
          <p:nvPr/>
        </p:nvSpPr>
        <p:spPr>
          <a:xfrm>
            <a:off x="5689440" y="211464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4"/>
          <p:cNvSpPr/>
          <p:nvPr/>
        </p:nvSpPr>
        <p:spPr>
          <a:xfrm>
            <a:off x="5815080" y="220968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5790960" y="219852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B414-9D94-4914-8A52-A5F7E7BCB6B4}"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5814720" y="102708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45F7-1499-4592-A764-D1302D1110C3}"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11988720" y="1908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203040" y="2286000"/>
            <a:ext cx="117777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208080" y="142920"/>
            <a:ext cx="11775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1"/>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3"/>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4"/>
          <p:cNvSpPr/>
          <p:nvPr/>
        </p:nvSpPr>
        <p:spPr>
          <a:xfrm>
            <a:off x="203040" y="243828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5"/>
          <p:cNvSpPr/>
          <p:nvPr/>
        </p:nvSpPr>
        <p:spPr>
          <a:xfrm>
            <a:off x="5689440" y="211464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26"/>
          <p:cNvSpPr/>
          <p:nvPr/>
        </p:nvSpPr>
        <p:spPr>
          <a:xfrm>
            <a:off x="5815080" y="220968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5790960" y="219852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2BC7-9F39-46E5-802E-C11C9150F073}"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6084720" y="1576080"/>
            <a:ext cx="111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7721640" y="6409800"/>
            <a:ext cx="405936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5790960" y="103968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7083-5015-4667-AE40-50E535E33248}"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609588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12192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0"/>
          <p:cNvSpPr/>
          <p:nvPr/>
        </p:nvSpPr>
        <p:spPr>
          <a:xfrm>
            <a:off x="203040" y="1371600"/>
            <a:ext cx="117777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1"/>
          <p:cNvSpPr/>
          <p:nvPr/>
        </p:nvSpPr>
        <p:spPr>
          <a:xfrm>
            <a:off x="195120" y="6391440"/>
            <a:ext cx="1177632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3"/>
          <p:cNvSpPr/>
          <p:nvPr/>
        </p:nvSpPr>
        <p:spPr>
          <a:xfrm>
            <a:off x="203040" y="127944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4"/>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5"/>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26"/>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406440" y="6409800"/>
            <a:ext cx="47750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5790960" y="104292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912C-763E-4A40-815C-99788E35F2E1}"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5790960" y="1036440"/>
            <a:ext cx="60948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6E0C-627A-4C59-9475-45009770FE25}"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1219212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19"/>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0"/>
          <p:cNvSpPr/>
          <p:nvPr/>
        </p:nvSpPr>
        <p:spPr>
          <a:xfrm>
            <a:off x="203040" y="15876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5689440" y="6324480"/>
            <a:ext cx="8128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A2724-3A1F-4CFF-A38E-1618DC2F2AF9}"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5"/>
          <p:cNvSpPr/>
          <p:nvPr/>
        </p:nvSpPr>
        <p:spPr>
          <a:xfrm>
            <a:off x="203040" y="152280"/>
            <a:ext cx="117777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1219212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0"/>
          <p:cNvSpPr/>
          <p:nvPr/>
        </p:nvSpPr>
        <p:spPr>
          <a:xfrm>
            <a:off x="203040" y="609480"/>
            <a:ext cx="36576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1"/>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3"/>
          <p:cNvSpPr/>
          <p:nvPr/>
        </p:nvSpPr>
        <p:spPr>
          <a:xfrm>
            <a:off x="203040" y="53352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4"/>
          <p:cNvSpPr/>
          <p:nvPr/>
        </p:nvSpPr>
        <p:spPr>
          <a:xfrm>
            <a:off x="1727280" y="2286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5"/>
          <p:cNvSpPr/>
          <p:nvPr/>
        </p:nvSpPr>
        <p:spPr>
          <a:xfrm>
            <a:off x="1852560" y="324000"/>
            <a:ext cx="56196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26"/>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828440" y="31284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7FC8-BF71-4247-B9DA-AD078A7C5FB6}"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401760" y="6409800"/>
            <a:ext cx="4511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341000" y="1488960"/>
            <a:ext cx="9526680" cy="601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435e40"/>
                </a:solidFill>
                <a:latin typeface="Georgia"/>
              </a:rPr>
              <a:t>ХЕРСОНСЬКИЙ ДЕРЖАВНИЙ УНІВЕРСИТЕТ</a:t>
            </a:r>
            <a:br>
              <a:rPr sz="2400"/>
            </a:br>
            <a:r>
              <a:rPr b="0" i="1" lang="uk-UA" sz="2400" spc="-1" strike="noStrike">
                <a:solidFill>
                  <a:srgbClr val="435e40"/>
                </a:solidFill>
                <a:latin typeface="Georgia"/>
              </a:rPr>
              <a:t>Факультет біології, географії і екології</a:t>
            </a:r>
            <a:br>
              <a:rPr sz="2400"/>
            </a:br>
            <a:r>
              <a:rPr b="0" i="1" lang="uk-UA" sz="2400" spc="-1" strike="noStrike">
                <a:solidFill>
                  <a:srgbClr val="435e40"/>
                </a:solidFill>
                <a:latin typeface="Georgia"/>
              </a:rPr>
              <a:t>Кафедра географії та екології</a:t>
            </a:r>
            <a:br>
              <a:rPr sz="3600"/>
            </a:br>
            <a:endParaRPr b="0" lang="en-US" sz="2400" spc="-1" strike="noStrike">
              <a:solidFill>
                <a:srgbClr val="7b9899"/>
              </a:solidFill>
              <a:latin typeface="Georgia"/>
            </a:endParaRPr>
          </a:p>
        </p:txBody>
      </p:sp>
      <p:pic>
        <p:nvPicPr>
          <p:cNvPr id="607" name="Рисунок 5" descr=""/>
          <p:cNvPicPr/>
          <p:nvPr/>
        </p:nvPicPr>
        <p:blipFill>
          <a:blip r:embed="rId1"/>
          <a:stretch/>
        </p:blipFill>
        <p:spPr>
          <a:xfrm>
            <a:off x="9677520" y="219240"/>
            <a:ext cx="2097000" cy="2128680"/>
          </a:xfrm>
          <a:prstGeom prst="rect">
            <a:avLst/>
          </a:prstGeom>
          <a:ln w="0">
            <a:noFill/>
          </a:ln>
        </p:spPr>
      </p:pic>
      <p:sp>
        <p:nvSpPr>
          <p:cNvPr id="608" name="Прямоугольник 4"/>
          <p:cNvSpPr/>
          <p:nvPr/>
        </p:nvSpPr>
        <p:spPr>
          <a:xfrm>
            <a:off x="1584360" y="2743200"/>
            <a:ext cx="9283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d16349"/>
                </a:solidFill>
                <a:latin typeface="Georgia"/>
              </a:rPr>
              <a:t>Дисципліна вільного вибору</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d16349"/>
                </a:solidFill>
                <a:latin typeface="Georgia"/>
              </a:rPr>
              <a:t> </a:t>
            </a:r>
            <a:r>
              <a:rPr b="1" lang="uk-UA" sz="3600" spc="-1" strike="noStrike">
                <a:solidFill>
                  <a:srgbClr val="d16349"/>
                </a:solidFill>
                <a:latin typeface="Georgia"/>
              </a:rPr>
              <a:t>«</a:t>
            </a:r>
            <a:r>
              <a:rPr b="1" lang="ru-RU" sz="3600" spc="-1" strike="noStrike">
                <a:solidFill>
                  <a:srgbClr val="d16349"/>
                </a:solidFill>
                <a:latin typeface="Georgia"/>
              </a:rPr>
              <a:t>Теорія і практика формування екологічної культури</a:t>
            </a:r>
            <a:r>
              <a:rPr b="1" lang="uk-UA" sz="3600" spc="-1" strike="noStrike">
                <a:solidFill>
                  <a:srgbClr val="d16349"/>
                </a:solidFill>
                <a:latin typeface="Georgia"/>
              </a:rPr>
              <a:t>»</a:t>
            </a:r>
            <a:endParaRPr b="0" lang="en-US" sz="3600" spc="-1" strike="noStrike">
              <a:solidFill>
                <a:srgbClr val="000000"/>
              </a:solidFill>
              <a:latin typeface="Arial"/>
            </a:endParaRPr>
          </a:p>
        </p:txBody>
      </p:sp>
      <p:pic>
        <p:nvPicPr>
          <p:cNvPr id="609" name="Picture 9" descr=""/>
          <p:cNvPicPr/>
          <p:nvPr/>
        </p:nvPicPr>
        <p:blipFill>
          <a:blip r:embed="rId2"/>
          <a:stretch/>
        </p:blipFill>
        <p:spPr>
          <a:xfrm>
            <a:off x="414360" y="219240"/>
            <a:ext cx="2120760" cy="212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599760" y="2098800"/>
            <a:ext cx="7070760" cy="3906720"/>
          </a:xfrm>
          <a:prstGeom prst="rect">
            <a:avLst/>
          </a:prstGeom>
          <a:noFill/>
          <a:ln w="0">
            <a:noFill/>
          </a:ln>
        </p:spPr>
        <p:txBody>
          <a:bodyPr anchor="t">
            <a:norm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d16349"/>
                </a:solidFill>
                <a:latin typeface="Georgia"/>
              </a:rPr>
              <a:t>      </a:t>
            </a:r>
            <a:r>
              <a:rPr b="1" i="1" lang="ru-RU" sz="2800" spc="-1" strike="noStrike">
                <a:solidFill>
                  <a:srgbClr val="d16349"/>
                </a:solidFill>
                <a:latin typeface="Georgia"/>
              </a:rPr>
              <a:t>Предметом</a:t>
            </a:r>
            <a:r>
              <a:rPr b="0" lang="ru-RU" sz="2800" spc="-1" strike="noStrike">
                <a:solidFill>
                  <a:srgbClr val="000000"/>
                </a:solidFill>
                <a:latin typeface="Georgia"/>
              </a:rPr>
              <a:t> </a:t>
            </a:r>
            <a:r>
              <a:rPr b="0" lang="uk-UA" sz="2800" spc="-1" strike="noStrike">
                <a:solidFill>
                  <a:srgbClr val="000000"/>
                </a:solidFill>
                <a:latin typeface="Georgia"/>
              </a:rPr>
              <a:t>вивчення є вплив людини на компоненти природи, особливості збереження культурного екологічного середовища,  екологічна освіта та мислення учнів тощо.</a:t>
            </a:r>
            <a:endParaRPr b="0" lang="en-US" sz="2800" spc="-1" strike="noStrike">
              <a:solidFill>
                <a:srgbClr val="000000"/>
              </a:solidFill>
              <a:latin typeface="Georgia"/>
            </a:endParaRPr>
          </a:p>
        </p:txBody>
      </p:sp>
      <p:pic>
        <p:nvPicPr>
          <p:cNvPr id="611" name="Picture 5" descr="http://pclub.dn.ua/wp-content/uploads/2017/12/%D0%B5%D0%BA%D0%BE.png"/>
          <p:cNvPicPr/>
          <p:nvPr/>
        </p:nvPicPr>
        <p:blipFill>
          <a:blip r:embed="rId1"/>
          <a:stretch/>
        </p:blipFill>
        <p:spPr>
          <a:xfrm>
            <a:off x="8058240" y="2098800"/>
            <a:ext cx="3438360" cy="343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300" spc="-1" strike="noStrike">
                <a:solidFill>
                  <a:srgbClr val="d16349"/>
                </a:solidFill>
                <a:latin typeface="Georgia"/>
              </a:rPr>
              <a:t>Модель формування екологічної культури</a:t>
            </a:r>
            <a:endParaRPr b="0" lang="en-US" sz="3300" spc="-1" strike="noStrike">
              <a:solidFill>
                <a:srgbClr val="7b9899"/>
              </a:solidFill>
              <a:latin typeface="Georgia"/>
            </a:endParaRPr>
          </a:p>
        </p:txBody>
      </p:sp>
      <p:sp>
        <p:nvSpPr>
          <p:cNvPr id="613" name=""/>
          <p:cNvSpPr txBox="1"/>
          <p:nvPr/>
        </p:nvSpPr>
        <p:spPr>
          <a:xfrm>
            <a:off x="579600" y="1780920"/>
            <a:ext cx="2279520" cy="435276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Georgia"/>
              </a:rPr>
              <a:t>Екологічна грамотність</a:t>
            </a:r>
            <a:endParaRPr b="0" lang="en-US" sz="12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14" name="Скругленный прямоугольник 3"/>
          <p:cNvSpPr/>
          <p:nvPr/>
        </p:nvSpPr>
        <p:spPr>
          <a:xfrm>
            <a:off x="490680" y="1596960"/>
            <a:ext cx="2457360" cy="4721400"/>
          </a:xfrm>
          <a:custGeom>
            <a:avLst/>
            <a:gdLst>
              <a:gd name="textAreaLeft" fmla="*/ 119880 w 2457360"/>
              <a:gd name="textAreaRight" fmla="*/ 2337480 w 2457360"/>
              <a:gd name="textAreaTop" fmla="*/ 119880 h 4721400"/>
              <a:gd name="textAreaBottom" fmla="*/ 4601520 h 4721400"/>
            </a:gdLst>
            <a:ahLst/>
            <a:rect l="textAreaLeft" t="textAreaTop" r="textAreaRight" b="textAreaBottom"/>
            <a:pathLst>
              <a:path w="21600" h="41498">
                <a:moveTo>
                  <a:pt x="3600" y="0"/>
                </a:moveTo>
                <a:arcTo wR="3600" hR="3600" stAng="16200000" swAng="-5400000"/>
                <a:lnTo>
                  <a:pt x="0" y="37898"/>
                </a:lnTo>
                <a:arcTo wR="3600" hR="3600" stAng="10800000" swAng="-5400000"/>
                <a:lnTo>
                  <a:pt x="18000" y="41498"/>
                </a:lnTo>
                <a:arcTo wR="3600" hR="3600" stAng="5400000" swAng="-5400000"/>
                <a:lnTo>
                  <a:pt x="21600" y="3600"/>
                </a:lnTo>
                <a:arcTo wR="3600" hR="3600" stAng="0" swAng="-5400000"/>
                <a:close/>
              </a:path>
            </a:pathLst>
          </a:custGeom>
          <a:solidFill>
            <a:srgbClr val="00b0f0">
              <a:alpha val="27000"/>
            </a:srgbClr>
          </a:solidFill>
          <a:ln w="11520">
            <a:solidFill>
              <a:srgbClr val="00b0f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Скругленный прямоугольник 4"/>
          <p:cNvSpPr/>
          <p:nvPr/>
        </p:nvSpPr>
        <p:spPr>
          <a:xfrm>
            <a:off x="3441600" y="1596960"/>
            <a:ext cx="2455920" cy="4721400"/>
          </a:xfrm>
          <a:custGeom>
            <a:avLst/>
            <a:gdLst>
              <a:gd name="textAreaLeft" fmla="*/ 119880 w 2455920"/>
              <a:gd name="textAreaRight" fmla="*/ 2336040 w 2455920"/>
              <a:gd name="textAreaTop" fmla="*/ 119880 h 4721400"/>
              <a:gd name="textAreaBottom" fmla="*/ 4601520 h 4721400"/>
            </a:gdLst>
            <a:ahLst/>
            <a:rect l="textAreaLeft" t="textAreaTop" r="textAreaRight" b="textAreaBottom"/>
            <a:pathLst>
              <a:path w="21600" h="41522">
                <a:moveTo>
                  <a:pt x="3600" y="0"/>
                </a:moveTo>
                <a:arcTo wR="3600" hR="3600" stAng="16200000" swAng="-5400000"/>
                <a:lnTo>
                  <a:pt x="0" y="37922"/>
                </a:lnTo>
                <a:arcTo wR="3600" hR="3600" stAng="10800000" swAng="-5400000"/>
                <a:lnTo>
                  <a:pt x="18000" y="41522"/>
                </a:lnTo>
                <a:arcTo wR="3600" hR="3600" stAng="5400000" swAng="-5400000"/>
                <a:lnTo>
                  <a:pt x="21600" y="3600"/>
                </a:lnTo>
                <a:arcTo wR="3600" hR="3600" stAng="0" swAng="-5400000"/>
                <a:close/>
              </a:path>
            </a:pathLst>
          </a:custGeom>
          <a:solidFill>
            <a:srgbClr val="00b0f0">
              <a:alpha val="27000"/>
            </a:srgbClr>
          </a:solidFill>
          <a:ln w="11520">
            <a:solidFill>
              <a:srgbClr val="00b0f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Скругленный прямоугольник 6"/>
          <p:cNvSpPr/>
          <p:nvPr/>
        </p:nvSpPr>
        <p:spPr>
          <a:xfrm>
            <a:off x="6378480" y="1596960"/>
            <a:ext cx="2455920" cy="4721400"/>
          </a:xfrm>
          <a:custGeom>
            <a:avLst/>
            <a:gdLst>
              <a:gd name="textAreaLeft" fmla="*/ 119880 w 2455920"/>
              <a:gd name="textAreaRight" fmla="*/ 2336040 w 2455920"/>
              <a:gd name="textAreaTop" fmla="*/ 119880 h 4721400"/>
              <a:gd name="textAreaBottom" fmla="*/ 4601520 h 4721400"/>
            </a:gdLst>
            <a:ahLst/>
            <a:rect l="textAreaLeft" t="textAreaTop" r="textAreaRight" b="textAreaBottom"/>
            <a:pathLst>
              <a:path w="21600" h="41522">
                <a:moveTo>
                  <a:pt x="3600" y="0"/>
                </a:moveTo>
                <a:arcTo wR="3600" hR="3600" stAng="16200000" swAng="-5400000"/>
                <a:lnTo>
                  <a:pt x="0" y="37922"/>
                </a:lnTo>
                <a:arcTo wR="3600" hR="3600" stAng="10800000" swAng="-5400000"/>
                <a:lnTo>
                  <a:pt x="18000" y="41522"/>
                </a:lnTo>
                <a:arcTo wR="3600" hR="3600" stAng="5400000" swAng="-5400000"/>
                <a:lnTo>
                  <a:pt x="21600" y="3600"/>
                </a:lnTo>
                <a:arcTo wR="3600" hR="3600" stAng="0" swAng="-5400000"/>
                <a:close/>
              </a:path>
            </a:pathLst>
          </a:custGeom>
          <a:solidFill>
            <a:srgbClr val="00b0f0">
              <a:alpha val="27000"/>
            </a:srgbClr>
          </a:solidFill>
          <a:ln w="11520">
            <a:solidFill>
              <a:srgbClr val="00b0f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Скругленный прямоугольник 7"/>
          <p:cNvSpPr/>
          <p:nvPr/>
        </p:nvSpPr>
        <p:spPr>
          <a:xfrm>
            <a:off x="9354960" y="1596960"/>
            <a:ext cx="2457720" cy="4721400"/>
          </a:xfrm>
          <a:custGeom>
            <a:avLst/>
            <a:gdLst>
              <a:gd name="textAreaLeft" fmla="*/ 119880 w 2457720"/>
              <a:gd name="textAreaRight" fmla="*/ 2337840 w 2457720"/>
              <a:gd name="textAreaTop" fmla="*/ 119880 h 4721400"/>
              <a:gd name="textAreaBottom" fmla="*/ 4601520 h 4721400"/>
            </a:gdLst>
            <a:ahLst/>
            <a:rect l="textAreaLeft" t="textAreaTop" r="textAreaRight" b="textAreaBottom"/>
            <a:pathLst>
              <a:path w="21600" h="41492">
                <a:moveTo>
                  <a:pt x="3600" y="0"/>
                </a:moveTo>
                <a:arcTo wR="3600" hR="3600" stAng="16200000" swAng="-5400000"/>
                <a:lnTo>
                  <a:pt x="0" y="37892"/>
                </a:lnTo>
                <a:arcTo wR="3600" hR="3600" stAng="10800000" swAng="-5400000"/>
                <a:lnTo>
                  <a:pt x="18000" y="41492"/>
                </a:lnTo>
                <a:arcTo wR="3600" hR="3600" stAng="5400000" swAng="-5400000"/>
                <a:lnTo>
                  <a:pt x="21600" y="3600"/>
                </a:lnTo>
                <a:arcTo wR="3600" hR="3600" stAng="0" swAng="-5400000"/>
                <a:close/>
              </a:path>
            </a:pathLst>
          </a:custGeom>
          <a:solidFill>
            <a:srgbClr val="00b0f0">
              <a:alpha val="27000"/>
            </a:srgbClr>
          </a:solidFill>
          <a:ln w="11520">
            <a:solidFill>
              <a:srgbClr val="00b0f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Стрелка вправо 8"/>
          <p:cNvSpPr/>
          <p:nvPr/>
        </p:nvSpPr>
        <p:spPr>
          <a:xfrm>
            <a:off x="2948040" y="3343320"/>
            <a:ext cx="655560" cy="614160"/>
          </a:xfrm>
          <a:prstGeom prst="rightArrow">
            <a:avLst>
              <a:gd name="adj1" fmla="val 50000"/>
              <a:gd name="adj2" fmla="val 50010"/>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Стрелка вправо 9"/>
          <p:cNvSpPr/>
          <p:nvPr/>
        </p:nvSpPr>
        <p:spPr>
          <a:xfrm>
            <a:off x="5764320" y="3343320"/>
            <a:ext cx="654120" cy="614160"/>
          </a:xfrm>
          <a:prstGeom prst="rightArrow">
            <a:avLst>
              <a:gd name="adj1" fmla="val 50000"/>
              <a:gd name="adj2" fmla="val 50023"/>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Стрелка вправо 10"/>
          <p:cNvSpPr/>
          <p:nvPr/>
        </p:nvSpPr>
        <p:spPr>
          <a:xfrm>
            <a:off x="8834400" y="3343320"/>
            <a:ext cx="655560" cy="614160"/>
          </a:xfrm>
          <a:prstGeom prst="rightArrow">
            <a:avLst>
              <a:gd name="adj1" fmla="val 50000"/>
              <a:gd name="adj2" fmla="val 50010"/>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Объект 2"/>
          <p:cNvSpPr/>
          <p:nvPr/>
        </p:nvSpPr>
        <p:spPr>
          <a:xfrm>
            <a:off x="3538440" y="1781280"/>
            <a:ext cx="2279880" cy="4352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Georgia"/>
                <a:ea typeface="Arial"/>
              </a:rPr>
              <a:t>Екологічна  освіченість</a:t>
            </a:r>
            <a:endParaRPr b="0" lang="en-US" sz="1200" spc="-1" strike="noStrike">
              <a:solidFill>
                <a:srgbClr val="000000"/>
              </a:solidFill>
              <a:latin typeface="Arial"/>
            </a:endParaRPr>
          </a:p>
        </p:txBody>
      </p:sp>
      <p:sp>
        <p:nvSpPr>
          <p:cNvPr id="622" name="Объект 2"/>
          <p:cNvSpPr/>
          <p:nvPr/>
        </p:nvSpPr>
        <p:spPr>
          <a:xfrm>
            <a:off x="6308640" y="1811160"/>
            <a:ext cx="2595600" cy="435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Georgia"/>
                <a:ea typeface="Arial"/>
              </a:rPr>
              <a:t>Екологічна  компетентність</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Объект 2"/>
          <p:cNvSpPr/>
          <p:nvPr/>
        </p:nvSpPr>
        <p:spPr>
          <a:xfrm>
            <a:off x="9443880" y="1781280"/>
            <a:ext cx="2279880" cy="4352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Georgia"/>
                <a:ea typeface="Arial"/>
              </a:rPr>
              <a:t>Екологічна   культура</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Georgia"/>
                <a:ea typeface="Arial"/>
              </a:rPr>
              <a:t> </a:t>
            </a:r>
            <a:endParaRPr b="0" lang="en-US" sz="1200" spc="-1" strike="noStrike">
              <a:solidFill>
                <a:srgbClr val="000000"/>
              </a:solidFill>
              <a:latin typeface="Arial"/>
            </a:endParaRPr>
          </a:p>
        </p:txBody>
      </p:sp>
      <p:sp>
        <p:nvSpPr>
          <p:cNvPr id="624" name="Овал 15"/>
          <p:cNvSpPr/>
          <p:nvPr/>
        </p:nvSpPr>
        <p:spPr>
          <a:xfrm>
            <a:off x="579600" y="2333520"/>
            <a:ext cx="2279520" cy="1514520"/>
          </a:xfrm>
          <a:prstGeom prst="ellipse">
            <a:avLst/>
          </a:prstGeom>
          <a:solidFill>
            <a:srgbClr val="d16349">
              <a:alpha val="35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Знання, установки, усвідомлення екологічних проблем</a:t>
            </a:r>
            <a:endParaRPr b="0" lang="en-US" sz="1200" spc="-1" strike="noStrike">
              <a:solidFill>
                <a:srgbClr val="000000"/>
              </a:solidFill>
              <a:latin typeface="Arial"/>
            </a:endParaRPr>
          </a:p>
        </p:txBody>
      </p:sp>
      <p:sp>
        <p:nvSpPr>
          <p:cNvPr id="625" name="Овал 16"/>
          <p:cNvSpPr/>
          <p:nvPr/>
        </p:nvSpPr>
        <p:spPr>
          <a:xfrm>
            <a:off x="579600" y="4405320"/>
            <a:ext cx="2279520" cy="1703520"/>
          </a:xfrm>
          <a:prstGeom prst="ellipse">
            <a:avLst/>
          </a:prstGeom>
          <a:solidFill>
            <a:srgbClr val="d16349">
              <a:alpha val="35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Ігрова діяльність, інтерактивні лекції, демонстраційні експерименти</a:t>
            </a:r>
            <a:endParaRPr b="0" lang="en-US" sz="1200" spc="-1" strike="noStrike">
              <a:solidFill>
                <a:srgbClr val="000000"/>
              </a:solidFill>
              <a:latin typeface="Arial"/>
            </a:endParaRPr>
          </a:p>
        </p:txBody>
      </p:sp>
      <p:sp>
        <p:nvSpPr>
          <p:cNvPr id="626" name="Овал 17"/>
          <p:cNvSpPr/>
          <p:nvPr/>
        </p:nvSpPr>
        <p:spPr>
          <a:xfrm>
            <a:off x="3538440" y="2333520"/>
            <a:ext cx="2279880" cy="1514520"/>
          </a:xfrm>
          <a:prstGeom prst="ellipse">
            <a:avLst/>
          </a:prstGeom>
          <a:solidFill>
            <a:srgbClr val="d16349">
              <a:alpha val="35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Системність знань, вміння їх застосовувати й транслювати</a:t>
            </a:r>
            <a:endParaRPr b="0" lang="en-US" sz="1200" spc="-1" strike="noStrike">
              <a:solidFill>
                <a:srgbClr val="000000"/>
              </a:solidFill>
              <a:latin typeface="Arial"/>
            </a:endParaRPr>
          </a:p>
        </p:txBody>
      </p:sp>
      <p:sp>
        <p:nvSpPr>
          <p:cNvPr id="627" name="Овал 18"/>
          <p:cNvSpPr/>
          <p:nvPr/>
        </p:nvSpPr>
        <p:spPr>
          <a:xfrm>
            <a:off x="6467400" y="2211480"/>
            <a:ext cx="2278080" cy="1636560"/>
          </a:xfrm>
          <a:prstGeom prst="ellipse">
            <a:avLst/>
          </a:prstGeom>
          <a:solidFill>
            <a:srgbClr val="d16349">
              <a:alpha val="35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Особистісне ставлення до життєвого середовища. Готовність відповідати за власні наслідки екодіяльності</a:t>
            </a:r>
            <a:endParaRPr b="0" lang="en-US" sz="1200" spc="-1" strike="noStrike">
              <a:solidFill>
                <a:srgbClr val="000000"/>
              </a:solidFill>
              <a:latin typeface="Arial"/>
            </a:endParaRPr>
          </a:p>
        </p:txBody>
      </p:sp>
      <p:sp>
        <p:nvSpPr>
          <p:cNvPr id="628" name="Овал 19"/>
          <p:cNvSpPr/>
          <p:nvPr/>
        </p:nvSpPr>
        <p:spPr>
          <a:xfrm>
            <a:off x="9489960" y="2408400"/>
            <a:ext cx="2278080" cy="1515960"/>
          </a:xfrm>
          <a:prstGeom prst="ellipse">
            <a:avLst/>
          </a:prstGeom>
          <a:solidFill>
            <a:srgbClr val="d16349">
              <a:alpha val="35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Еколого-орієнтовна свідомість та діяльність</a:t>
            </a:r>
            <a:endParaRPr b="0" lang="en-US" sz="1200" spc="-1" strike="noStrike">
              <a:solidFill>
                <a:srgbClr val="000000"/>
              </a:solidFill>
              <a:latin typeface="Arial"/>
            </a:endParaRPr>
          </a:p>
        </p:txBody>
      </p:sp>
      <p:sp>
        <p:nvSpPr>
          <p:cNvPr id="629" name="Овал 20"/>
          <p:cNvSpPr/>
          <p:nvPr/>
        </p:nvSpPr>
        <p:spPr>
          <a:xfrm>
            <a:off x="3575160" y="4405320"/>
            <a:ext cx="2279520" cy="1703520"/>
          </a:xfrm>
          <a:prstGeom prst="ellipse">
            <a:avLst/>
          </a:prstGeom>
          <a:solidFill>
            <a:srgbClr val="d16349">
              <a:alpha val="35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Творча   та проектно-ігрова діяльність</a:t>
            </a:r>
            <a:endParaRPr b="0" lang="en-US" sz="1200" spc="-1" strike="noStrike">
              <a:solidFill>
                <a:srgbClr val="000000"/>
              </a:solidFill>
              <a:latin typeface="Arial"/>
            </a:endParaRPr>
          </a:p>
        </p:txBody>
      </p:sp>
      <p:sp>
        <p:nvSpPr>
          <p:cNvPr id="630" name="Овал 21"/>
          <p:cNvSpPr/>
          <p:nvPr/>
        </p:nvSpPr>
        <p:spPr>
          <a:xfrm>
            <a:off x="6467400" y="4459320"/>
            <a:ext cx="2278080" cy="1704960"/>
          </a:xfrm>
          <a:prstGeom prst="ellipse">
            <a:avLst/>
          </a:prstGeom>
          <a:solidFill>
            <a:srgbClr val="d16349">
              <a:alpha val="35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Екологічна діяльність</a:t>
            </a:r>
            <a:endParaRPr b="0" lang="en-US" sz="1200" spc="-1" strike="noStrike">
              <a:solidFill>
                <a:srgbClr val="000000"/>
              </a:solidFill>
              <a:latin typeface="Arial"/>
            </a:endParaRPr>
          </a:p>
        </p:txBody>
      </p:sp>
      <p:sp>
        <p:nvSpPr>
          <p:cNvPr id="631" name="Овал 22"/>
          <p:cNvSpPr/>
          <p:nvPr/>
        </p:nvSpPr>
        <p:spPr>
          <a:xfrm>
            <a:off x="9443880" y="4459320"/>
            <a:ext cx="2279880" cy="1704960"/>
          </a:xfrm>
          <a:prstGeom prst="ellipse">
            <a:avLst/>
          </a:prstGeom>
          <a:solidFill>
            <a:srgbClr val="d16349">
              <a:alpha val="35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Втілення проектів та творчих задумів, волонтерська екологічна діяльність</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614520" y="286920"/>
            <a:ext cx="11337840" cy="57546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d16349"/>
                </a:solidFill>
                <a:latin typeface="Georgia"/>
              </a:rPr>
              <a:t>Мета навчальної дисципліни:</a:t>
            </a:r>
            <a:r>
              <a:rPr b="1" lang="uk-UA" sz="2200" spc="-1" strike="noStrike">
                <a:solidFill>
                  <a:srgbClr val="d16349"/>
                </a:solidFill>
                <a:latin typeface="Georgia"/>
              </a:rPr>
              <a:t> </a:t>
            </a:r>
            <a:r>
              <a:rPr b="0" lang="uk-UA" sz="2200" spc="-1" strike="noStrike">
                <a:solidFill>
                  <a:srgbClr val="000000"/>
                </a:solidFill>
                <a:latin typeface="Georgia"/>
              </a:rPr>
              <a:t>ознайомлення та набуття студентами знань щодо засад екологічної культури з точки зору різних світоглядів та вимірів.</a:t>
            </a:r>
            <a:endParaRPr b="0" lang="en-US" sz="2200" spc="-1" strike="noStrike">
              <a:solidFill>
                <a:srgbClr val="000000"/>
              </a:solidFill>
              <a:latin typeface="Georg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d16349"/>
                </a:solidFill>
                <a:latin typeface="Georgia"/>
              </a:rPr>
              <a:t>Завдання:</a:t>
            </a:r>
            <a:endParaRPr b="0" lang="en-US" sz="2200" spc="-1" strike="noStrike">
              <a:solidFill>
                <a:srgbClr val="000000"/>
              </a:solidFill>
              <a:latin typeface="Georgia"/>
            </a:endParaRPr>
          </a:p>
          <a:p>
            <a:pPr>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648c61"/>
                </a:solidFill>
                <a:latin typeface="Georgia"/>
              </a:rPr>
              <a:t>Теоретичні: </a:t>
            </a:r>
            <a:r>
              <a:rPr b="0" lang="uk-UA" sz="2200" spc="-1" strike="noStrike">
                <a:solidFill>
                  <a:srgbClr val="000000"/>
                </a:solidFill>
                <a:latin typeface="Georgia"/>
              </a:rPr>
              <a:t>вивчити за закріпити знання про головні підходи та концепції у галузі екологічної культури, основні виміри екологічної культури, її основні шляхи формування та проблеми, суть природних та антропогенних криз та шляхи виходу з них.</a:t>
            </a:r>
            <a:endParaRPr b="0" lang="en-US" sz="2200" spc="-1" strike="noStrike">
              <a:solidFill>
                <a:srgbClr val="000000"/>
              </a:solidFill>
              <a:latin typeface="Georgia"/>
            </a:endParaRPr>
          </a:p>
          <a:p>
            <a:pPr>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648c61"/>
                </a:solidFill>
                <a:latin typeface="Georgia"/>
              </a:rPr>
              <a:t>Практичні: </a:t>
            </a:r>
            <a:r>
              <a:rPr b="0" lang="uk-UA" sz="2200" spc="-1" strike="noStrike">
                <a:solidFill>
                  <a:srgbClr val="000000"/>
                </a:solidFill>
                <a:latin typeface="Georgia"/>
              </a:rPr>
              <a:t>навчитись співставляти окремі компоненти екологічної культури, аналізувати теорії та підходи щодо проблем екологічної культури та шляхів її формування, вміти застосовувати отримані навички на практиці, аналізувати підходи до використання та загального ставлення людей до компонент природи в різноінтервальні проміжки часу.</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60" y="860400"/>
            <a:ext cx="12192120" cy="55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300" spc="-1" strike="noStrike">
                <a:solidFill>
                  <a:srgbClr val="d16349"/>
                </a:solidFill>
                <a:latin typeface="Georgia"/>
              </a:rPr>
              <a:t>Компетентності та результати навчання, що забезпечуються</a:t>
            </a:r>
            <a:br>
              <a:rPr sz="2300"/>
            </a:br>
            <a:r>
              <a:rPr b="1" i="1" lang="uk-UA" sz="2300" spc="-1" strike="noStrike">
                <a:solidFill>
                  <a:srgbClr val="d16349"/>
                </a:solidFill>
                <a:latin typeface="Georgia"/>
              </a:rPr>
              <a:t>компонентом освітньої програми з курсу</a:t>
            </a:r>
            <a:br>
              <a:rPr sz="2300"/>
            </a:br>
            <a:endParaRPr b="0" lang="en-US" sz="2300" spc="-1" strike="noStrike">
              <a:solidFill>
                <a:srgbClr val="7b9899"/>
              </a:solidFill>
              <a:latin typeface="Georgia"/>
            </a:endParaRPr>
          </a:p>
        </p:txBody>
      </p:sp>
      <p:sp>
        <p:nvSpPr>
          <p:cNvPr id="634" name=""/>
          <p:cNvSpPr txBox="1"/>
          <p:nvPr/>
        </p:nvSpPr>
        <p:spPr>
          <a:xfrm>
            <a:off x="426600" y="1616040"/>
            <a:ext cx="11487240" cy="4689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648c61"/>
                </a:solidFill>
                <a:latin typeface="Georgia"/>
              </a:rPr>
              <a:t>Загальні компетентності</a:t>
            </a:r>
            <a:endParaRPr b="0" lang="en-US" sz="2000" spc="-1" strike="noStrike">
              <a:solidFill>
                <a:srgbClr val="000000"/>
              </a:solidFill>
              <a:latin typeface="Georgia"/>
            </a:endParaRPr>
          </a:p>
          <a:p>
            <a:pPr>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Здатність до адаптації та дії в новій ситуації</a:t>
            </a:r>
            <a:endParaRPr b="0" lang="en-US" sz="2000" spc="-1" strike="noStrike">
              <a:solidFill>
                <a:srgbClr val="000000"/>
              </a:solidFill>
              <a:latin typeface="Georgia"/>
            </a:endParaRPr>
          </a:p>
          <a:p>
            <a:pPr>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Здатність спілкуватися з представниками інших професійних груп різного рівня</a:t>
            </a:r>
            <a:endParaRPr b="0" lang="en-US" sz="2000" spc="-1" strike="noStrike">
              <a:solidFill>
                <a:srgbClr val="000000"/>
              </a:solidFill>
              <a:latin typeface="Georgia"/>
            </a:endParaRPr>
          </a:p>
          <a:p>
            <a:pPr>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Здатність діяти соціально відповідально та свідомо</a:t>
            </a:r>
            <a:endParaRPr b="0" lang="en-US" sz="2000" spc="-1" strike="noStrike">
              <a:solidFill>
                <a:srgbClr val="000000"/>
              </a:solidFill>
              <a:latin typeface="Georgia"/>
            </a:endParaRPr>
          </a:p>
          <a:p>
            <a:pPr>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Здатність працювати в команді</a:t>
            </a:r>
            <a:endParaRPr b="0" lang="en-US" sz="2000" spc="-1" strike="noStrike">
              <a:solidFill>
                <a:srgbClr val="000000"/>
              </a:solidFill>
              <a:latin typeface="Georgia"/>
            </a:endParaRPr>
          </a:p>
          <a:p>
            <a:pPr>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Здатність оцінювати та забезпечувати якість виконуваних робіт</a:t>
            </a:r>
            <a:endParaRPr b="0" lang="en-US" sz="2000" spc="-1" strike="noStrike">
              <a:solidFill>
                <a:srgbClr val="000000"/>
              </a:solidFill>
              <a:latin typeface="Georgia"/>
            </a:endParaRPr>
          </a:p>
          <a:p>
            <a:pPr>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435e40"/>
                </a:solidFill>
                <a:latin typeface="Georgia"/>
              </a:rPr>
              <a:t>Програмні результати навчання</a:t>
            </a:r>
            <a:endParaRPr b="0" lang="en-US" sz="2000" spc="-1" strike="noStrike">
              <a:solidFill>
                <a:srgbClr val="000000"/>
              </a:solidFill>
              <a:latin typeface="Georgia"/>
            </a:endParaRPr>
          </a:p>
          <a:p>
            <a:pPr>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Уміти проводити пошук інформації з використанням відповідних джерел для прийняття обґрунтованих рішень</a:t>
            </a:r>
            <a:endParaRPr b="0" lang="en-US" sz="2000" spc="-1" strike="noStrike">
              <a:solidFill>
                <a:srgbClr val="000000"/>
              </a:solidFill>
              <a:latin typeface="Georgia"/>
            </a:endParaRPr>
          </a:p>
          <a:p>
            <a:pPr>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Уміти формувати ефективні комунікаційні стратегії з метою донесення ідей, проблем, рішень та власного досвіду в сфері екології</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01400" y="286920"/>
            <a:ext cx="1137924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648c61"/>
                </a:solidFill>
                <a:latin typeface="Georgia"/>
              </a:rPr>
              <a:t>Програма навчальної дисципліни</a:t>
            </a:r>
            <a:endParaRPr b="0" lang="en-US" sz="2400" spc="-1" strike="noStrike">
              <a:solidFill>
                <a:srgbClr val="7b9899"/>
              </a:solidFill>
              <a:latin typeface="Georgia"/>
            </a:endParaRPr>
          </a:p>
        </p:txBody>
      </p:sp>
      <p:sp>
        <p:nvSpPr>
          <p:cNvPr id="636" name=""/>
          <p:cNvSpPr txBox="1"/>
          <p:nvPr/>
        </p:nvSpPr>
        <p:spPr>
          <a:xfrm>
            <a:off x="355320" y="1609200"/>
            <a:ext cx="11721960" cy="496908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d16349"/>
                </a:solidFill>
                <a:latin typeface="Georgia"/>
              </a:rPr>
              <a:t>Основи формування екологічної культури</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Вступ. Екологічна культура як діяльність. Феномен екологічних криз у предметі сучасної екології. Діяльність людини та екологічні кризи</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Екологічна етика як елемент екокультури</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Екологічна свідомість як елемент екокультури</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Екологічне мислення як елемент екокультури</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Роль партій та громадських рухів, ЗМІ у формування екологічної свідомості та розв'язані проблем екологічої безпеки</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d16349"/>
                </a:solidFill>
                <a:latin typeface="Georgia"/>
              </a:rPr>
              <a:t>Екологічна освіта як складова екологічної культури. </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Основи екоосвіти. Процеси навчання</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Зміст екологічної освіти</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Методи та форми навчання екології</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Діагностика навчальних досягнень учнів з екології</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6-21T15:48:04Z</dcterms:created>
  <dc:creator>Дмитрий Зинченко</dc:creator>
  <dc:description/>
  <dc:language>en-US</dc:language>
  <cp:lastModifiedBy>11</cp:lastModifiedBy>
  <dcterms:modified xsi:type="dcterms:W3CDTF">2020-07-29T17:21:25Z</dcterms:modified>
  <cp:revision>38</cp:revision>
  <dc:subject/>
  <dc:title>ХЕРСОНСЬКИЙ ДЕРЖАВНИЙ УНІВЕРСИТЕТ</dc:title>
</cp:coreProperties>
</file>