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4D3-1C1D-430B-A033-8890C8D73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9C8B-CCF2-436C-9F16-CDBA9658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B129-F5E0-4754-8E97-0D0C81087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BD75-A289-49BF-A104-35DEDB0C0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4B2A-A1AF-4A87-87CB-A25174B7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787D-46EE-4E59-806D-5FB6EBA0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C4F-8981-47FD-8C45-FED6E335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E15D-7F0F-429D-A0C7-1F6460BC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30E5-E1CA-407A-A960-F3036253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1FC8-1214-4A7F-973B-80893039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A4C4-20E9-430E-91FD-3888CCC5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4A12-42ED-4FC6-837A-64FB69D4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DD94-9975-47A9-B076-270A45F081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quotes/m/manuelpuig353978.html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rration and foc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reliable nar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rators you cannot trust to provide a full and accurate account are called ‘unreliable narrators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mon feature of first-person narration is that you can’t trust the narr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hon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t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getf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sta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terodiegetic nar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terodiegetic narration comes from a narrator who is not a character in the stor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terodiegetic narrators vary widely in their knowledge and perspective.  They may be restricted to the perspective of a single ‘person’ or may have ‘omniscience’—boundless ability to know all there is to know about the plot, characters, setting, etc. in a s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terodiegetic narr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homodiegetic narrator always tells a story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ersonal experi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whereas a heterodiegetic narrator tells a story about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th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eople's experiences.” (Jah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t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obvious (or overt) is the narration?  An overt narrator is out in the open—a focus of the audience member’s attention. A hidden narrator is covert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overt narrator makes th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ellin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constru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story an important focus for the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xtual elements that project narrative voice (Jahn)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ent mat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- there are naturally and culturally appropriate voices for sad and happy, comic and tragic subjects (though precise type of intonation never follows automatically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ubjective express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-- expressions (or 'expressivity markers') that indicate the narrator's education, his/her beliefs, convictions, interests, values, political and ideological orientation, attitude towards people, events, and things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agmatic sign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-- expressions that signal the narrator's awareness of an audience and the degree of his/her orientation towards it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cators of film nar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film, television, videogames, etc. five main indicators of narration are pres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ice over (VO) narration—an off-camera voice speaks to the audience me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ch more rarely, an onscreen narrator is pre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oint of view of the came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usive visual effe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screen 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of the craft of traditional Hollywood style is in making the narratio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cover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tchcock makes it very clear to us. There's an objective and a subjective camera, like there's a third- and a first-person narrator in literature. 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nuel Pui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does the narrator address the audien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arrator can take the first-person or third-person position vis-à-vis the implied audience membe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-person is particularly difficult, but could theoretically be ta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 offscreen voice telling an amnesiac what he did as the camera demonstrates 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lepsis (Jah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fraction caused by saying too much; a narrator assuming a competence she does not properly have; typically, a first-person narrator (or a historiographer) narrating what somebody else thought  . . . or what happened when she was not pres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070840" cy="4138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281400" y="5638680"/>
            <a:ext cx="28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urce: Jahn, Narra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lipsis (Jah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fraction caused by omitting crucial information; saying too little; typically, an authorial narrator pretending "not to know" what happened in her/his characters' minds, or what went on at the same time in another place, or distortively censoring a character's thought, or generally pretending to be restricted to ordinary human limitation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lepsis and paralipsis are instances of violations of Grice's (1975) famous principle of co-operation -- the notion that speakers (narrators) are socially obliged to follow an established set of 'maxims': to give the right amount of information, to speak the truth, to speak to a purpose (tell something worth telling), to be relevant, etc.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c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alization refers to the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iewpoi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om which the story is t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the viewpoint of the nar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mnisc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the viewpoint can be split from the nar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narrator (or FCD) can focus on the story based on a character’s persp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omniscient nar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st common view taken in Western narratives (fiction or non-fiction) is a covert omniscient view.  That is, the persons telling the tales are not obvious, are not characters in the story, and adopt an ‘omniscient’ or ‘godlike’ point of vie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dience members are privy to information about the plot (what events have occurred and what their relationships are), the characters (and what they are thinking), the setting, and the backstory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ader/audience member has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in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unavailable to any of the charact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antages of omni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viewer/reader can know things that are unknown to the charac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osition allows for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alu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characters and their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tory can be more ‘expansive’—it can include a much wider set of characters, motives, 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some cases, the distance between the audience member and the characters is a good t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foc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echnique of presenting something from the point of view of a story-internal character is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nal focaliz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The character through whose eyes the action is presented is called 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ernal focalizer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hn, Narrat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Foc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ough not actually a character in the story, the narrator takes on the perspective of a story character and relates the story from that person’s perspec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arrator ‘gets inside the head’ of that character, often relating their fears, beliefs, etc. to the implied audience memb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foc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main effects of internal focalization is to attract attention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he mind of the reflector-character an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wa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om the narrator and the process of narratorial mediation.”  (Jah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resenting foc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alization can be represented by over-the-shoulder camera shots, shot-reverse shot representations of interactions among characters, focus on a character looking into the distance then turning to adopt the sightline of the looker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thoughts represented by V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merawork (Jahn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aze sh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picture of a character looking ('gazing') at something not currently shown. A gaze shot is usually followed by a POV shot (or sometimes it is preceded by a POV shot)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int of view sh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V sh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amera assumes the position of a character and shows the object of his or her gaze. 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r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ration is the telling of the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arrator tells the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, in electronic media the concept of narration is more problematic than in lit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 may be no single nar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lmic Composition Dev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say there is no narrator at 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s say that the ‘auteur’ is the narrator (usually the directo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ver-the-shoulder sh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amera gets close to, but not fully into, the viewing position of a character . .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action sho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shot showing a character reacting (with wonder, amusement, annoyance, horror, etc.) to what s/he has just se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ifting narration and foc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ration can shift within a given text—perhaps between omniscient and first-person or from one character to anothe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alization shifts very commonly in electronic media tex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fting narrative position is very common in electronic med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rration in fil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803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r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ration can come from ‘within’ the fictional world (“homodiegetic”) or ‘outside’ the fictional world (“heterodiegetic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ration can be very obvious (“overt”) or may be hard to detect (“covert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arrator may take the viewpoint of a character, may present the views of several characters or may approach the story from a godlike view (“omniscience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odiegetic narr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omodiegetic narrative is delivered by a story character—someone actively involved in the narrative.  Usually, he then uses the first-person pronoun in his address (but not always).  He may be the protagonist or just a bit player, but he is somehow affecting or affected by the actions going on in the sto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-person shooters take this visual persp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modiegetic nar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author/auteur must decide which character will narrat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erspective of the narrator strongly influences what the audience member will see, hear and know about the plot, other characters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a minor character is chosen, the information  available to the audience may be quite limi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placement of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modiegetic narrators often tell a story about things that they experienced some time in the p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common form of such narration gives an account of the narrator’s earlier li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Wonder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tand By 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itan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mitations of homodiegetic nar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e is subject to '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rdinary human limita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' . . . she is restricted to a personal and subjective point of view; she has no direct access to (or authority on) events she did not witness in person; she can't be in two places at the same time . . . and she has no way of knowing for certain what went on in the minds of other characters”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ahn, Narrat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21:05:59Z</dcterms:created>
  <dc:creator>Journalism</dc:creator>
  <dc:description/>
  <dc:language>en-US</dc:language>
  <cp:lastModifiedBy>Jim Hertog</cp:lastModifiedBy>
  <dcterms:modified xsi:type="dcterms:W3CDTF">2009-01-22T16:34:33Z</dcterms:modified>
  <cp:revision>212</cp:revision>
  <dc:subject/>
  <dc:title>Narratology</dc:title>
</cp:coreProperties>
</file>