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816D-C0A7-45CC-AB3A-F482C892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491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6080" y="6503760"/>
            <a:ext cx="491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8CF-BBD0-4DC5-A5ED-739464A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608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0464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C8DF-63FD-4434-B62E-E60F2476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7840" y="528300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809600" y="528300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6080" y="650376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7840" y="650376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809600" y="650376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0D3-F1F3-4134-A963-ADB106A64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C003-F84D-4990-8AE7-025FD488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86080" y="5283000"/>
            <a:ext cx="49147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AD8F-9D49-4014-922D-8526E9E0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49147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937C-77BD-41A8-B40B-C7EF1B24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C4BE-11BC-4EDE-8226-2CF1BFE36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75D1-BF98-4D40-B3FC-08A42DFC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31840"/>
            <a:ext cx="5718240" cy="10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180C-E774-498B-8F1E-272E089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8608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C535-C432-4C68-B55D-F172B5E2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6080" y="5283000"/>
            <a:ext cx="491472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2A1-DA4B-4546-8E5E-15B6FC9A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0464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BFD6-5622-44AC-A769-4FF8026E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86080" y="6503760"/>
            <a:ext cx="491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F30C-45E9-45E0-BB98-B890D382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491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86080" y="6503760"/>
            <a:ext cx="491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E75C-2BF7-4231-BAA9-9539E31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8608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0464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D17F9-16BD-4549-BD52-8B80FEF3E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7840" y="528300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09600" y="528300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86080" y="650376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7840" y="650376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809600" y="6503760"/>
            <a:ext cx="158220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BED2-805B-4A01-8C50-2F6137637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49147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739-0B29-4139-BD35-9AF31A1C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BB2-CD73-450E-B38D-75C11D17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638F-9054-47F7-B6E3-77FE27F7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031840"/>
            <a:ext cx="5718240" cy="10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71C-0B4C-44FC-9C73-80644622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608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9788-C496-4D61-B835-B61FA329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04640" y="650376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396-B2D8-418A-BCAE-7394E415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608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04640" y="5283000"/>
            <a:ext cx="23983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6080" y="6503760"/>
            <a:ext cx="491472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E3E4-E111-48D2-A30F-85EED88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4F70-80D8-4F44-A7DA-4C7F466F7DD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85840" y="304920"/>
            <a:ext cx="6172200" cy="81252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43080" y="8229600"/>
            <a:ext cx="61722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031840"/>
            <a:ext cx="5718240" cy="23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42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343240" y="8324640"/>
            <a:ext cx="217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914720" y="8324640"/>
            <a:ext cx="1600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556-2635-4682-92B1-C27A75DCA1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25760"/>
            <a:ext cx="5943600" cy="12189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86080" y="5283360"/>
            <a:ext cx="4884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3000" y="826560"/>
            <a:ext cx="6172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br>
              <a:rPr sz="1700"/>
            </a:br>
            <a:br>
              <a:rPr sz="1700"/>
            </a:br>
            <a:r>
              <a:rPr b="1" i="1" lang="uk-UA" sz="1700" spc="-1" strike="noStrike">
                <a:solidFill>
                  <a:srgbClr val="000066"/>
                </a:solidFill>
                <a:latin typeface="Times New Roman"/>
              </a:rPr>
              <a:t>Лабораторія аналітичного контролю є структурним підрозділом Херсонського державного університету   і функціонує на кафедрі загальної та неорганічної хімії </a:t>
            </a:r>
            <a:br>
              <a:rPr sz="1700"/>
            </a:br>
            <a:br>
              <a:rPr sz="1700"/>
            </a:br>
            <a:r>
              <a:rPr b="1" i="1" lang="uk-UA" sz="1700" spc="-1" strike="noStrike">
                <a:solidFill>
                  <a:srgbClr val="000066"/>
                </a:solidFill>
                <a:latin typeface="Times New Roman"/>
              </a:rPr>
              <a:t>Наукові інтереси в лабораторії: проблеми у сфері природокористування та охорони навколишнього середовища</a:t>
            </a:r>
            <a:r>
              <a:rPr b="1" i="1" lang="uk-UA" sz="21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33360" y="3780000"/>
            <a:ext cx="6156000" cy="4822920"/>
            <a:chOff x="333360" y="3780000"/>
            <a:chExt cx="6156000" cy="4822920"/>
          </a:xfrm>
        </p:grpSpPr>
        <p:cxnSp>
          <p:nvCxnSpPr>
            <p:cNvPr id="88" name="_s2062"/>
            <p:cNvCxnSpPr>
              <a:stCxn id="89" idx="0"/>
              <a:endCxn id="90" idx="2"/>
            </p:cNvCxnSpPr>
            <p:nvPr/>
          </p:nvCxnSpPr>
          <p:spPr>
            <a:xfrm flipV="1" rot="16200000">
              <a:off x="4006440" y="5113800"/>
              <a:ext cx="964800" cy="2154960"/>
            </a:xfrm>
            <a:prstGeom prst="bentConnector3">
              <a:avLst>
                <a:gd name="adj1" fmla="val 500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61"/>
            <p:cNvCxnSpPr>
              <a:stCxn id="92" idx="0"/>
              <a:endCxn id="90" idx="2"/>
            </p:cNvCxnSpPr>
            <p:nvPr/>
          </p:nvCxnSpPr>
          <p:spPr>
            <a:xfrm rot="16200000">
              <a:off x="2929320" y="6191280"/>
              <a:ext cx="96480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60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1851480" y="5114160"/>
              <a:ext cx="964800" cy="2154960"/>
            </a:xfrm>
            <a:prstGeom prst="bentConnector3">
              <a:avLst>
                <a:gd name="adj1" fmla="val 5001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6"/>
            <p:cNvSpPr/>
            <p:nvPr/>
          </p:nvSpPr>
          <p:spPr>
            <a:xfrm>
              <a:off x="2487960" y="3780000"/>
              <a:ext cx="1846800" cy="1929240"/>
            </a:xfrm>
            <a:custGeom>
              <a:avLst/>
              <a:gdLst>
                <a:gd name="textAreaLeft" fmla="*/ 90000 w 1846800"/>
                <a:gd name="textAreaRight" fmla="*/ 1756800 w 1846800"/>
                <a:gd name="textAreaTop" fmla="*/ 90000 h 1929240"/>
                <a:gd name="textAreaBottom" fmla="*/ 1839240 h 1929240"/>
              </a:gdLst>
              <a:ahLst/>
              <a:rect l="textAreaLeft" t="textAreaTop" r="textAreaRight" b="textAreaBottom"/>
              <a:pathLst>
                <a:path w="21600" h="22564">
                  <a:moveTo>
                    <a:pt x="3600" y="0"/>
                  </a:moveTo>
                  <a:arcTo wR="3600" hR="3600" stAng="16200000" swAng="-5400000"/>
                  <a:lnTo>
                    <a:pt x="0" y="18964"/>
                  </a:lnTo>
                  <a:arcTo wR="3600" hR="3600" stAng="10800000" swAng="-5400000"/>
                  <a:lnTo>
                    <a:pt x="18000" y="22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3399"/>
                  </a:solidFill>
                  <a:latin typeface="Arial"/>
                </a:rPr>
                <a:t>Напрямки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3399"/>
                  </a:solidFill>
                  <a:latin typeface="Arial"/>
                </a:rPr>
                <a:t>наукових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2400" spc="-1" strike="noStrike">
                  <a:solidFill>
                    <a:srgbClr val="003399"/>
                  </a:solidFill>
                  <a:latin typeface="Arial"/>
                </a:rPr>
                <a:t>досліджен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7"/>
            <p:cNvSpPr/>
            <p:nvPr/>
          </p:nvSpPr>
          <p:spPr>
            <a:xfrm>
              <a:off x="333360" y="6673680"/>
              <a:ext cx="1846800" cy="1929240"/>
            </a:xfrm>
            <a:custGeom>
              <a:avLst/>
              <a:gdLst>
                <a:gd name="textAreaLeft" fmla="*/ 90000 w 1846800"/>
                <a:gd name="textAreaRight" fmla="*/ 1756800 w 1846800"/>
                <a:gd name="textAreaTop" fmla="*/ 90000 h 1929240"/>
                <a:gd name="textAreaBottom" fmla="*/ 1839240 h 1929240"/>
              </a:gdLst>
              <a:ahLst/>
              <a:rect l="textAreaLeft" t="textAreaTop" r="textAreaRight" b="textAreaBottom"/>
              <a:pathLst>
                <a:path w="21600" h="22564">
                  <a:moveTo>
                    <a:pt x="3600" y="0"/>
                  </a:moveTo>
                  <a:arcTo wR="3600" hR="3600" stAng="16200000" swAng="-5400000"/>
                  <a:lnTo>
                    <a:pt x="0" y="18964"/>
                  </a:lnTo>
                  <a:arcTo wR="3600" hR="3600" stAng="10800000" swAng="-5400000"/>
                  <a:lnTo>
                    <a:pt x="18000" y="22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Аналітичний контроль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за складом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зворотних вод промислових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підприємств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та організація м. Херсона,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що скидаються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у міську каналізаційну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мережу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8"/>
            <p:cNvSpPr/>
            <p:nvPr/>
          </p:nvSpPr>
          <p:spPr>
            <a:xfrm>
              <a:off x="2487960" y="6673680"/>
              <a:ext cx="1846800" cy="1929240"/>
            </a:xfrm>
            <a:custGeom>
              <a:avLst/>
              <a:gdLst>
                <a:gd name="textAreaLeft" fmla="*/ 90000 w 1846800"/>
                <a:gd name="textAreaRight" fmla="*/ 1756800 w 1846800"/>
                <a:gd name="textAreaTop" fmla="*/ 90000 h 1929240"/>
                <a:gd name="textAreaBottom" fmla="*/ 1839240 h 1929240"/>
              </a:gdLst>
              <a:ahLst/>
              <a:rect l="textAreaLeft" t="textAreaTop" r="textAreaRight" b="textAreaBottom"/>
              <a:pathLst>
                <a:path w="21600" h="22564">
                  <a:moveTo>
                    <a:pt x="3600" y="0"/>
                  </a:moveTo>
                  <a:arcTo wR="3600" hR="3600" stAng="16200000" swAng="-5400000"/>
                  <a:lnTo>
                    <a:pt x="0" y="18964"/>
                  </a:lnTo>
                  <a:arcTo wR="3600" hR="3600" stAng="10800000" swAng="-5400000"/>
                  <a:lnTo>
                    <a:pt x="18000" y="22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Вимірювання т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моніторинг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стану навколишнього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природ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середовища та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визначення складу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питної вод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9"/>
            <p:cNvSpPr/>
            <p:nvPr/>
          </p:nvSpPr>
          <p:spPr>
            <a:xfrm>
              <a:off x="4642560" y="6673680"/>
              <a:ext cx="1846800" cy="1929240"/>
            </a:xfrm>
            <a:custGeom>
              <a:avLst/>
              <a:gdLst>
                <a:gd name="textAreaLeft" fmla="*/ 90000 w 1846800"/>
                <a:gd name="textAreaRight" fmla="*/ 1756800 w 1846800"/>
                <a:gd name="textAreaTop" fmla="*/ 90000 h 1929240"/>
                <a:gd name="textAreaBottom" fmla="*/ 1839240 h 1929240"/>
              </a:gdLst>
              <a:ahLst/>
              <a:rect l="textAreaLeft" t="textAreaTop" r="textAreaRight" b="textAreaBottom"/>
              <a:pathLst>
                <a:path w="21600" h="22564">
                  <a:moveTo>
                    <a:pt x="3600" y="0"/>
                  </a:moveTo>
                  <a:arcTo wR="3600" hR="3600" stAng="16200000" swAng="-5400000"/>
                  <a:lnTo>
                    <a:pt x="0" y="18964"/>
                  </a:lnTo>
                  <a:arcTo wR="3600" hR="3600" stAng="10800000" swAng="-5400000"/>
                  <a:lnTo>
                    <a:pt x="18000" y="225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66"/>
                </a:gs>
                <a:gs pos="50000">
                  <a:srgbClr val="ffffff"/>
                </a:gs>
                <a:gs pos="100000">
                  <a:srgbClr val="ffff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Дослідження хімічного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складу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води та мулу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бальнеологічних водойм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Херсонської та інших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100" spc="-1" strike="noStrike">
                  <a:solidFill>
                    <a:srgbClr val="000066"/>
                  </a:solidFill>
                  <a:latin typeface="Arial"/>
                </a:rPr>
                <a:t>обла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04640" y="900000"/>
            <a:ext cx="604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абораторія аналітичного контролю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ерсонського державного університету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08280" y="395280"/>
            <a:ext cx="17524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00"/>
                    </a:gs>
                    <a:gs pos="100000">
                      <a:srgbClr val="ff9933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ЄДИНА В РЕГІОНІ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00"/>
                  </a:gs>
                  <a:gs pos="100000">
                    <a:srgbClr val="ff9933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Іванищук Світлана Миколаївна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завідувач кафедри загальної та неорганічної хімії ХДУ, доцент кафедри хімії, кандидат фізико-математич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Попович Тетяна Анатоліївна – доцент кафедри загальної та неорганічної хімії, кандидат техніч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Івашина Галина Олександрівна – доцент кафедри загальної та неорганічної хімії, кандидат хімічних на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Близнюк Валерій Миколайович – професор, доктор хіміч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Решнова Світлана Федорівна – кандидат педагогіч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Івашина Юрій Кирилович – доцент, кандидат фізико – математич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Лавриненко Людмила Петрівна – провідний фахівец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uk-UA" sz="2000" spc="-1" strike="noStrike">
                <a:solidFill>
                  <a:srgbClr val="000066"/>
                </a:solidFill>
                <a:latin typeface="Arial"/>
              </a:rPr>
              <a:t>Бєлашева Алла Михайлівна – молодший науковий співробітн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04640" y="539640"/>
            <a:ext cx="583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дровий склад   співробітників лабораторії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49360" y="1618920"/>
            <a:ext cx="5965920" cy="648180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Контроль стану стічних вод лабораторія аналітичного контролю здійснює відповідно до свідоцтва про атестацію №РЧ-0045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/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2010 від 17 червня 2010 р., виданого державним підприємством “Херсонстандартметрологія” на підставі Закону України “ Про метрологію та метрологічну діяльність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Лабораторія здійснює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-      хіміко-аналітничний контроль за отриманням           підприємствами і організаціями незалежно від їх відомчої підпорядкованості та форми власності діючих норм і нормативів в галузі охорони навколишнього природного середовища за 25 показника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     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відпрацювання та впровадження в практику роботи аналітичних лабораторій підприємств та організація м. Херсона, які досліджують довкілля, нових метрологіч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- забезпечених методик хіміко-аналітичного контрол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-     </a:t>
            </a: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оперативне інформування замовника про випадки порушення підприємствами м. Херсона  Правил приймання стічних вод підприємств у міську комунальну систему каналізації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-      оперативні інформування підприємств та організацій м. Херсона про випадки порушення Правил приймання стічних вод підприємств у міську комунальну систему каналізації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uk-UA" sz="1400" spc="-1" strike="noStrike">
                <a:solidFill>
                  <a:srgbClr val="cc6600"/>
                </a:solidFill>
                <a:latin typeface="Arial"/>
              </a:rPr>
              <a:t>Виконання метрологічних вимірювань з контролю хімічного складу стічних промислових вод здійснюється понад 20 років відповідно до договору з міським комунальним підприємством “ВУВКГ м. Херсона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360" y="539640"/>
            <a:ext cx="583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троль стану стічних 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411280"/>
            <a:ext cx="6686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996600"/>
                </a:solidFill>
                <a:latin typeface="Garamond"/>
              </a:rPr>
              <a:t>    </a:t>
            </a: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1. Вміст йонів металів (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</a:rPr>
              <a:t>Fe, Cu, Ni, Cr, Zn, Al, Pb</a:t>
            </a:r>
            <a:r>
              <a:rPr b="1" lang="uk-UA" sz="1900" spc="-1" strike="noStrike">
                <a:solidFill>
                  <a:srgbClr val="000099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99"/>
                </a:solidFill>
                <a:latin typeface="Times New Roman"/>
              </a:rPr>
              <a:t>Cd</a:t>
            </a: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)</a:t>
            </a:r>
            <a:r>
              <a:rPr b="1" lang="uk-UA" sz="1900" spc="-1" strike="noStrike">
                <a:solidFill>
                  <a:srgbClr val="000099"/>
                </a:solidFill>
                <a:latin typeface="Times New Roman"/>
              </a:rPr>
              <a:t>.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    2. Вміст сульфідів, сульфатів.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    3. Вміст нітритів, нітратів, азот амонійний.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    4. Нафтопродуктів, фенолів, ПАР, жирів.</a:t>
            </a:r>
            <a:br>
              <a:rPr sz="1900"/>
            </a:b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    5. БСК</a:t>
            </a:r>
            <a:r>
              <a:rPr b="1" lang="ru-RU" sz="11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1" i="1" lang="ru-RU" sz="19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ХСК.</a:t>
            </a:r>
            <a:br>
              <a:rPr sz="1900"/>
            </a:br>
            <a:r>
              <a:rPr b="0" lang="ru-RU" sz="1900" spc="-1" strike="noStrike">
                <a:solidFill>
                  <a:srgbClr val="000099"/>
                </a:solidFill>
                <a:latin typeface="Garamond"/>
              </a:rPr>
              <a:t>    </a:t>
            </a:r>
            <a:r>
              <a:rPr b="1" lang="ru-RU" sz="1900" spc="-1" strike="noStrike">
                <a:solidFill>
                  <a:srgbClr val="000099"/>
                </a:solidFill>
                <a:latin typeface="Times New Roman"/>
              </a:rPr>
              <a:t>6. Завислі речовини, водневий показник.</a:t>
            </a:r>
            <a:br>
              <a:rPr sz="1900"/>
            </a:br>
            <a:br>
              <a:rPr sz="1900"/>
            </a:b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6640" y="395280"/>
            <a:ext cx="49687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аліз здійснюєтьс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 25 показниками, серед них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692280" y="4211640"/>
            <a:ext cx="5184720" cy="3443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33360" y="468360"/>
            <a:ext cx="3014640" cy="784872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Лабораторією проводиться дослідження:</a:t>
            </a:r>
            <a:br>
              <a:rPr sz="1600"/>
            </a:b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- хімічного складу води і мулу бальнеологічних водойм Херсонської та Кіровоградської областей;</a:t>
            </a:r>
            <a:br>
              <a:rPr sz="1600"/>
            </a:b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- впливу токсичних хімічних речовин у водоймах на життя живих організмів;</a:t>
            </a:r>
            <a:br>
              <a:rPr sz="1600"/>
            </a:b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- біохімічного споживання кисню як одного з показників якості природних вод;</a:t>
            </a:r>
            <a:br>
              <a:rPr sz="1600"/>
            </a:b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- мінерально-якісного складу води геотермальних гейзер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Лабораторія здійснює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-    моніторинг стану дельти ріки Дніпро у різні пори ро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99"/>
                </a:solidFill>
                <a:latin typeface="Arial"/>
              </a:rPr>
              <a:t>-    встановлення складу питної води артезіанських скважин, води, що реалізується в торгівельній мережі та визначення якості її відповідності до державних стандарті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1" descr="04-big"/>
          <p:cNvPicPr/>
          <p:nvPr/>
        </p:nvPicPr>
        <p:blipFill>
          <a:blip r:embed="rId1"/>
          <a:stretch/>
        </p:blipFill>
        <p:spPr>
          <a:xfrm>
            <a:off x="3357720" y="826920"/>
            <a:ext cx="3311280" cy="331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neva2_400"/>
          <p:cNvPicPr/>
          <p:nvPr/>
        </p:nvPicPr>
        <p:blipFill>
          <a:blip r:embed="rId2"/>
          <a:stretch/>
        </p:blipFill>
        <p:spPr>
          <a:xfrm>
            <a:off x="3357720" y="5076720"/>
            <a:ext cx="338436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907560" y="2842920"/>
            <a:ext cx="491508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Наша адреса: м. Херсон вул. 40 років Жовтня, 27, Херсонський державний університет, лабораторія аналітичного контро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Тел.: 40-12-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Arial"/>
              </a:rPr>
              <a:t>Електронна адреса: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sony@ksu.ks.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65000" y="2050920"/>
            <a:ext cx="52023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прошуємо до співпраці!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09:19:14Z</dcterms:created>
  <dc:creator>sony</dc:creator>
  <dc:description/>
  <dc:language>en-US</dc:language>
  <cp:lastModifiedBy>sony</cp:lastModifiedBy>
  <dcterms:modified xsi:type="dcterms:W3CDTF">2012-09-18T11:16:39Z</dcterms:modified>
  <cp:revision>28</cp:revision>
  <dc:subject/>
  <dc:title>Лабораторія аналітичного контролю Херсонського державного університету   Лабораторія аналітичного контролю є структурним підрозділом Херсонського державного університету   і функціонує на кафедрі загальної та неорганічної хімії   Наукові інтереси в лабораторії: проблеми у сфері природокористування та охорони навколишнього середовища.</dc:title>
</cp:coreProperties>
</file>